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AE60-B23B-4E22-B372-AFCC97529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D3D8-C555-4785-B52F-78FC95A5A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5959-F3AE-4D97-841B-1C165D80C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30B2-273F-457F-9F29-AA4C51B015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66C7-9973-48B2-B578-F4918A046F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DD24-F8B7-4DAE-A3DD-473CF3A72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CFE9-5EC0-46F3-A306-085B3AE3E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EFE0-6230-4C79-9530-EC009FDF3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7AAA-77BF-42AE-A8B2-780D60956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AEDC-DF59-4C2B-8908-E55944AE3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E130-3A11-4B4A-8A9F-2412B7D79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1AC1-66C6-4B88-AAB6-C20818405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883E-D34F-420F-88AF-30C1B508D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ne. Use all. Pipeline them toge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ew Frustum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face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s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99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les outside the View Frustum would not have been rasterized any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 bounding volume  to clip coordinates (in OpenGL multiply by Model-View and Projection matri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each volume against View Frus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metry is eith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Ou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kip the Cli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software transform systems (GTX-RD)  skip the clip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geometry class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renders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can render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ithout a View Frustum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a hint to re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geometry rates if not already fill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fill rate when using a nativ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s are transformed and lit before c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both geometry and fill with an application specific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utationally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raphics and CPU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be used when you enter closed geometry or need two-sided ligh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Goa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the optimal set of occluders that will enable drawing the minimal number of occlude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rs: The geometry that is vi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es: The geometry that is not visi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eneral purpose occlusion culling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lication specific spatial knowledge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Culling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transform-limited, fill-limited, and bandwidth-limited 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time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ible hardwar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neral Occlusion 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both transform limited and fill limited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Spati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 and Portal” Cul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organization leads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or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mes that move from room to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walkthroug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walk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4267080"/>
            <a:ext cx="43876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145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9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0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1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02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ems that fall below a size threshol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space size of bound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ss computational approa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object combined with some notion of global obj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s occluder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pace projection already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few pixels from rasterizatio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234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5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9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2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5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257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5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19:18:09Z</cp:lastPrinted>
  <dcterms:modified xsi:type="dcterms:W3CDTF">2000-08-07T19:58:07Z</dcterms:modified>
  <cp:revision>32</cp:revision>
  <dc:subject/>
  <dc:title>Developing Efficient Graphics Software</dc:title>
</cp:coreProperties>
</file>