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26AC-ED70-40E9-B07E-3E2195AE0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14E4-64A6-4FAC-95CE-106D47C53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853920" y="695160"/>
            <a:ext cx="5151600" cy="3434040"/>
          </a:xfrm>
          <a:prstGeom prst="rect">
            <a:avLst/>
          </a:prstGeom>
          <a:ln w="0">
            <a:noFill/>
          </a:ln>
        </p:spPr>
      </p:sp>
      <p:sp>
        <p:nvSpPr>
          <p:cNvPr id="86"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D89D-BB68-42FC-A6CC-5576C5F2B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853920" y="695160"/>
            <a:ext cx="5151600" cy="3434040"/>
          </a:xfrm>
          <a:prstGeom prst="rect">
            <a:avLst/>
          </a:prstGeom>
          <a:ln w="0">
            <a:noFill/>
          </a:ln>
        </p:spPr>
      </p:sp>
      <p:sp>
        <p:nvSpPr>
          <p:cNvPr id="14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8944-6893-4128-9D15-894C0E04D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53920" y="695160"/>
            <a:ext cx="5151600" cy="3434040"/>
          </a:xfrm>
          <a:prstGeom prst="rect">
            <a:avLst/>
          </a:prstGeom>
          <a:ln w="0">
            <a:noFill/>
          </a:ln>
        </p:spPr>
      </p:sp>
      <p:sp>
        <p:nvSpPr>
          <p:cNvPr id="146"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urther analysis lets us take a look at the cost of each line of code.  In this chart we can see the relative expense of old_loop and new_loop's main loop.  We can easily tell that new_loop is a clear win over old_loop and precisely where the savings 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4CA6-2F93-472D-AB69-0CEC42308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853920" y="695160"/>
            <a:ext cx="5151600" cy="3434040"/>
          </a:xfrm>
          <a:prstGeom prst="rect">
            <a:avLst/>
          </a:prstGeom>
          <a:ln w="0">
            <a:noFill/>
          </a:ln>
        </p:spPr>
      </p:sp>
      <p:sp>
        <p:nvSpPr>
          <p:cNvPr id="15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preceding example was analyzed on SGI IRX.  But what about other platforms?  Will they also provide a savings?  this chart gives the same analysis, but on a wintel platform using Visual 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th the  IRIX example, the savings came out to be about 75% of the original cost.  Here on this Intel platform, the savings was about 6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F9B0-992F-4F6E-8AB1-1616C5AF0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53920" y="695160"/>
            <a:ext cx="5151600" cy="3434040"/>
          </a:xfrm>
          <a:prstGeom prst="rect">
            <a:avLst/>
          </a:prstGeom>
          <a:ln w="0">
            <a:noFill/>
          </a:ln>
        </p:spPr>
      </p:sp>
      <p:sp>
        <p:nvSpPr>
          <p:cNvPr id="15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arlier, I mentioned that ideal time was measured by basic block profiling.  Memory latency can  be measured by a sampling method.  Let's take a look at an example.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code is a 3d array and we are going to sum the values.  It comes directly from a 3d texturing algorithm for an Oil &amp; Gas application, so it's not completely contri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e loop order is ijk.  We have two other loops, not on the chart.  Their ordering is kji and ikj.  we';re going to examine which ordering is the most effici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1131-9D59-4030-B261-3BACCF378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53920" y="695160"/>
            <a:ext cx="5151600" cy="3434040"/>
          </a:xfrm>
          <a:prstGeom prst="rect">
            <a:avLst/>
          </a:prstGeom>
          <a:ln w="0">
            <a:noFill/>
          </a:ln>
        </p:spPr>
      </p:sp>
      <p:sp>
        <p:nvSpPr>
          <p:cNvPr id="16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f we look at the basic block time -- that is the ideal time -- for each function, we see that they all take the same amount of time.  You'd expect that as they do identical thing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owever, if you glance at the output from the PC sampling run, you'll see something different.  Note that the kji ordering takes about 38 percent of the total time.  ikj takes about 20% almost the same as ijk's time of 18.3%</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example demonstrates the importance of using both types of profiling.   both methods should be used to get a balanced picture of how welll the code run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DE64-D1CC-452A-874D-52DC33AED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853920" y="695160"/>
            <a:ext cx="5151600" cy="3434040"/>
          </a:xfrm>
          <a:prstGeom prst="rect">
            <a:avLst/>
          </a:prstGeom>
          <a:ln w="0">
            <a:noFill/>
          </a:ln>
        </p:spPr>
      </p:sp>
      <p:sp>
        <p:nvSpPr>
          <p:cNvPr id="170"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60A7-91D8-40D8-9356-6E8C94FEC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853920" y="695160"/>
            <a:ext cx="5151600" cy="3434040"/>
          </a:xfrm>
          <a:prstGeom prst="rect">
            <a:avLst/>
          </a:prstGeom>
          <a:ln w="0">
            <a:noFill/>
          </a:ln>
        </p:spPr>
      </p:sp>
      <p:sp>
        <p:nvSpPr>
          <p:cNvPr id="9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e are know at the point where we suspect the bottleneck is the application code, apart from the actual graphic calls themselves.  I'd like to introduce a technique, called profiling, which let's us find the "hot spots" or areas of code that take up lots of time.  Sometimes, this is intentional, for example, tight rendering loops, and other times the hot spots may point out poor code.  It is almost always instructional, however, and can help you write code that is well balanced for a variet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of machines.  At the very least, it will point out the 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ottleneck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18AA-BF7A-4058-8AD8-40E5580BE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853920" y="695160"/>
            <a:ext cx="5151600" cy="3434040"/>
          </a:xfrm>
          <a:prstGeom prst="rect">
            <a:avLst/>
          </a:prstGeom>
          <a:ln w="0">
            <a:noFill/>
          </a:ln>
        </p:spPr>
      </p:sp>
      <p:sp>
        <p:nvSpPr>
          <p:cNvPr id="9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re are two different kinds of profiling -- basic block measurements and statistical sampling.  A basic block is a section of code that has one entry and one exit.  Statistical sampling can be done either with the program counter or callstack.  In each case, the system counts the amount of time spent either by tracking the basic block usage, or b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terrupting the execution of the program and examining either the call stack or program coun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asic block measure the ideal, or expected, time in each block of code. This can be misleading if cache misses are causing the hot spot. However, it is very useful for identifying code that repeats ofte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ampling, on the other hand, measures the actual time spent in a section of code.  This will track the cache misses as well as measure the repetition.    Comparing the basic block measurements to the sampling methods can be interesting.  We'll see an example in just a momen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t is important to note here that you must profile code that 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mplete".  Optimizing profiled code with compiler flags can lead to erroneous results.  Conversely, profiling debug code, or not compiler-flag optimized, can also produce misleading resul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BD69F-1D41-4359-93D4-CC5D2697C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853920" y="695160"/>
            <a:ext cx="5151600" cy="3434040"/>
          </a:xfrm>
          <a:prstGeom prst="rect">
            <a:avLst/>
          </a:prstGeom>
          <a:ln w="0">
            <a:noFill/>
          </a:ln>
        </p:spPr>
      </p:sp>
      <p:sp>
        <p:nvSpPr>
          <p:cNvPr id="10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mechanics of profiling code are easy to learn.  First, compile your code with all the optimization flags turned on.  it's fruitless to profile either debug code, or code which will change substantially if the compiler flags chang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condly, intrument the code.  There is an explicit set of commands in UNIX to do this; on PC's, Visual studio will do this for you.  Run the code with relevant data sets.  This process creates a data file which is then examin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E12E-F3C9-4533-AD79-9B9808248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853920" y="695160"/>
            <a:ext cx="5151600" cy="3434040"/>
          </a:xfrm>
          <a:prstGeom prst="rect">
            <a:avLst/>
          </a:prstGeom>
          <a:ln w="0">
            <a:noFill/>
          </a:ln>
        </p:spPr>
      </p:sp>
      <p:sp>
        <p:nvSpPr>
          <p:cNvPr id="11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what a results data file looks lik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ries of functions along with the amount of time spent executing that func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data run comes from a very popular shoot-em-up video game that I ran for about 2-3 minutes.  What can we learn from th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output is fairly typical:  No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bout 10 or so functions take up the majority of the time.  Note the dropoff of individual function percentag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L_CreateSurfaceLightmap seems to be taking up the majority of the tim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dma update function takes up a lot of time too.  In another analysis that I ran (not shown here), the OpenGL wait for dma transfer was the leading function.  Perhaps there is a way of speeding that up?  is this an indication of a graphics bound applic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oo, that the first system function call is sin.  Perhaps one optimization might be to precalculate a sin tab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so note that the first _graphics_ function call is down at number 6.</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E185-B8E0-46B0-99B7-165A3A6BE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853920" y="695160"/>
            <a:ext cx="5151600" cy="3434040"/>
          </a:xfrm>
          <a:prstGeom prst="rect">
            <a:avLst/>
          </a:prstGeom>
          <a:ln w="0">
            <a:noFill/>
          </a:ln>
        </p:spPr>
      </p:sp>
      <p:sp>
        <p:nvSpPr>
          <p:cNvPr id="116"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 now you've profiled the code and found some offending functions.  What's next?  Look at the source code and find the  bad code.  Here are some things to look fo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lah blah blah.</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at the compiler may otimize this for you.  But the compiler is limited especially when function calls may be invol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ormat of the course is to promote thought -- so sit back, listen  think and then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B630-C480-4674-AAC3-8A8A24729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853920" y="695160"/>
            <a:ext cx="5151600" cy="3434040"/>
          </a:xfrm>
          <a:prstGeom prst="rect">
            <a:avLst/>
          </a:prstGeom>
          <a:ln w="0">
            <a:noFill/>
          </a:ln>
        </p:spPr>
      </p:sp>
      <p:sp>
        <p:nvSpPr>
          <p:cNvPr id="12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0EA5-D233-4C48-AE13-0FA1580D3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853920" y="695160"/>
            <a:ext cx="5151600" cy="3434040"/>
          </a:xfrm>
          <a:prstGeom prst="rect">
            <a:avLst/>
          </a:prstGeom>
          <a:ln w="0">
            <a:noFill/>
          </a:ln>
        </p:spPr>
      </p:sp>
      <p:sp>
        <p:nvSpPr>
          <p:cNvPr id="12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CD40-781D-42A7-85C2-C0111F3BE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853920" y="695160"/>
            <a:ext cx="5151600" cy="3434040"/>
          </a:xfrm>
          <a:prstGeom prst="rect">
            <a:avLst/>
          </a:prstGeom>
          <a:ln w="0">
            <a:noFill/>
          </a:ln>
        </p:spPr>
      </p:sp>
      <p:sp>
        <p:nvSpPr>
          <p:cNvPr id="13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9866A2-1853-4BBD-9747-CD1F849A42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33913ED1-216D-4923-87EB-7EF50342FA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3E5FD8CE-1EC7-468D-A0A3-0D15EF157A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05606D57-ABC0-46A2-8D13-9F284DB320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53F4819D-85F3-462F-909C-528D5CEB30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6C1E5E72-DFA3-41E6-8109-A4A852A83C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0D4CE16D-359B-4652-A6C1-1C545C463A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77F4802F-82C3-4247-86CC-1EB41A587D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41314BEE-DAFA-453B-829E-120C7E71B9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400931DB-DAF5-4DF4-B545-A861575D0E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38063BE4-C023-4E72-9F24-95C88B4E61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7CE5789C-E463-494A-BBA5-9875410963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A33A-F05F-4915-A5F2-F5A476CCCB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and Performance Analysis</a:t>
            </a:r>
            <a:endParaRPr b="1" lang="en-US" sz="3700" spc="-1" strike="noStrike">
              <a:solidFill>
                <a:srgbClr val="ffffff"/>
              </a:solidFill>
              <a:latin typeface="Arial"/>
            </a:endParaRPr>
          </a:p>
        </p:txBody>
      </p:sp>
      <p:sp>
        <p:nvSpPr>
          <p:cNvPr id="52"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7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ld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ycles  instructions    calls  </a:t>
            </a:r>
            <a:r>
              <a:rPr b="1" lang="en-US" sz="2000" spc="-1" strike="noStrike">
                <a:solidFill>
                  <a:srgbClr val="ffffff"/>
                </a:solidFill>
                <a:latin typeface="Arial"/>
              </a:rPr>
              <a:t>	</a:t>
            </a:r>
            <a:r>
              <a:rPr b="1" lang="en-US" sz="2000" spc="-1" strike="noStrike">
                <a:solidFill>
                  <a:srgbClr val="ffffff"/>
                </a:solidFill>
                <a:latin typeface="Arial"/>
              </a:rPr>
              <a:t>function   (dso: file: line)</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6160 </a:t>
            </a:r>
            <a:r>
              <a:rPr b="1" lang="en-US" sz="2000" spc="-1" strike="noStrike">
                <a:solidFill>
                  <a:srgbClr val="ffffff"/>
                </a:solidFill>
                <a:latin typeface="Arial"/>
              </a:rPr>
              <a:t>	</a:t>
            </a:r>
            <a:r>
              <a:rPr b="1" lang="en-US" sz="2000" spc="-1" strike="noStrike">
                <a:solidFill>
                  <a:srgbClr val="ffffff"/>
                </a:solidFill>
                <a:latin typeface="Arial"/>
              </a:rPr>
              <a:t>    6168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old_loop</a:t>
            </a:r>
            <a:r>
              <a:rPr b="1" lang="en-US" sz="2000" spc="-1" strike="noStrike">
                <a:solidFill>
                  <a:srgbClr val="ffffff"/>
                </a:solidFill>
                <a:latin typeface="Arial"/>
              </a:rPr>
              <a:t>     (blahdso.so:  blahdso.c, 19)</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869 </a:t>
            </a:r>
            <a:r>
              <a:rPr b="1" lang="en-US" sz="2000" spc="-1" strike="noStrike">
                <a:solidFill>
                  <a:srgbClr val="ffffff"/>
                </a:solidFill>
                <a:latin typeface="Arial"/>
              </a:rPr>
              <a:t>	</a:t>
            </a:r>
            <a:r>
              <a:rPr b="1" lang="en-US" sz="2000" spc="-1" strike="noStrike">
                <a:solidFill>
                  <a:srgbClr val="ffffff"/>
                </a:solidFill>
                <a:latin typeface="Arial"/>
              </a:rPr>
              <a:t>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4869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625         4891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new_loop</a:t>
            </a:r>
            <a:r>
              <a:rPr b="1" lang="en-US" sz="2000" spc="-1" strike="noStrike">
                <a:solidFill>
                  <a:srgbClr val="ffffff"/>
                </a:solidFill>
                <a:latin typeface="Arial"/>
              </a:rPr>
              <a:t>    (blahdso.so:  blahdso.c, 27)</a:t>
            </a:r>
            <a:r>
              <a:rPr b="1" lang="en-US" sz="3100" spc="-1" strike="noStrike">
                <a:solidFill>
                  <a:srgbClr val="ffffff"/>
                </a:solidFill>
                <a:latin typeface="Arial"/>
              </a:rPr>
              <a:t> </a:t>
            </a:r>
            <a:endParaRPr b="1" lang="en-US" sz="31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Example:  Line Analysis</a:t>
            </a:r>
            <a:endParaRPr b="1" lang="en-US" sz="3700" spc="-1" strike="noStrike">
              <a:solidFill>
                <a:srgbClr val="ffffff"/>
              </a:solidFill>
              <a:latin typeface="Arial"/>
            </a:endParaRPr>
          </a:p>
        </p:txBody>
      </p:sp>
      <p:sp>
        <p:nvSpPr>
          <p:cNvPr id="7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7d96"/>
                </a:solidFill>
                <a:latin typeface="Arial"/>
              </a:rPr>
              <a:t>4096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sum += x[i]; </a:t>
            </a:r>
            <a:r>
              <a:rPr b="1" lang="en-US" sz="2000" spc="-1" strike="noStrike">
                <a:solidFill>
                  <a:srgbClr val="007d96"/>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d96"/>
                </a:solidFill>
                <a:latin typeface="Arial"/>
              </a:rPr>
              <a:t>      </a:t>
            </a:r>
            <a:r>
              <a:rPr b="1" lang="en-US" sz="2000" spc="-1" strike="noStrike">
                <a:solidFill>
                  <a:srgbClr val="007d96"/>
                </a:solidFill>
                <a:latin typeface="Arial"/>
              </a:rPr>
              <a:t>2061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for (i = 0;i &lt; NUM; 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ec524"/>
                </a:solidFill>
                <a:latin typeface="Arial"/>
              </a:rPr>
              <a:t>97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3];</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2];</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1];</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33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for (i = ii; i &lt; NUM; i +=4)</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                1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ii = NUM%4;</a:t>
            </a:r>
            <a:endParaRPr b="1"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7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e Example:  Visual C++/Intel</a:t>
            </a:r>
            <a:endParaRPr b="1" lang="en-US" sz="3100" spc="-1" strike="noStrike">
              <a:solidFill>
                <a:srgbClr val="ffffff"/>
              </a:solidFill>
              <a:latin typeface="Arial"/>
            </a:endParaRPr>
          </a:p>
          <a:p>
            <a:pPr marL="343080" indent="0">
              <a:lnSpc>
                <a:spcPct val="6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Function    Percent of        Hit</a:t>
            </a:r>
            <a:r>
              <a:rPr b="1" lang="en-US" sz="2000" spc="-1" strike="noStrike">
                <a:solidFill>
                  <a:srgbClr val="ffffff"/>
                </a:solidFill>
                <a:latin typeface="Arial"/>
              </a:rPr>
              <a:t>	</a:t>
            </a:r>
            <a:r>
              <a:rPr b="1" lang="en-US" sz="2000" spc="-1" strike="noStrike">
                <a:solidFill>
                  <a:srgbClr val="ffffff"/>
                </a:solidFill>
                <a:latin typeface="Arial"/>
              </a:rPr>
              <a:t>     Function</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ime(s)      Run Time      Coun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410  </a:t>
            </a:r>
            <a:r>
              <a:rPr b="1" lang="en-US" sz="2000" spc="-1" strike="noStrike">
                <a:solidFill>
                  <a:srgbClr val="ffffff"/>
                </a:solidFill>
                <a:latin typeface="Arial"/>
              </a:rPr>
              <a:t>	</a:t>
            </a:r>
            <a:r>
              <a:rPr b="1" lang="en-US" sz="2000" spc="-1" strike="noStrike">
                <a:solidFill>
                  <a:srgbClr val="ffffff"/>
                </a:solidFill>
                <a:latin typeface="Arial"/>
              </a:rPr>
              <a:t>   39.4                1 </a:t>
            </a:r>
            <a:r>
              <a:rPr b="1" lang="en-US" sz="2000" spc="-1" strike="noStrike">
                <a:solidFill>
                  <a:srgbClr val="ffffff"/>
                </a:solidFill>
                <a:latin typeface="Arial"/>
              </a:rPr>
              <a:t>	</a:t>
            </a:r>
            <a:r>
              <a:rPr b="1" lang="en-US" sz="2000" spc="-1" strike="noStrike">
                <a:solidFill>
                  <a:srgbClr val="ffffff"/>
                </a:solidFill>
                <a:latin typeface="Arial"/>
              </a:rPr>
              <a:t>     _old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249            23.9                1                _new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tatistical vs. Basic Block Profile</a:t>
            </a:r>
            <a:endParaRPr b="1" lang="en-US" sz="3700" spc="-1" strike="noStrike">
              <a:solidFill>
                <a:srgbClr val="ffffff"/>
              </a:solidFill>
              <a:latin typeface="Arial"/>
            </a:endParaRPr>
          </a:p>
        </p:txBody>
      </p:sp>
      <p:sp>
        <p:nvSpPr>
          <p:cNvPr id="7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stical vs. Basic block Profile</a:t>
            </a:r>
            <a:endParaRPr b="1" lang="en-US" sz="36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a:t>
            </a:r>
            <a:r>
              <a:rPr b="1" lang="en-US" sz="2400" spc="-1" strike="noStrike">
                <a:solidFill>
                  <a:srgbClr val="fec524"/>
                </a:solidFill>
                <a:latin typeface="Arial"/>
              </a:rPr>
              <a:t>ijk</a:t>
            </a:r>
            <a:r>
              <a:rPr b="1" lang="en-US" sz="2400" spc="-1" strike="noStrike">
                <a:solidFill>
                  <a:srgbClr val="ffffff"/>
                </a:solidFill>
                <a:latin typeface="Arial"/>
              </a:rPr>
              <a:t>_loop(){                                // loops </a:t>
            </a:r>
            <a:r>
              <a:rPr b="1" lang="en-US" sz="2400" spc="-1" strike="noStrike">
                <a:solidFill>
                  <a:srgbClr val="fec524"/>
                </a:solidFill>
                <a:latin typeface="Arial"/>
              </a:rPr>
              <a:t>kji</a:t>
            </a:r>
            <a:r>
              <a:rPr b="1" lang="en-US" sz="2400" spc="-1" strike="noStrike">
                <a:solidFill>
                  <a:srgbClr val="979393"/>
                </a:solidFill>
                <a:latin typeface="Arial"/>
              </a:rPr>
              <a:t> </a:t>
            </a:r>
            <a:r>
              <a:rPr b="1" lang="en-US" sz="2400" spc="-1" strike="noStrike">
                <a:solidFill>
                  <a:srgbClr val="ffffff"/>
                </a:solidFill>
                <a:latin typeface="Arial"/>
              </a:rPr>
              <a:t>and </a:t>
            </a:r>
            <a:r>
              <a:rPr b="1" lang="en-US" sz="2400" spc="-1" strike="noStrike">
                <a:solidFill>
                  <a:srgbClr val="fec524"/>
                </a:solidFill>
                <a:latin typeface="Arial"/>
              </a:rPr>
              <a:t>ikj</a:t>
            </a:r>
            <a:r>
              <a:rPr b="1" lang="en-US" sz="2400" spc="-1" strike="noStrike">
                <a:solidFill>
                  <a:srgbClr val="ffffff"/>
                </a:solidFill>
                <a:latin typeface="Arial"/>
              </a:rPr>
              <a:t> as well</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0;</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i=0;i&lt;XNUM;i++)</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j=0;j&lt;YNUM;j++)</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k=0;k&lt;ZNUM;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y[i][j][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intf("sum = %f\n",sum); </a:t>
            </a:r>
            <a:endParaRPr b="1"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sic Block vs. Statistical Sampling</a:t>
            </a:r>
            <a:endParaRPr b="1" lang="en-US" sz="3700" spc="-1" strike="noStrike">
              <a:solidFill>
                <a:srgbClr val="ffffff"/>
              </a:solidFill>
              <a:latin typeface="Arial"/>
            </a:endParaRPr>
          </a:p>
        </p:txBody>
      </p:sp>
      <p:sp>
        <p:nvSpPr>
          <p:cNvPr id="7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Basic Block:</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400" spc="-1" strike="noStrike">
                <a:solidFill>
                  <a:srgbClr val="ffffff"/>
                </a:solidFill>
                <a:latin typeface="Arial"/>
              </a:rPr>
              <a:t>Percent        cycles            inst         calls  function  </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25.3%      51141434      37101028         1  ijk_loop foo.c, 4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5.3%      51141434      37101028         1  kji_loop 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25.3%      51141434      37101028         1  ikj_loop foo.c, 66</a:t>
            </a:r>
            <a:endParaRPr b="1"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Statistical Sampling:</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cent   Samples    Procedure       </a:t>
            </a:r>
            <a:r>
              <a:rPr b="1" lang="en-US" sz="2400" spc="-1" strike="noStrike">
                <a:solidFill>
                  <a:srgbClr val="ffffff"/>
                </a:solidFill>
                <a:latin typeface="Arial"/>
              </a:rPr>
              <a:t>	</a:t>
            </a:r>
            <a:r>
              <a:rPr b="1" lang="en-US" sz="2400" spc="-1" strike="noStrike">
                <a:solidFill>
                  <a:srgbClr val="ffffff"/>
                </a:solidFill>
                <a:latin typeface="Arial"/>
              </a:rPr>
              <a:t>Function</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38.0%       2700        kji_loop       </a:t>
            </a:r>
            <a:r>
              <a:rPr b="1" lang="en-US" sz="2400" spc="-1" strike="noStrike">
                <a:solidFill>
                  <a:srgbClr val="ffffff"/>
                </a:solidFill>
                <a:latin typeface="Arial"/>
              </a:rPr>
              <a:t>	</a:t>
            </a:r>
            <a:r>
              <a:rPr b="1" lang="en-US" sz="2400" spc="-1" strike="noStrike">
                <a:solidFill>
                  <a:srgbClr val="ffffff"/>
                </a:solidFill>
                <a:latin typeface="Arial"/>
              </a:rPr>
              <a:t>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3.9%       1700        setup_data</a:t>
            </a:r>
            <a:r>
              <a:rPr b="1" lang="en-US" sz="2400" spc="-1" strike="noStrike">
                <a:solidFill>
                  <a:srgbClr val="ffffff"/>
                </a:solidFill>
                <a:latin typeface="Arial"/>
              </a:rPr>
              <a:t>	</a:t>
            </a:r>
            <a:r>
              <a:rPr b="1" lang="en-US" sz="2400" spc="-1" strike="noStrike">
                <a:solidFill>
                  <a:srgbClr val="ffffff"/>
                </a:solidFill>
                <a:latin typeface="Arial"/>
              </a:rPr>
              <a:t>foo.c, 15</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19.7%       1400        ikj_loop        </a:t>
            </a:r>
            <a:r>
              <a:rPr b="1" lang="en-US" sz="2400" spc="-1" strike="noStrike">
                <a:solidFill>
                  <a:srgbClr val="ffffff"/>
                </a:solidFill>
                <a:latin typeface="Arial"/>
              </a:rPr>
              <a:t>	</a:t>
            </a:r>
            <a:r>
              <a:rPr b="1" lang="en-US" sz="2400" spc="-1" strike="noStrike">
                <a:solidFill>
                  <a:srgbClr val="ffffff"/>
                </a:solidFill>
                <a:latin typeface="Arial"/>
              </a:rPr>
              <a:t>foo.c, 66</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4]             18.3%       1300        ijk_loop       </a:t>
            </a:r>
            <a:r>
              <a:rPr b="1" lang="en-US" sz="2400" spc="-1" strike="noStrike">
                <a:solidFill>
                  <a:srgbClr val="ffffff"/>
                </a:solidFill>
                <a:latin typeface="Arial"/>
              </a:rPr>
              <a:t>	</a:t>
            </a:r>
            <a:r>
              <a:rPr b="1" lang="en-US" sz="2400" spc="-1" strike="noStrike">
                <a:solidFill>
                  <a:srgbClr val="ffffff"/>
                </a:solidFill>
                <a:latin typeface="Arial"/>
              </a:rPr>
              <a:t>foo.c, 47</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Now We Know About Hot Spots...</a:t>
            </a:r>
            <a:endParaRPr b="1" lang="en-US" sz="3700" spc="-1" strike="noStrike">
              <a:solidFill>
                <a:srgbClr val="ffffff"/>
              </a:solidFill>
              <a:latin typeface="Arial"/>
            </a:endParaRPr>
          </a:p>
        </p:txBody>
      </p:sp>
      <p:sp>
        <p:nvSpPr>
          <p:cNvPr id="8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we do next?</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mpilers to fine-tune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knowledge of language to optimiz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tune cod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ing is fun, hard, and iterative…. And it can be highly effective</a:t>
            </a:r>
            <a:endParaRPr b="1" lang="en-US" sz="31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ing points out code areas that take up most tim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erative for well balanced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s out code and system bottlenecks</a:t>
            </a:r>
            <a:endParaRPr b="0" lang="en-US" sz="2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wo Methods of Software Profiling</a:t>
            </a:r>
            <a:endParaRPr b="1" lang="en-US" sz="3700" spc="-1" strike="noStrike">
              <a:solidFill>
                <a:srgbClr val="ffffff"/>
              </a:solidFill>
              <a:latin typeface="Arial"/>
            </a:endParaRPr>
          </a:p>
        </p:txBody>
      </p:sp>
      <p:sp>
        <p:nvSpPr>
          <p:cNvPr id="5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7000"/>
          </a:bodyPr>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sic block </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ection of code that has one entry and one exit</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ideal time</a:t>
            </a:r>
            <a:endParaRPr b="0" lang="en-US" sz="2600" spc="-1" strike="noStrike">
              <a:solidFill>
                <a:srgbClr val="ffffff"/>
              </a:solidFill>
              <a:latin typeface="Arial"/>
            </a:endParaRPr>
          </a:p>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tatistical sampling</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rupts program execution and examines current location</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actual CPU cycles</a:t>
            </a:r>
            <a:r>
              <a:rPr b="0" lang="en-US" sz="2600" spc="-1" strike="noStrike">
                <a:solidFill>
                  <a:srgbClr val="ffffff"/>
                </a:solidFill>
                <a:latin typeface="Arial"/>
              </a:rPr>
              <a:t> spent executing a line of code</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How Do You Profile Code?</a:t>
            </a:r>
            <a:endParaRPr b="1" lang="en-US" sz="3700" spc="-1" strike="noStrike">
              <a:solidFill>
                <a:srgbClr val="ffffff"/>
              </a:solidFill>
              <a:latin typeface="Arial"/>
            </a:endParaRPr>
          </a:p>
        </p:txBody>
      </p:sp>
      <p:sp>
        <p:nvSpPr>
          <p:cNvPr id="5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link with final compiler optimizations turned on</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cc foo.c -use_final_optimization_flag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the cod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a:t>
            </a:r>
            <a:r>
              <a:rPr b="0" i="1" lang="en-US" sz="2400" spc="-1" strike="noStrike">
                <a:solidFill>
                  <a:srgbClr val="fec524"/>
                </a:solidFill>
                <a:latin typeface="Arial"/>
              </a:rPr>
              <a:t>pixie foo.exe</a:t>
            </a:r>
            <a:r>
              <a:rPr b="0" lang="en-US" sz="2400" spc="-1" strike="noStrike">
                <a:solidFill>
                  <a:srgbClr val="ffffff"/>
                </a:solidFill>
                <a:latin typeface="Arial"/>
              </a:rPr>
              <a:t> -&gt; foo.exe.pixi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Studio: embedded in tool suit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un the application with relevant data se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foo.exe.pixie - args</a:t>
            </a:r>
            <a:r>
              <a:rPr b="0" lang="en-US" sz="2400" spc="-1" strike="noStrike">
                <a:solidFill>
                  <a:srgbClr val="ffffff"/>
                </a:solidFill>
                <a:latin typeface="Arial"/>
              </a:rPr>
              <a:t>  -&gt; produces results data file</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nding the Hot Spot</a:t>
            </a:r>
            <a:endParaRPr b="1" lang="en-US" sz="3700" spc="-1" strike="noStrike">
              <a:solidFill>
                <a:srgbClr val="ffffff"/>
              </a:solidFill>
              <a:latin typeface="Arial"/>
            </a:endParaRPr>
          </a:p>
        </p:txBody>
      </p:sp>
      <p:sp>
        <p:nvSpPr>
          <p:cNvPr id="6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unction list, in descending order by exclusive ideal time</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xcl.%     cum.%     instructions        calls  function  (dso: file, line)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10.3%     10.3%     190583064      11484  GL_CreateSurfaceLightmap (foo: gl_rsurf.c, 1293)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8.9%     19.2%     173920781        3203  S_Update_ (foo: snd_dma.c, 848)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8.2%     27.4%     145950460    338787  R_RenderBrushPoly (foo: gl_rsurf.c, 64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5.9%     33.3%       97798122  1975976  __sin (libm.so: sin.c, 1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4.1%     37.4%       82310479          240  GL_LoadTexture (foo: gl_draw.c, 990)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3.4%     40.8%       50786176  1204269  __glMgrim_Begin (libGLcore.so: mgras_prim.c, 22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3.2%     44.0%       58099072      16797  R_DrawAliasModel (foo: gl_rmain.c, 232)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3.1%     47.1%       53832546    290970  R_RecursiveWorldNode (foo: gl_rsurf.c, 8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3.1%     50.2%       43855299    437627  R_CullBox (foo: gl_rlight.c, 313; gl_rmain.c)</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2.8%    53.0%       44666700       30981  EmitWaterPolys (foo: gl_warp.c, 187)    </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xing the Hot Spot</a:t>
            </a:r>
            <a:endParaRPr b="1" lang="en-US" sz="3700" spc="-1" strike="noStrike">
              <a:solidFill>
                <a:srgbClr val="ffffff"/>
              </a:solidFill>
              <a:latin typeface="Arial"/>
            </a:endParaRPr>
          </a:p>
        </p:txBody>
      </p:sp>
      <p:sp>
        <p:nvSpPr>
          <p:cNvPr id="6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89000"/>
          </a:bodyPr>
          <a:p>
            <a:pPr marL="305280" indent="-3052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you look for?</a:t>
            </a:r>
            <a:endParaRPr b="1" lang="en-US" sz="31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on sub-expressions  </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p invariant code</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eated pointer de-referencing</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bal variables and cache misse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necessary data movement</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in loop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6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4096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sum += x[i];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061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for (i = 0;i &lt; NUM; i++)</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1000"/>
          </a:bodyPr>
          <a:p>
            <a:pPr marL="31212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ode the new way</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7: void new_loop ()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8:    sum = 0;</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9:    ii = NUM%4;</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0:    for (i=0; i &lt; ii; 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Arial"/>
              </a:rPr>
              <a:t>31:       sum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2:    for (i = ii; i &lt; NUM; i +=4)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3:       sum +=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4:       sum += x[i+1];</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5:       sum += x[i+2];</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6:       sum += x[i+3];</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7: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8:    printf(“ sum = %f\n”,sum);</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9: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6:59:36Z</dcterms:modified>
  <cp:revision>4</cp:revision>
  <dc:subject/>
  <dc:title>Developing Efficient Graphics Software</dc:title>
</cp:coreProperties>
</file>