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288588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4560" y="688680"/>
            <a:ext cx="51703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7324-62F4-4D17-9B6B-AE50E3279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44560" y="68904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 to the siggraph course on Developing Efficien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out this course, we’ll be covering a variety of topics  related to writing fas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f adsf asdf ds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476A-AECD-4B9B-93D7-D3280E68A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2F67-BCCD-4524-9B54-75217A435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6CAD-3487-41A8-91CE-45BB8B116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239C-7E96-4338-A4F3-895D99B1BB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7A2E-C7B3-4C20-AC3E-1EFE31CE86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71F2-B54A-41AE-9619-92BF3C8F7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F605-BF93-4B65-A06C-76643EEED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21A4-2C7B-43A3-B260-2F8848B79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48DF-A05A-40B6-816B-7279158EC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AF9B-24E0-4B4A-B6FA-888F4B081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A8EB-5BD2-4A4A-BE87-5DC397094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81AC-F721-4006-92D9-77E09513A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8024-371C-4450-B83E-3BD0EF53ED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801.WAV" TargetMode="External"/><Relationship Id="rId2" Type="http://schemas.microsoft.com/office/2007/relationships/media" Target="file:///tmp/home/.config/libreoffice/4/user/gallery/~PP180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05.WAV" TargetMode="External"/><Relationship Id="rId2" Type="http://schemas.microsoft.com/office/2007/relationships/media" Target="file:///tmp/home/.config/libreoffice/4/user/gallery/~PP105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017.WAV" TargetMode="External"/><Relationship Id="rId2" Type="http://schemas.microsoft.com/office/2007/relationships/media" Target="file:///tmp/home/.config/libreoffice/4/user/gallery/~PP1017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236.WAV" TargetMode="External"/><Relationship Id="rId2" Type="http://schemas.microsoft.com/office/2007/relationships/media" Target="file:///tmp/home/.config/libreoffice/4/user/gallery/~PP1236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tent of Cours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component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: Agenda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1:35  General Performance Overvie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2:15 Software and System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00 Break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15 Software profiling / Performance analysi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40 Compiler and  language issu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00 Graphics techniques and algorithm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45 Wrap-up and ques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peakers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gineers for SGI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zing, differentiating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eith Cok, Bob Kuehne, Thomas True, Roger Corr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L cont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ity.sgi.com/cok_newport/s2000/index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29600" y="4419720"/>
            <a:ext cx="1219320" cy="12189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Keith Cok</cp:lastModifiedBy>
  <cp:lastPrinted>2000-06-06T21:04:26Z</cp:lastPrinted>
  <dcterms:modified xsi:type="dcterms:W3CDTF">2000-08-07T14:49:16Z</dcterms:modified>
  <cp:revision>18</cp:revision>
  <dc:subject/>
  <dc:title>Developing Efficient Graphics Software</dc:title>
</cp:coreProperties>
</file>