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E18F-EE4E-447B-84AE-3CD393BC6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402E-AA1B-4691-8BA4-A3F3A40C9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69A1-2884-432C-9906-00E4620A9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8195-3C64-4A09-9CC0-769BC0254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5EC2-280C-4D45-BEF2-907A61F22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76FF-8EA2-4353-8EFA-37E7E430F7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FC87-AB24-4712-B286-802D9FA80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359D-CFEA-4EBC-A6A1-56B0F08EE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18E4-3501-460B-BF0A-64651E091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4D08-2857-457A-B4B4-C92719725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F272-2A30-4D74-AB17-FA15921F1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F048-9192-475D-9CA1-24566D819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7DFA-38E7-4456-94D6-3269BB97D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E4F1-4D90-4F79-A13E-5A29FDBBD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7-20T17:32:38Z</dcterms:modified>
  <cp:revision>17</cp:revision>
  <dc:subject/>
  <dc:title>Developing Efficient Graphics Software</dc:title>
</cp:coreProperties>
</file>