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9390-5462-4630-B6C2-5515FE5BF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E207-56C6-4870-9131-8F9047367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1F55-B684-4BB0-AFA4-31A86AA56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80AE-098F-45D0-AACF-BCC19B04DC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5A9D-A1B0-4B5F-971B-560C5BB149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5A87-2CE2-41A0-81A8-C1B19FFD9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4418-7401-4BB5-8620-A33BD339A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A18B-BDC2-41E3-9231-B188AB063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B42C-388D-437B-8260-75DCCFB98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EE29-C31D-4111-9382-0043F38B6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06B9-BB03-4612-A1B4-18B279518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E613-7735-442C-A3E1-E09FE1E5D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5298-05CA-4E99-87C8-5B31F0210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31.WAV" TargetMode="External"/><Relationship Id="rId2" Type="http://schemas.microsoft.com/office/2007/relationships/media" Target="file:///tmp/home/.config/libreoffice/4/user/gallery/~PP313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671.WAV" TargetMode="External"/><Relationship Id="rId2" Type="http://schemas.microsoft.com/office/2007/relationships/media" Target="file:///tmp/home/.config/libreoffice/4/user/gallery/~PP267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02.WAV" TargetMode="External"/><Relationship Id="rId2" Type="http://schemas.microsoft.com/office/2007/relationships/media" Target="file:///tmp/home/.config/libreoffice/4/user/gallery/~PP3102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Keith Cok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we’ve learne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system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 between 3 foundation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structured graphics API function ca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tuned/written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yinyang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72200" y="2819520"/>
            <a:ext cx="1523880" cy="14475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01:09:48Z</dcterms:created>
  <dc:creator>Thomas J. True</dc:creator>
  <dc:description/>
  <dc:language>en-US</dc:language>
  <cp:lastModifiedBy>Keith Cok</cp:lastModifiedBy>
  <dcterms:modified xsi:type="dcterms:W3CDTF">2000-08-07T20:46:09Z</dcterms:modified>
  <cp:revision>5</cp:revision>
  <dc:subject/>
  <dc:title>Conclusion</dc:title>
</cp:coreProperties>
</file>