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B5C4-56F4-4381-B188-0E030108C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1CA4-A6E9-4403-9571-B177D90B7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329A-BD1D-4A2D-8A10-2BAA67C65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33EF-A55F-4D1E-9AFF-D282F2649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2B54-6A52-4B91-8962-17869A2F2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1360-1A50-4BCF-BC0A-85D868EE2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223-8A0D-4238-972F-ECFB7C739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45E3-3018-448B-BEBF-97EA9AB57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07E3-84E3-40C2-953F-3C8A9AFE0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AF87-88B4-4486-8A74-C87A55C4E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9BE4-CC5E-41CC-A160-23156C238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0B63-D526-4B88-B8F4-EB5B3121B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F367-9525-4AD0-846F-1639A619B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2:17Z</dcterms:modified>
  <cp:revision>4</cp:revision>
  <dc:subject/>
  <dc:title>Conclusion</dc:title>
</cp:coreProperties>
</file>