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FAC2-C878-4762-9C60-B3AEFD208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8F54-B74D-4CF7-AD92-2A978485C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2067-1E59-4FEB-849A-4D6E1C6B0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8978-B43D-40AC-ACCA-D3346834C0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49C7-D2DA-45CB-8CFE-990E0E678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F4A1-3202-4B12-8E76-1ECF2C292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5BF2-8451-4244-AD03-F112C3229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2F37-2DC7-43D4-B8E0-D7D90C154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06D7-DCBC-432E-8D5E-AB63EA964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7B12-067A-48CC-AA53-065A3B4F8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4F67-3FEC-4532-8FAF-CAF0DFFC3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101B-4942-40F8-A2F5-34EDB02E8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55C0-B1B4-4859-899C-425DC064C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 and Algorithms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3840" y="39974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ger Corron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ly part of the graphics system, since the general case is expensive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eneral case is rarely needed, so you can develop an implementation tuned to you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ccelerated offscreen frame buffer if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traversal and geometry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hing is traversed, transformed, or l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offscreen frame buffer is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ptimizes fill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ics system does not have to calculate 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els, but simply copy the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atabase roam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fetch nearest neighb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rge textur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08400" y="3505320"/>
            <a:ext cx="14781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 Typ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one. Use all. Pipeline them together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ew Frustum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face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s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ibut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unding Volum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against a bounding volume not individual primitiv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ounding sphere, box, screen oriented box, or any enclos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 to reduce cul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heres are fast, boxes are more 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combination of bo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99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ngles outside the View Frustum would not have been rasterized any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 bounding volume  to clip coordinates (in OpenGL multiply by Model-View and Projection matri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each volume against View Frust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metry is eith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Ou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kip the Cli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 software transform systems (GTX-RD)  skip the clip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geometry classif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renders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s 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can render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without a View Frustum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a hint to re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geometry rates if not already fill-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o write an efficient graphics application, one must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e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raphics effici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goo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c524"/>
                </a:solidFill>
                <a:latin typeface="Arial"/>
              </a:rPr>
              <a:t>Use efficient application structures and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ly half of any closed polyhedron is visible at any one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bunny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384804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fill rate when using a nativ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s are transformed and lit before c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ps both geometry and fill with an application specific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putationally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raphics and CPU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not be used when you enter closed geometry or need two-sided ligh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Goa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d the optimal set of occluders that will enable drawing the minimal number of occlude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rs: The geometry that is vi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es: The geometry that is not visi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eneral purpose occlusion culling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pplication specific spatial knowledge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Culling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transform-limited, fill-limited, and bandwidth-limited 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are of time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ible hardwar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neral Occlusion 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both transform limited and fill limited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Spatial Partition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ell and Portal” Cull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organization leads t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Cel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or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mes that move from room to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ural walkthroug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walk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4267080"/>
            <a:ext cx="438768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145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9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0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1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202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ems that fall below a size threshol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 space size of bound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ess computational approac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object combined with some notion of global objec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ists occluder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space projection already mi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few pixels from rasterization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(LOD)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fter culling, need to draw what is lef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too much geometr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ultiple Levels of Detail, I.e. multi-resolu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ch geometric complexity to visible on-screen space co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geometric complexity to maintain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95560" y="1905120"/>
            <a:ext cx="6095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LOD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Fields vs 3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Dependent: nice, but compute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Independent: fast, memory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decide which LOD level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rivi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smooth transitions between lev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eight Fiel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ly thought of as infinite ter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ized algorithms can be u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terrain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3880" y="3200400"/>
            <a:ext cx="6912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3D Mod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 purpose simplification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use on height fields al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real-time view-dependent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so used for comp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lod" descr=""/>
          <p:cNvPicPr/>
          <p:nvPr/>
        </p:nvPicPr>
        <p:blipFill>
          <a:blip r:embed="rId1"/>
          <a:stretch/>
        </p:blipFill>
        <p:spPr>
          <a:xfrm>
            <a:off x="690480" y="3692520"/>
            <a:ext cx="91836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912240" y="5667480"/>
            <a:ext cx="8859240" cy="424080"/>
            <a:chOff x="912240" y="5667480"/>
            <a:chExt cx="8859240" cy="424080"/>
          </a:xfrm>
        </p:grpSpPr>
        <p:sp>
          <p:nvSpPr>
            <p:cNvPr id="234" name=""/>
            <p:cNvSpPr/>
            <p:nvPr/>
          </p:nvSpPr>
          <p:spPr>
            <a:xfrm>
              <a:off x="912240" y="5667480"/>
              <a:ext cx="186696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2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13520" y="5667480"/>
              <a:ext cx="172512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5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9536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8784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en to switch LOD lev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bility to only generate LOD models is not suffici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know when to use which LO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onstant hard metric: distance from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heuristics: cost, benefit, ran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ias LODs to ensure frame rate targets are 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evel deter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system 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cost of rendering each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objects with highest benefit while remaining under the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vel determination can be time consuming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termining cost of render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is affected by many factor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 hardware: published benchmarks, startup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mber of vertices: primarily a function of LOD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Quality: lighting, shading, wire frame, anti-alias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14680" y="1905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 Fun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alone is not good enough, need benefit also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ed size of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ror tolerance between LOD level and reference mod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ce in sc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have enough time to run full LOD optimization problem and render the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cost and benefit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optimization problem into a ranking of Benefit/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sure to consider time taken to calcul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arget Frame Rat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target frame rate attempts to bound the maximum render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Culling and LOD aggress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a constan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ieve an acceptable interactive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ndering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work, culling, LOD, draw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ndering path forms a pipe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43560" y="5638680"/>
            <a:ext cx="1114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71600" y="3276720"/>
            <a:ext cx="5314320" cy="533520"/>
            <a:chOff x="1371600" y="3276720"/>
            <a:chExt cx="5314320" cy="533520"/>
          </a:xfrm>
        </p:grpSpPr>
        <p:grpSp>
          <p:nvGrpSpPr>
            <p:cNvPr id="55" name=""/>
            <p:cNvGrpSpPr/>
            <p:nvPr/>
          </p:nvGrpSpPr>
          <p:grpSpPr>
            <a:xfrm>
              <a:off x="1371600" y="3276720"/>
              <a:ext cx="1028160" cy="533520"/>
              <a:chOff x="1371600" y="3276720"/>
              <a:chExt cx="1028160" cy="533520"/>
            </a:xfrm>
          </p:grpSpPr>
          <p:sp>
            <p:nvSpPr>
              <p:cNvPr id="56" name=""/>
              <p:cNvSpPr/>
              <p:nvPr/>
            </p:nvSpPr>
            <p:spPr>
              <a:xfrm>
                <a:off x="137160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57280" y="3276720"/>
                <a:ext cx="7225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p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800080" y="3276720"/>
              <a:ext cx="1028160" cy="533520"/>
              <a:chOff x="2800080" y="3276720"/>
              <a:chExt cx="1028160" cy="533520"/>
            </a:xfrm>
          </p:grpSpPr>
          <p:sp>
            <p:nvSpPr>
              <p:cNvPr id="59" name=""/>
              <p:cNvSpPr/>
              <p:nvPr/>
            </p:nvSpPr>
            <p:spPr>
              <a:xfrm>
                <a:off x="280008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886840" y="3276720"/>
                <a:ext cx="70416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4228920" y="3276720"/>
              <a:ext cx="1028160" cy="533520"/>
              <a:chOff x="4228920" y="3276720"/>
              <a:chExt cx="1028160" cy="533520"/>
            </a:xfrm>
          </p:grpSpPr>
          <p:sp>
            <p:nvSpPr>
              <p:cNvPr id="62" name=""/>
              <p:cNvSpPr/>
              <p:nvPr/>
            </p:nvSpPr>
            <p:spPr>
              <a:xfrm>
                <a:off x="422892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14240" y="3276720"/>
                <a:ext cx="80784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L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657760" y="3276720"/>
              <a:ext cx="1028160" cy="533160"/>
              <a:chOff x="5657760" y="3276720"/>
              <a:chExt cx="1028160" cy="533160"/>
            </a:xfrm>
          </p:grpSpPr>
          <p:sp>
            <p:nvSpPr>
              <p:cNvPr id="65" name=""/>
              <p:cNvSpPr/>
              <p:nvPr/>
            </p:nvSpPr>
            <p:spPr>
              <a:xfrm>
                <a:off x="5657760" y="3276720"/>
                <a:ext cx="1028160" cy="533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58120" y="3276720"/>
                <a:ext cx="8917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Dra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40012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574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290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stages give more time to cull or gener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stage adds lat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92760" y="3079800"/>
            <a:ext cx="9480960" cy="3013200"/>
            <a:chOff x="392760" y="3079800"/>
            <a:chExt cx="9480960" cy="3013200"/>
          </a:xfrm>
        </p:grpSpPr>
        <p:grpSp>
          <p:nvGrpSpPr>
            <p:cNvPr id="257" name=""/>
            <p:cNvGrpSpPr/>
            <p:nvPr/>
          </p:nvGrpSpPr>
          <p:grpSpPr>
            <a:xfrm>
              <a:off x="1646640" y="3079800"/>
              <a:ext cx="8227080" cy="3013200"/>
              <a:chOff x="1646640" y="3079800"/>
              <a:chExt cx="8227080" cy="301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817520" y="5853240"/>
                <a:ext cx="11142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646640" y="3315240"/>
                <a:ext cx="8227080" cy="1925280"/>
                <a:chOff x="1646640" y="3315240"/>
                <a:chExt cx="8227080" cy="192528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1646640" y="3315240"/>
                  <a:ext cx="5312880" cy="506880"/>
                  <a:chOff x="1646640" y="3315240"/>
                  <a:chExt cx="5312880" cy="50688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1646640" y="3315240"/>
                    <a:ext cx="1027800" cy="506880"/>
                    <a:chOff x="1646640" y="3315240"/>
                    <a:chExt cx="1027800" cy="5068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164664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732320" y="331524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074400" y="3315240"/>
                    <a:ext cx="1027800" cy="506880"/>
                    <a:chOff x="3074400" y="3315240"/>
                    <a:chExt cx="1027800" cy="50688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07440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3161160" y="331524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4502880" y="3315240"/>
                    <a:ext cx="1027800" cy="506880"/>
                    <a:chOff x="4502880" y="3315240"/>
                    <a:chExt cx="1027800" cy="5068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50288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587840" y="331524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931720" y="3315240"/>
                    <a:ext cx="1027800" cy="506880"/>
                    <a:chOff x="5931720" y="3315240"/>
                    <a:chExt cx="1027800" cy="50688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593172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5932080" y="331524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267480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1317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5033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3103560" y="4023360"/>
                  <a:ext cx="5312880" cy="506880"/>
                  <a:chOff x="3103560" y="4023360"/>
                  <a:chExt cx="5312880" cy="50688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3103560" y="4023360"/>
                    <a:ext cx="1027800" cy="506880"/>
                    <a:chOff x="3103560" y="4023360"/>
                    <a:chExt cx="1027800" cy="50688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10356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3189240" y="402336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4531320" y="4023360"/>
                    <a:ext cx="1027800" cy="506880"/>
                    <a:chOff x="4531320" y="4023360"/>
                    <a:chExt cx="1027800" cy="506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53132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618080" y="402336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959800" y="4023360"/>
                    <a:ext cx="1027800" cy="506880"/>
                    <a:chOff x="5959800" y="4023360"/>
                    <a:chExt cx="1027800" cy="50688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95980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044760" y="402336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7388640" y="4023360"/>
                    <a:ext cx="1027800" cy="506880"/>
                    <a:chOff x="7388640" y="4023360"/>
                    <a:chExt cx="1027800" cy="50688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864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7389000" y="402336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" name=""/>
                  <p:cNvSpPr/>
                  <p:nvPr/>
                </p:nvSpPr>
                <p:spPr>
                  <a:xfrm>
                    <a:off x="413172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886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9602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4560480" y="4733280"/>
                  <a:ext cx="5313240" cy="507240"/>
                  <a:chOff x="4560480" y="4733280"/>
                  <a:chExt cx="5313240" cy="507240"/>
                </a:xfrm>
              </p:grpSpPr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4560480" y="4733280"/>
                    <a:ext cx="1028160" cy="507240"/>
                    <a:chOff x="4560480" y="4733280"/>
                    <a:chExt cx="1028160" cy="50724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5604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4646160" y="473328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988600" y="4733280"/>
                    <a:ext cx="1028160" cy="507240"/>
                    <a:chOff x="5988600" y="4733280"/>
                    <a:chExt cx="1028160" cy="5072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98860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6075360" y="473328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7417080" y="4733280"/>
                    <a:ext cx="1028160" cy="507240"/>
                    <a:chOff x="7417080" y="4733280"/>
                    <a:chExt cx="1028160" cy="50724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4170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502400" y="473328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8845560" y="4733280"/>
                    <a:ext cx="1028160" cy="507240"/>
                    <a:chOff x="8845560" y="4733280"/>
                    <a:chExt cx="1028160" cy="50724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884556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8845920" y="473328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5" name=""/>
                  <p:cNvSpPr/>
                  <p:nvPr/>
                </p:nvSpPr>
                <p:spPr>
                  <a:xfrm>
                    <a:off x="558900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04592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841716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8" name=""/>
              <p:cNvSpPr/>
              <p:nvPr/>
            </p:nvSpPr>
            <p:spPr>
              <a:xfrm>
                <a:off x="286776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6072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964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7390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584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73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7212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960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05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0948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19044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92760" y="328968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760" y="402372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760" y="473976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 part is data synchr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pelining simplifies synchr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tch out for memory blo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 Graph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scene graph is the basic data structures holding the description of your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-able, sort-able, and can contain multi-resolution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s gathering and timing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large scenes can do memory management and database p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yinyang" descr=""/>
          <p:cNvPicPr/>
          <p:nvPr/>
        </p:nvPicPr>
        <p:blipFill>
          <a:blip r:embed="rId1"/>
          <a:stretch/>
        </p:blipFill>
        <p:spPr>
          <a:xfrm>
            <a:off x="7308720" y="257040"/>
            <a:ext cx="1381320" cy="12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st importantly - Think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3124080" y="259092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ing data to avoid re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geometry that isn't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Manag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geometric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534520" y="3048120"/>
            <a:ext cx="11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216080" cy="1308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1880" y="5410080"/>
            <a:ext cx="9511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compute what can be stor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draw what has already been draw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geometry in a format that can be quickly travers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by graphics AP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application develo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ke as flat as possib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ccelerates travers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memory locality and data alig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traversal log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state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19:18:09Z</cp:lastPrinted>
  <dcterms:modified xsi:type="dcterms:W3CDTF">2000-08-07T19:58:07Z</dcterms:modified>
  <cp:revision>32</cp:revision>
  <dc:subject/>
  <dc:title>Developing Efficient Graphics Software</dc:title>
</cp:coreProperties>
</file>