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3FE9-9C0B-4998-8558-9B9DAC0F5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44560" y="68904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 to the siggraph course on Developing Efficien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is course, we’ll be covering a variety of topics  related to writing fast graphics softwa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 adsf asdf ds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DC15-C05D-4B20-88B2-A1E3960AC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5273-BD87-4EAE-AB73-45E9A90CF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4309-66E0-4734-834B-74192B61F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9B63-F55D-4FD0-8CC5-A2E3461699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5013-0517-462B-8566-F3B002A612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B301-C3CC-434A-9ED0-7E129AEBC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A135-647E-4E79-8201-7CC47DC3C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6F6C-4898-4D6C-8DAD-C40690267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A37F-FB91-4537-9C9E-8D8283CA9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47CA-49EE-4246-BF25-59326BBC4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95F1-E8F1-460C-A8F1-D46FAEBD5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7034-8CB5-42A8-A8D1-57E4166EE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247F-9583-4FC5-A1A7-533BD40F7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801.WAV" TargetMode="External"/><Relationship Id="rId2" Type="http://schemas.microsoft.com/office/2007/relationships/media" Target="file:///tmp/home/.config/libreoffice/4/user/gallery/~PP180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5.WAV" TargetMode="External"/><Relationship Id="rId2" Type="http://schemas.microsoft.com/office/2007/relationships/media" Target="file:///tmp/home/.config/libreoffice/4/user/gallery/~PP105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17.WAV" TargetMode="External"/><Relationship Id="rId2" Type="http://schemas.microsoft.com/office/2007/relationships/media" Target="file:///tmp/home/.config/libreoffice/4/user/gallery/~PP1017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236.WAV" TargetMode="External"/><Relationship Id="rId2" Type="http://schemas.microsoft.com/office/2007/relationships/media" Target="file:///tmp/home/.config/libreoffice/4/user/gallery/~PP1236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tent of Cours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component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: Agenda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1:35  General Performance Overvie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2:15 Software and System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00 Break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15 Software profiling / Performance analy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3:40 Compiler and  language issu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00 Graphics techniques and algorithm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:45 Wrap-up and ques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veloping Efficient Graphics Soft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peakers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ineers for SG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ing, differentiating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ith Cok, Bob Kuehne, Thomas True, Roger Cor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L cont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ty.sgi.com/cok_newport/s2000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29600" y="4419720"/>
            <a:ext cx="1219320" cy="12189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21:04:26Z</cp:lastPrinted>
  <dcterms:modified xsi:type="dcterms:W3CDTF">2000-08-07T14:49:16Z</dcterms:modified>
  <cp:revision>18</cp:revision>
  <dc:subject/>
  <dc:title>Developing Efficient Graphics Software</dc:title>
</cp:coreProperties>
</file>