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D59B-746B-4EF9-B105-F7DC52D7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C5C8-896E-407A-9F81-7195D6C33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2E2B-4922-4963-A580-946CD394F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E115-5E49-4825-95F2-3D9B0DB3C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B0A9-BE6B-4319-AE42-6750AE24CB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2C75-2E5D-4C28-80E5-C7C9BD718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7C3A-1F46-43AB-B27F-79B9AB37B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005A-7585-445A-9499-D40853F6F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655B-9E16-472C-95A1-E644BE314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9025-758F-401F-879A-E310B9236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FE12-1E37-4C26-B2C7-06AF8F0FD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3EEC-7ED9-4D4E-AF3C-C36E20EBB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12A1-6E97-4B15-B443-EF17A9983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798-B111-4AA8-A453-7E137C5AD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7-20T17:32:38Z</dcterms:modified>
  <cp:revision>17</cp:revision>
  <dc:subject/>
  <dc:title>Developing Efficient Graphics Software</dc:title>
</cp:coreProperties>
</file>