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9058-E99D-47F8-9AA6-EC055C980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772B-E20A-44CF-81A7-B3040C0CE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D175-EBD9-4763-B7E2-0F9AB319E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0F4F-FAD8-4943-AB25-3E33E05866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09F7-A707-4831-B165-D06FC2BC72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55E2-CD87-4550-8B50-F16543991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2DE1-8C3E-457D-AFBE-79DE579E7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F394-02F5-4481-A603-E81F6245F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8579-42E0-4394-90DB-CE689A48A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914A-EDDD-470F-9F85-BC65D345E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4BB4-8DDA-4881-BE71-36DD2D778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962F-55E9-412A-BE3D-C0A90B98B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118B-C944-4C08-A43F-04911E51B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31.WAV" TargetMode="External"/><Relationship Id="rId2" Type="http://schemas.microsoft.com/office/2007/relationships/media" Target="file:///tmp/home/.config/libreoffice/4/user/gallery/~PP313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71.WAV" TargetMode="External"/><Relationship Id="rId2" Type="http://schemas.microsoft.com/office/2007/relationships/media" Target="file:///tmp/home/.config/libreoffice/4/user/gallery/~PP267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02.WAV" TargetMode="External"/><Relationship Id="rId2" Type="http://schemas.microsoft.com/office/2007/relationships/media" Target="file:///tmp/home/.config/libreoffice/4/user/gallery/~PP3102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6:09Z</dcterms:modified>
  <cp:revision>5</cp:revision>
  <dc:subject/>
  <dc:title>Conclusion</dc:title>
</cp:coreProperties>
</file>