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6c860"/>
              </a:gs>
              <a:gs pos="100000">
                <a:srgbClr val="5c30be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 txBox="1"/>
          <p:nvPr/>
        </p:nvSpPr>
        <p:spPr>
          <a:xfrm>
            <a:off x="685800" y="749160"/>
            <a:ext cx="777240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X</a:t>
            </a:r>
            <a:r>
              <a:rPr b="1" lang="en-US" sz="3600" spc="-1" strike="noStrike" baseline="50000">
                <a:solidFill>
                  <a:srgbClr val="000000"/>
                </a:solidFill>
                <a:latin typeface="Times New Roman"/>
                <a:ea typeface="Times New Roman"/>
              </a:rPr>
              <a:t>™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dvanced Internet Server Programming Using ISAPI</a:t>
            </a:r>
            <a:br>
              <a:rPr sz="4800"/>
            </a:b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wsh Murawski</a:t>
            </a:r>
            <a:br>
              <a:rPr sz="36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Mu@Microsoft.com</a:t>
            </a:r>
            <a:br>
              <a:rPr sz="28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er Relations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crosoft Corpor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" name=""/>
          <p:cNvGrpSpPr/>
          <p:nvPr/>
        </p:nvGrpSpPr>
        <p:grpSpPr>
          <a:xfrm>
            <a:off x="7864560" y="6264360"/>
            <a:ext cx="1197000" cy="376200"/>
            <a:chOff x="7864560" y="6264360"/>
            <a:chExt cx="1197000" cy="376200"/>
          </a:xfrm>
        </p:grpSpPr>
        <p:pic>
          <p:nvPicPr>
            <p:cNvPr id="41" name="" descr=""/>
            <p:cNvPicPr/>
            <p:nvPr/>
          </p:nvPicPr>
          <p:blipFill>
            <a:blip r:embed="rId1"/>
            <a:stretch/>
          </p:blipFill>
          <p:spPr>
            <a:xfrm>
              <a:off x="7864560" y="6297480"/>
              <a:ext cx="1039680" cy="34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" name=""/>
            <p:cNvSpPr txBox="1"/>
            <p:nvPr/>
          </p:nvSpPr>
          <p:spPr>
            <a:xfrm>
              <a:off x="8836200" y="6264360"/>
              <a:ext cx="225360" cy="152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400" spc="-1" strike="noStrike">
                  <a:solidFill>
                    <a:srgbClr val="969696"/>
                  </a:solidFill>
                  <a:latin typeface="Arial Narrow"/>
                  <a:ea typeface="Arial Narrow"/>
                </a:rPr>
                <a:t>™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485640" y="228600"/>
            <a:ext cx="8172360" cy="206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Threads In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X Server Applications (3/4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90720" y="2514600"/>
            <a:ext cx="7162920" cy="301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ool thread should impersonate using the impersonation token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d in the work i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 the required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nd resultant document back to the client (doesn’t have to be HTM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485640" y="228600"/>
            <a:ext cx="8172360" cy="206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Threads In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X Server Applications (4/4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2438280"/>
            <a:ext cx="82296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mpersonate to restore previous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l pECB-&gt;ServerSupportFunction( …, HSE_REQ_DONE_WITH_SESSION,…) to free the EC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ee the work item (or put back 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ee lis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tecting Multithreaded Resources (1/2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990720" y="1905120"/>
            <a:ext cx="7162920" cy="33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y resource that can be accessed simultaneously from multiple threads, that is not read-only,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s to be protec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counters can use InterlockedIncrement and InterlockedDecr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tecting Multithreaded Resources (2/2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380880" y="1905120"/>
            <a:ext cx="8381880" cy="45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85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lists, complex counters, etc.,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t be protected, generally by a CRITICAL_S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85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l InitCriticialSection( &amp;csGlobalLock )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uring initialization or DLL In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85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fore accessing the resource, call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erCriticalSection( &amp;csGlobalLock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85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n done, call LeaveCriticalSection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&amp;csGlobalLock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85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ize the amount of time locks are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ken to the absolute minim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ersonating Clients (1/2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990720" y="1447920"/>
            <a:ext cx="7162920" cy="28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reads created in ISAPI extension are in the system con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eat care must be taken when accessing Windows NT-based resources (files, registry, etc.) that proper impersonation is respec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04920" y="2362320"/>
            <a:ext cx="8458200" cy="350532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ersonating Clients (2/2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304920" y="1447920"/>
            <a:ext cx="8534520" cy="53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pture the current thread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ersonation 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85000"/>
              </a:lnSpc>
              <a:spcBef>
                <a:spcPts val="601"/>
              </a:spcBef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if(!OpenThreadToken( GetCurrentThread()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85000"/>
              </a:lnSpc>
              <a:spcBef>
                <a:spcPts val="601"/>
              </a:spcBef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TOKEN_QUERY |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85000"/>
              </a:lnSpc>
              <a:spcBef>
                <a:spcPts val="601"/>
              </a:spcBef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TOKEN_IMPERSONATE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85000"/>
              </a:lnSpc>
              <a:spcBef>
                <a:spcPts val="601"/>
              </a:spcBef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TRUE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85000"/>
              </a:lnSpc>
              <a:spcBef>
                <a:spcPts val="601"/>
              </a:spcBef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&amp;hToken )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85000"/>
              </a:lnSpc>
              <a:spcBef>
                <a:spcPts val="601"/>
              </a:spcBef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85000"/>
              </a:lnSpc>
              <a:spcBef>
                <a:spcPts val="601"/>
              </a:spcBef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FALSE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85000"/>
              </a:lnSpc>
              <a:spcBef>
                <a:spcPts val="601"/>
              </a:spcBef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3200" spc="-1" strike="noStrike">
                <a:solidFill>
                  <a:srgbClr val="00cc99"/>
                </a:solidFill>
                <a:latin typeface="Courier New"/>
                <a:ea typeface="Courier New"/>
              </a:rPr>
              <a:t>ImpersonateLoggedOnUser()</a:t>
            </a:r>
            <a:br>
              <a:rPr sz="18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</a:t>
            </a:r>
            <a:r>
              <a:rPr b="1" lang="en-US" sz="3200" spc="-1" strike="noStrike">
                <a:solidFill>
                  <a:srgbClr val="00cc99"/>
                </a:solidFill>
                <a:latin typeface="Courier New"/>
                <a:ea typeface="Courier New"/>
              </a:rPr>
              <a:t>RevertToSelf()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 hTo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read Pool Manageme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990720" y="1447920"/>
            <a:ext cx="7162920" cy="24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o many additional threads interfere with server thread p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ceptions to this are threads blocking on I/O, for example, Windows Sockets connect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using Heap Buffer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304920" y="1447920"/>
            <a:ext cx="8534520" cy="50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85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heap allocations if possible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malloc(), LocalAlloc(), GlobalAlloc(),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tc. ) on the “Fast Path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85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st Path is the code executed on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ry requ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85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list of structures needed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 every requ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85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cate from the heap when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ne available from the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85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ce on free list when d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85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tect the list with a critical s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0" y="228600"/>
            <a:ext cx="91425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X Server Authentication Filter Overview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905120"/>
            <a:ext cx="8229600" cy="466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 authentication filter serves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purpos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henticate the specified user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this requ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p the authenticated user to a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lid Windows NT user accou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accessing the external user database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relatively expensive (stored in an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QL database for example), filter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ould cache the last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redent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304920" y="3003480"/>
            <a:ext cx="8381880" cy="32446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0" y="228600"/>
            <a:ext cx="91425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X Server Authentication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ter Structur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343080" y="1905120"/>
            <a:ext cx="8458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k for SF_NOTIFY_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t notified with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 struct _HTTP_FILTER_AUTH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HAR * pszUse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WORD  cbUserBuff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HAR * pszPassword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WORD  cbPasswordBuff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} HTTP_FILTER_AUTHENT, *PHTTP_FILTER_AUTHEN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ssion Outlin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990720" y="1447920"/>
            <a:ext cx="7162920" cy="25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s NT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™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curity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threaded ActiveX Server applications using ISAP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hentication with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X Server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0" y="228600"/>
            <a:ext cx="91425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X Server Authentication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ter Examp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990720" y="1905120"/>
            <a:ext cx="716292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es the following poi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rnal database as a flat file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ould easily be a SQL databa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RU caching of credent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of the filter context pointer to keep state between request notif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ifying the server log to reflect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original user and the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s NT-mapped u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rnal Authentication Databas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62120" y="1905120"/>
            <a:ext cx="762012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rnal database could be a file,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 ODBC datasource, dblib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Note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Notification for filters is in the </a:t>
            </a:r>
            <a:r>
              <a:rPr b="1" lang="en-US" sz="32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system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text, impersonate a valid Windows NT account to access a network resource (including a remote Microsoft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SQL Server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™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; see documentation for LogonUs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762120" y="1447920"/>
            <a:ext cx="762012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threaded ActiveX Server applications maximize ISAPI scalability and perform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X Server filters allow for any type of customization of the ser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ver access a resource on a client’s behalf without impersonating the cli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API Resourc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685800" y="1447920"/>
            <a:ext cx="7772400" cy="169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crosoft Developer’s Network Level 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ww.microsoft.com/intde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-mail:  isapi-l@peach.ease.lsoft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4000680" y="2239920"/>
            <a:ext cx="838080" cy="25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5000" spc="-1" strike="noStrike">
                <a:solidFill>
                  <a:srgbClr val="00cccc"/>
                </a:solidFill>
                <a:latin typeface="Harrington"/>
                <a:ea typeface="Harrington"/>
              </a:rPr>
              <a:t>?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85640" y="144792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cccc"/>
                </a:solidFill>
                <a:latin typeface="Times New Roman"/>
                <a:ea typeface="Times New Roman"/>
              </a:rPr>
              <a:t>Questions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  <p:grpSp>
        <p:nvGrpSpPr>
          <p:cNvPr id="112" name=""/>
          <p:cNvGrpSpPr/>
          <p:nvPr/>
        </p:nvGrpSpPr>
        <p:grpSpPr>
          <a:xfrm>
            <a:off x="7864560" y="6264360"/>
            <a:ext cx="1197000" cy="376200"/>
            <a:chOff x="7864560" y="6264360"/>
            <a:chExt cx="1197000" cy="376200"/>
          </a:xfrm>
        </p:grpSpPr>
        <p:pic>
          <p:nvPicPr>
            <p:cNvPr id="113" name="" descr=""/>
            <p:cNvPicPr/>
            <p:nvPr/>
          </p:nvPicPr>
          <p:blipFill>
            <a:blip r:embed="rId2"/>
            <a:stretch/>
          </p:blipFill>
          <p:spPr>
            <a:xfrm>
              <a:off x="7864560" y="6297480"/>
              <a:ext cx="1039680" cy="34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 txBox="1"/>
            <p:nvPr/>
          </p:nvSpPr>
          <p:spPr>
            <a:xfrm>
              <a:off x="8836200" y="6264360"/>
              <a:ext cx="225360" cy="152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™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838680" y="2690640"/>
            <a:ext cx="4303800" cy="331920"/>
          </a:xfrm>
          <a:prstGeom prst="roundRect">
            <a:avLst/>
          </a:prstGeom>
          <a:gradFill rotWithShape="0">
            <a:gsLst>
              <a:gs pos="0">
                <a:srgbClr val="3f3afd"/>
              </a:gs>
              <a:gs pos="100000">
                <a:srgbClr val="500093"/>
              </a:gs>
            </a:gsLst>
            <a:lin ang="5400000"/>
          </a:gradFill>
          <a:ln w="12600">
            <a:solidFill>
              <a:srgbClr val="0000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982800" y="3029040"/>
            <a:ext cx="2773440" cy="1506600"/>
          </a:xfrm>
          <a:prstGeom prst="roundRect">
            <a:avLst/>
          </a:prstGeom>
          <a:gradFill rotWithShape="0">
            <a:gsLst>
              <a:gs pos="0">
                <a:srgbClr val="d60093"/>
              </a:gs>
              <a:gs pos="100000">
                <a:srgbClr val="500093"/>
              </a:gs>
            </a:gsLst>
            <a:lin ang="5400000"/>
          </a:gradFill>
          <a:ln w="12600">
            <a:solidFill>
              <a:srgbClr val="d60093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614920" y="5011560"/>
            <a:ext cx="1506600" cy="581040"/>
          </a:xfrm>
          <a:prstGeom prst="roundRect">
            <a:avLst/>
          </a:prstGeom>
          <a:gradFill rotWithShape="0">
            <a:gsLst>
              <a:gs pos="0">
                <a:srgbClr val="ffff00"/>
              </a:gs>
              <a:gs pos="100000">
                <a:srgbClr val="500093"/>
              </a:gs>
            </a:gsLst>
            <a:lin ang="5400000"/>
          </a:gradFill>
          <a:ln w="12600">
            <a:solidFill>
              <a:srgbClr val="ffff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273640" y="5011560"/>
            <a:ext cx="1506600" cy="581040"/>
          </a:xfrm>
          <a:prstGeom prst="roundRect">
            <a:avLst/>
          </a:prstGeom>
          <a:gradFill rotWithShape="0">
            <a:gsLst>
              <a:gs pos="0">
                <a:srgbClr val="ffff00"/>
              </a:gs>
              <a:gs pos="100000">
                <a:srgbClr val="500093"/>
              </a:gs>
            </a:gsLst>
            <a:lin ang="5400000"/>
          </a:gradFill>
          <a:ln w="12600">
            <a:solidFill>
              <a:srgbClr val="ffff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888240" y="1646280"/>
            <a:ext cx="1271520" cy="650880"/>
          </a:xfrm>
          <a:prstGeom prst="roundRect">
            <a:avLst/>
          </a:prstGeom>
          <a:gradFill rotWithShape="0">
            <a:gsLst>
              <a:gs pos="0">
                <a:srgbClr val="ffff00"/>
              </a:gs>
              <a:gs pos="100000">
                <a:srgbClr val="500093"/>
              </a:gs>
            </a:gsLst>
            <a:lin ang="5400000"/>
          </a:gradFill>
          <a:ln w="12600">
            <a:solidFill>
              <a:srgbClr val="ffff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718320" y="1781280"/>
            <a:ext cx="1271520" cy="650880"/>
          </a:xfrm>
          <a:prstGeom prst="roundRect">
            <a:avLst/>
          </a:prstGeom>
          <a:gradFill rotWithShape="0">
            <a:gsLst>
              <a:gs pos="0">
                <a:srgbClr val="ffff00"/>
              </a:gs>
              <a:gs pos="100000">
                <a:srgbClr val="500093"/>
              </a:gs>
            </a:gsLst>
            <a:lin ang="5400000"/>
          </a:gradFill>
          <a:ln w="12600">
            <a:solidFill>
              <a:srgbClr val="ffff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3855960" y="4529160"/>
            <a:ext cx="4270320" cy="380880"/>
          </a:xfrm>
          <a:prstGeom prst="rect">
            <a:avLst/>
          </a:prstGeom>
          <a:gradFill rotWithShape="0">
            <a:gsLst>
              <a:gs pos="0">
                <a:srgbClr val="3f3afd"/>
              </a:gs>
              <a:gs pos="100000">
                <a:srgbClr val="500093"/>
              </a:gs>
            </a:gsLst>
            <a:lin ang="5400000"/>
          </a:gradFill>
          <a:ln w="12600">
            <a:solidFill>
              <a:srgbClr val="0000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ter AP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49920" y="2844720"/>
            <a:ext cx="655560" cy="0"/>
          </a:xfrm>
          <a:prstGeom prst="line">
            <a:avLst/>
          </a:prstGeom>
          <a:ln w="12600">
            <a:solidFill>
              <a:srgbClr val="2a004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803760" y="3090960"/>
            <a:ext cx="4356000" cy="1380960"/>
          </a:xfrm>
          <a:prstGeom prst="rect">
            <a:avLst/>
          </a:prstGeom>
          <a:gradFill rotWithShape="0">
            <a:gsLst>
              <a:gs pos="0">
                <a:srgbClr val="3f3afd"/>
              </a:gs>
              <a:gs pos="100000">
                <a:srgbClr val="500093"/>
              </a:gs>
            </a:gsLst>
            <a:lin ang="5400000"/>
          </a:gradFill>
          <a:ln w="12600">
            <a:solidFill>
              <a:srgbClr val="0000ff"/>
            </a:solidFill>
            <a:round/>
          </a:ln>
          <a:effectLst>
            <a:outerShdw dist="0" dir="0" blurRad="0" rotWithShape="0">
              <a:srgbClr val="2a004e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3878280" y="1820880"/>
            <a:ext cx="1219320" cy="83196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500093"/>
              </a:gs>
            </a:gsLst>
            <a:lin ang="5400000"/>
          </a:gradFill>
          <a:ln w="12600">
            <a:solidFill>
              <a:srgbClr val="0000ff"/>
            </a:solidFill>
            <a:round/>
          </a:ln>
          <a:effectLst>
            <a:outerShdw dist="0" dir="0" blurRad="0" rotWithShape="0">
              <a:srgbClr val="2a004e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ab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n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5062680" y="2679840"/>
            <a:ext cx="18669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 AP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70240" y="3090960"/>
            <a:ext cx="380880" cy="1365120"/>
          </a:xfrm>
          <a:prstGeom prst="roundRect">
            <a:avLst/>
          </a:prstGeom>
          <a:gradFill rotWithShape="0">
            <a:gsLst>
              <a:gs pos="0">
                <a:srgbClr val="3f3afd"/>
              </a:gs>
              <a:gs pos="100000">
                <a:srgbClr val="500093"/>
              </a:gs>
            </a:gsLst>
            <a:lin ang="5400000"/>
          </a:gradFill>
          <a:ln w="12600">
            <a:solidFill>
              <a:srgbClr val="0000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3165480" y="3621240"/>
            <a:ext cx="6634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G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5175360" y="1820880"/>
            <a:ext cx="879480" cy="7747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500093"/>
              </a:gs>
            </a:gsLst>
            <a:lin ang="5400000"/>
          </a:gradFill>
          <a:ln w="12600">
            <a:solidFill>
              <a:srgbClr val="0000ff"/>
            </a:solidFill>
            <a:round/>
          </a:ln>
          <a:effectLst>
            <a:outerShdw dist="0" dir="0" blurRad="0" rotWithShape="0">
              <a:srgbClr val="2a004e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l.d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5343480" y="5884920"/>
            <a:ext cx="1373040" cy="6508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500093"/>
              </a:gs>
            </a:gsLst>
            <a:lin ang="5400000"/>
          </a:gradFill>
          <a:ln w="12600">
            <a:solidFill>
              <a:srgbClr val="0000ff"/>
            </a:solidFill>
            <a:round/>
          </a:ln>
          <a:effectLst>
            <a:outerShdw dist="0" dir="0" blurRad="0" rotWithShape="0">
              <a:srgbClr val="2a004e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b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rows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1085760" y="3125880"/>
            <a:ext cx="1193760" cy="4572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500093"/>
              </a:gs>
            </a:gsLst>
            <a:lin ang="5400000"/>
          </a:gradFill>
          <a:ln w="12600">
            <a:solidFill>
              <a:srgbClr val="ffff00"/>
            </a:solidFill>
            <a:round/>
          </a:ln>
          <a:effectLst>
            <a:outerShdw dist="0" dir="0" blurRad="0" rotWithShape="0">
              <a:srgbClr val="2a004e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l scrip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1101600" y="3693960"/>
            <a:ext cx="2092320" cy="7621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500093"/>
              </a:gs>
            </a:gsLst>
            <a:lin ang="5400000"/>
          </a:gradFill>
          <a:ln w="12600">
            <a:solidFill>
              <a:srgbClr val="ffff00"/>
            </a:solidFill>
            <a:round/>
          </a:ln>
          <a:effectLst>
            <a:outerShdw dist="0" dir="0" blurRad="0" rotWithShape="0">
              <a:srgbClr val="2a004e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917960" y="5011560"/>
            <a:ext cx="1506600" cy="58104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500093"/>
              </a:gs>
            </a:gsLst>
            <a:lin ang="5400000"/>
          </a:gradFill>
          <a:ln w="12600">
            <a:solidFill>
              <a:srgbClr val="ffff00"/>
            </a:solidFill>
            <a:round/>
          </a:ln>
          <a:effectLst>
            <a:outerShdw dist="0" dir="0" blurRad="0" rotWithShape="0">
              <a:srgbClr val="2a004e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tiveX 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t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548400" y="1916280"/>
            <a:ext cx="1271520" cy="650880"/>
          </a:xfrm>
          <a:prstGeom prst="roundRect">
            <a:avLst/>
          </a:prstGeom>
          <a:gradFill rotWithShape="0">
            <a:gsLst>
              <a:gs pos="0">
                <a:srgbClr val="ffff00"/>
              </a:gs>
              <a:gs pos="100000">
                <a:srgbClr val="500093"/>
              </a:gs>
            </a:gsLst>
            <a:lin ang="5400000"/>
          </a:gradFill>
          <a:ln w="12600">
            <a:solidFill>
              <a:srgbClr val="ffff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6400800" y="2017800"/>
            <a:ext cx="1135080" cy="6775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500093"/>
              </a:gs>
            </a:gsLst>
            <a:lin ang="5400000"/>
          </a:gradFill>
          <a:ln w="12600">
            <a:solidFill>
              <a:srgbClr val="ffff00"/>
            </a:solidFill>
            <a:round/>
          </a:ln>
          <a:effectLst>
            <a:outerShdw dist="0" dir="0" blurRad="0" rotWithShape="0">
              <a:srgbClr val="2a004e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tiveX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cccc"/>
                </a:solidFill>
                <a:latin typeface="Times New Roman"/>
                <a:ea typeface="Times New Roman"/>
              </a:rPr>
              <a:t>ActiveX Server Programming:  ISAPI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400" spc="-1" strike="noStrike">
                <a:solidFill>
                  <a:srgbClr val="00cccc"/>
                </a:solidFill>
                <a:latin typeface="Times New Roman"/>
                <a:ea typeface="Times New Roman"/>
              </a:rPr>
              <a:t>ISAPI Int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0" y="1447920"/>
            <a:ext cx="4267080" cy="368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27040" indent="-527040">
              <a:lnSpc>
                <a:spcPct val="100000"/>
              </a:lnSpc>
              <a:spcBef>
                <a:spcPts val="479"/>
              </a:spcBef>
              <a:buClr>
                <a:srgbClr val="00cccc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tiveX Server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63720" indent="-434880">
              <a:lnSpc>
                <a:spcPct val="90000"/>
              </a:lnSpc>
              <a:spcBef>
                <a:spcPts val="720"/>
              </a:spcBef>
              <a:buClr>
                <a:srgbClr val="00cccc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nitor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63720" indent="-434880">
              <a:lnSpc>
                <a:spcPct val="90000"/>
              </a:lnSpc>
              <a:spcBef>
                <a:spcPts val="720"/>
              </a:spcBef>
              <a:buClr>
                <a:srgbClr val="00cccc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dify behavi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63720" indent="-434880">
              <a:lnSpc>
                <a:spcPct val="90000"/>
              </a:lnSpc>
              <a:spcBef>
                <a:spcPts val="720"/>
              </a:spcBef>
              <a:buClr>
                <a:srgbClr val="00cccc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put/output modif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63720" indent="-434880">
              <a:lnSpc>
                <a:spcPct val="90000"/>
              </a:lnSpc>
              <a:spcBef>
                <a:spcPts val="720"/>
              </a:spcBef>
              <a:buClr>
                <a:srgbClr val="00cccc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rticipate in intermediate 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52280" y="1447920"/>
            <a:ext cx="441972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09760" indent="-509760">
              <a:lnSpc>
                <a:spcPct val="100000"/>
              </a:lnSpc>
              <a:spcBef>
                <a:spcPts val="479"/>
              </a:spcBef>
              <a:buClr>
                <a:srgbClr val="00cccc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tiveX Server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34920" indent="-423720">
              <a:lnSpc>
                <a:spcPct val="90000"/>
              </a:lnSpc>
              <a:spcBef>
                <a:spcPts val="720"/>
              </a:spcBef>
              <a:buClr>
                <a:srgbClr val="00cccc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tend function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34920" indent="-423720">
              <a:lnSpc>
                <a:spcPct val="90000"/>
              </a:lnSpc>
              <a:spcBef>
                <a:spcPts val="720"/>
              </a:spcBef>
              <a:buClr>
                <a:srgbClr val="00cccc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igh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34920" indent="-423720">
              <a:lnSpc>
                <a:spcPct val="90000"/>
              </a:lnSpc>
              <a:spcBef>
                <a:spcPts val="720"/>
              </a:spcBef>
              <a:buClr>
                <a:srgbClr val="00cccc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-process exec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34920" indent="-423720">
              <a:lnSpc>
                <a:spcPct val="90000"/>
              </a:lnSpc>
              <a:spcBef>
                <a:spcPts val="720"/>
              </a:spcBef>
              <a:buClr>
                <a:srgbClr val="00cccc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lug-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34920" indent="-423720">
              <a:lnSpc>
                <a:spcPct val="90000"/>
              </a:lnSpc>
              <a:spcBef>
                <a:spcPts val="720"/>
              </a:spcBef>
              <a:buClr>
                <a:srgbClr val="00cccc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ript activ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34920" indent="-423720">
              <a:lnSpc>
                <a:spcPct val="90000"/>
              </a:lnSpc>
              <a:spcBef>
                <a:spcPts val="720"/>
              </a:spcBef>
              <a:buClr>
                <a:srgbClr val="00cccc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intain 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API And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s NT Securit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990720" y="1905120"/>
            <a:ext cx="7162920" cy="199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kstation service will not allow system context off the mach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ver open a resource on a user’s behalf without impersona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Security Context Wher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990720" y="1447920"/>
            <a:ext cx="7162920" cy="354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 contex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tFilterVer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tExtensionVer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FilterProc (except for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me raw send notificatio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ersonate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ExtensionPr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Use Threads 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990720" y="1447920"/>
            <a:ext cx="7162920" cy="199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ssing takes longer than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ate of incoming requ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ps minimize threads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ning on the ser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76320" y="228600"/>
            <a:ext cx="8991720" cy="206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Threads In 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X Server Applications 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/4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990720" y="2362320"/>
            <a:ext cx="716292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sion allocates its queue structure which should contai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inter to ECB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EXTENSION_CONTROL_BLOCK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ndle for impersonation to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eue tracking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sion places the initialized queue structure onto the extension’s work que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485640" y="228600"/>
            <a:ext cx="8172360" cy="206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Threads In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X Server Applications (2/4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762120" y="2438280"/>
            <a:ext cx="762012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sion signals the threads 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work queue and returns: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SE_STATUS_PEN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CB is valid until extension indicates it is finished with the requ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xtension pool thread picks up the next work item from the work que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eith Moore</dc:creator>
  <dc:description/>
  <dc:language>en-US</dc:language>
  <cp:lastModifiedBy>Keith Moore</cp:lastModifiedBy>
  <cp:revision>0</cp:revision>
  <dc:subject/>
  <dc:title>Advanced ISAPI Topics</dc:title>
</cp:coreProperties>
</file>