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100480" y="1522440"/>
            <a:ext cx="403056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hat is OL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354560" y="4505400"/>
            <a:ext cx="4640400" cy="15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ara Williams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veloper Rel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22800" y="4170240"/>
            <a:ext cx="3640320" cy="3240"/>
          </a:xfrm>
          <a:prstGeom prst="line">
            <a:avLst/>
          </a:prstGeom>
          <a:ln w="38160">
            <a:solidFill>
              <a:srgbClr val="f6bf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2760" y="1079640"/>
            <a:ext cx="4761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76320" y="228600"/>
            <a:ext cx="8991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Benefits Of Uniform Data Transf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55480" y="1620720"/>
            <a:ext cx="8032680" cy="51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er format and stor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TET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GMEDIU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ze data for specific output devices, resulting in better output 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onikers to automate the connection, use </a:t>
            </a:r>
            <a:r>
              <a:rPr b="0" lang="en-US" sz="2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DataObje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facilitate the ex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data on a variety of mediums; be able to consume data in the same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DataObje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the sole data-exchange interface for programmers to underst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44400" y="25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Drag-And-Drop Fea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20840" y="1204920"/>
            <a:ext cx="830268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protocol added in OL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lates user’s action from the transfer mechanism, allowing for significant code re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s a data object poi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thing you can describe in a data object can be exchanged via Drag-and-Drop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an use the same data object it does for the clipboard or any other ex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 receives a data object on a drop, identical to a clipboard data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loited in the “Chicago”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85640" y="25416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Monik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95360" y="995400"/>
            <a:ext cx="8292960" cy="56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istent components that automate connections between data and a consu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prechaun”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lds a map to the source and instructions for following the 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s “binding” code to execute the instructions, through </a:t>
            </a:r>
            <a:r>
              <a:rPr b="0" lang="en-US" sz="3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Monik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serialize itself to a str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2 implements File, Item, and Composite moni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can implement your own:  just make a component with </a:t>
            </a:r>
            <a:r>
              <a:rPr b="0" lang="en-US" sz="3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Moni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85640" y="23976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Compound Fi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66720" y="1104840"/>
            <a:ext cx="781056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OLE 2 specifications describe a “Structured Storage Mode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2 implements this model; implementation is called “Compound Fil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 from the “Cairo” Object File System (OF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ile system within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ies:  storage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:  stream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 for a file what the FAT file system does for a disk dr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File System Within A Fi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76400" y="1500120"/>
            <a:ext cx="5486400" cy="4572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976400" y="15001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ot storag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14280" y="2567160"/>
            <a:ext cx="1447920" cy="304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14280" y="256716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48200" y="2567160"/>
            <a:ext cx="1447920" cy="304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948200" y="256716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67120" y="2567160"/>
            <a:ext cx="1447920" cy="304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967120" y="256716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77000" y="2567160"/>
            <a:ext cx="1447920" cy="304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777000" y="256716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52920" y="1957320"/>
            <a:ext cx="0" cy="609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900080" y="1957320"/>
            <a:ext cx="457200" cy="609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634000" y="1957320"/>
            <a:ext cx="0" cy="609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157880" y="1957320"/>
            <a:ext cx="381240" cy="609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3920" y="3557520"/>
            <a:ext cx="1447920" cy="304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23920" y="355752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5200" y="3557520"/>
            <a:ext cx="1447920" cy="304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5200" y="355752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05600" y="3557520"/>
            <a:ext cx="1447920" cy="304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005600" y="355752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76400" y="3557520"/>
            <a:ext cx="1447920" cy="304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76400" y="355752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05400" y="3557520"/>
            <a:ext cx="1447920" cy="304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405400" y="355752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909720" y="2871720"/>
            <a:ext cx="609480" cy="685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2281320" y="287172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567320" y="2871720"/>
            <a:ext cx="685800" cy="685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10320" y="2871720"/>
            <a:ext cx="380880" cy="685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6167520" y="2871720"/>
            <a:ext cx="838080" cy="685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24120" y="4395960"/>
            <a:ext cx="1447920" cy="304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824120" y="439596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7600" y="4395960"/>
            <a:ext cx="1447920" cy="304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47600" y="439596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3400" y="386244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42880" y="3862440"/>
            <a:ext cx="1067040" cy="53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28880" y="4395960"/>
            <a:ext cx="1447920" cy="304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728880" y="439596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91000" y="386244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39120" y="4395960"/>
            <a:ext cx="1447920" cy="304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539120" y="439596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10320" y="4395960"/>
            <a:ext cx="1447920" cy="304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710320" y="439596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072280" y="3862440"/>
            <a:ext cx="228600" cy="53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396120" y="3862440"/>
            <a:ext cx="990360" cy="53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002280" y="5238720"/>
            <a:ext cx="20066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s can ex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no streams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tor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724800" y="4781520"/>
            <a:ext cx="280800" cy="528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7005600" y="4776840"/>
            <a:ext cx="685800" cy="53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71600" y="5443560"/>
            <a:ext cx="3657600" cy="1157400"/>
            <a:chOff x="471600" y="5443560"/>
            <a:chExt cx="3657600" cy="1157400"/>
          </a:xfrm>
        </p:grpSpPr>
        <p:sp>
          <p:nvSpPr>
            <p:cNvPr id="172" name=""/>
            <p:cNvSpPr/>
            <p:nvPr/>
          </p:nvSpPr>
          <p:spPr>
            <a:xfrm>
              <a:off x="1766880" y="6210360"/>
              <a:ext cx="187200" cy="20016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54080" y="6310440"/>
              <a:ext cx="498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33600" y="6148440"/>
              <a:ext cx="1447920" cy="30492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2433600" y="6148440"/>
              <a:ext cx="14479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trea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71760" y="5624640"/>
              <a:ext cx="1447920" cy="30492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2471760" y="5624640"/>
              <a:ext cx="14479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tora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71560" y="5672160"/>
              <a:ext cx="185760" cy="20016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57320" y="5772240"/>
              <a:ext cx="500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593640" y="5576760"/>
              <a:ext cx="1022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Stora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636480" y="6134040"/>
              <a:ext cx="9842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Strea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1600" y="5443560"/>
              <a:ext cx="3657600" cy="11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44360" y="103320"/>
            <a:ext cx="8642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Benefits Of Compound Fi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16080" y="1373040"/>
            <a:ext cx="8512200" cy="50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transactioning support; incremental access by defa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ments accessed by name, not seek off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 under low-memory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 format is public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s can port to any platfor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ion with Windows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mary Information” str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controls the layout of elements in file and manages unused space in the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Visual Edi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92280" y="1162080"/>
            <a:ext cx="7759800" cy="55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I intensiv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places a window in the contai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and object menus me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controls tools in container’s 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interfaces needed on both sides to handle negoti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basic embedding support on both s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ed objects appear as part of the container:  no loss of document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65280" y="144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Auto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23720" y="1052640"/>
            <a:ext cx="8296200" cy="55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t from other techn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applications to expose end-user- level </a:t>
            </a:r>
            <a:r>
              <a:rPr b="0" lang="en-US" sz="3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ethod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0" lang="en-US" sz="3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roperti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a </a:t>
            </a:r>
            <a:r>
              <a:rPr b="0" lang="en-US" sz="3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Disp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is an Automation “serv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utomation “client” uses </a:t>
            </a:r>
            <a:r>
              <a:rPr b="0" lang="en-US" sz="3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Dispatc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rn names of methods and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rieve type information for methods/pr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oke those methods or get and set those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library provides the information without having to run a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250920" y="187200"/>
            <a:ext cx="8642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Benefits Of Auto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6800" y="1295280"/>
            <a:ext cx="76122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macro programming without writing a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demonstration scri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user-chosen tool can drive all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n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plication can apply Auto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solution providers to integrate applications together to develop a custom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2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hat is OL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28640" y="1324080"/>
            <a:ext cx="7772400" cy="51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 Object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damental, underlying object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Interoper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ing Techn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120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undation for New Features and Ext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r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ai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ustom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2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hat is OL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28640" y="1324080"/>
            <a:ext cx="7772400" cy="51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 Object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damental, underlying object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Interoper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ing Techn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ndation for New Features and Ext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i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85640" y="309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OLE Custom Control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432080" y="1657440"/>
            <a:ext cx="6281640" cy="48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beddable OLE Object with added support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at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on of .VBX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a basis for extens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use our contr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 your own new cap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85640" y="228600"/>
            <a:ext cx="817236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indows NT </a:t>
            </a:r>
            <a:r>
              <a:rPr b="0" i="1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“Cairo”</a:t>
            </a:r>
            <a:br>
              <a:rPr sz="18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torage</a:t>
            </a:r>
            <a:r>
              <a:rPr b="0" lang="en-US" sz="4400" spc="-1" strike="noStrike">
                <a:solidFill>
                  <a:srgbClr val="00ff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130400" y="1530360"/>
            <a:ext cx="6883560" cy="49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file system and directory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file system:  unifying embeddings and doc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zed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ng properties to documents/objects/contai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xing of content and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interoperability with today’s file systems and Compoun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indows NT </a:t>
            </a:r>
            <a:r>
              <a:rPr b="0" i="1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“Cairo”</a:t>
            </a:r>
            <a:br>
              <a:rPr sz="18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Retrieval and monik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162080" y="1733400"/>
            <a:ext cx="68216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retrieval by attribute or 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: queries are processed at optimal 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 tra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Monikers provide intelligent links to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losest printer to my office that my group may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685800" y="5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Custom Interfaces</a:t>
            </a:r>
            <a:br>
              <a:rPr sz="4400"/>
            </a:br>
            <a:r>
              <a:rPr b="0" lang="en-US" sz="3200" spc="-1" strike="noStrike">
                <a:solidFill>
                  <a:srgbClr val="f6bf69"/>
                </a:solidFill>
                <a:latin typeface="Arial"/>
                <a:ea typeface="Arial"/>
              </a:rPr>
              <a:t>Extending OLE to Suit Specific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202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NEW OLE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ive from IUnkn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 methods and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 marshalling code (easier in Cairo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sh as widely as appropri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685800" y="2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hat is OL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728640" y="1324080"/>
            <a:ext cx="7772400" cy="51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120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nent Object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ndamental, underlying object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120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Interoper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nabling Techn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ndard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120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undation for New Features and Ext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r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ai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ustom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208080" y="19080"/>
            <a:ext cx="8642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Re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06320" y="957240"/>
            <a:ext cx="7732800" cy="55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2 Toolkit (Libraries and Too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ped with Visual C++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.5 (16-b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ping with Visual C++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.0 (32-bi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Foundation Classes 2.5 and 3.0 (Visual C++ 1.5 and 2.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es most OLE program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Developer Network 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kit, Docs, references, article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ide OLE 2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rom Microsoft Pres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publishers getting interested 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S:  WINOBJ forum; Internet FTP: gowinnt@microsoft.com in drg/ole-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Question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raw@microsoft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237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The Component Object Mode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92200" y="1371600"/>
            <a:ext cx="832320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binary standard:  objects can be implemented </a:t>
            </a:r>
            <a:r>
              <a:rPr b="0" lang="en-US" sz="3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r used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any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is most </a:t>
            </a:r>
            <a:r>
              <a:rPr b="0" lang="en-US" sz="2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onven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:  discrete sets of functions an object can implement - a con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always referenced through pointers to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411280" y="5324400"/>
            <a:ext cx="1219320" cy="38088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320008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Vtb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66640" y="5224320"/>
            <a:ext cx="1200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01800" y="540072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316400" y="5324400"/>
            <a:ext cx="1143000" cy="38088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320008"/>
              </a:gs>
            </a:gsLst>
            <a:lin ang="5400000"/>
          </a:gra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f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16400" y="5705640"/>
            <a:ext cx="1143000" cy="38088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320008"/>
              </a:gs>
            </a:gsLst>
            <a:lin ang="5400000"/>
          </a:gra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f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30600" y="547704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062240" y="469116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59400" y="547704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21520" y="5324400"/>
            <a:ext cx="2590920" cy="106668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320008"/>
              </a:gs>
            </a:gsLst>
            <a:lin ang="5400000"/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314960" y="6072120"/>
            <a:ext cx="1138320" cy="38088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320008"/>
              </a:gs>
            </a:gsLst>
            <a:lin ang="5400000"/>
          </a:gra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65280" y="10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Component Ob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92200" y="1123920"/>
            <a:ext cx="803268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Unknow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face implements COM functionality.  All OLE objects </a:t>
            </a:r>
            <a:r>
              <a:rPr b="0" lang="en-US" sz="2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u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upport </a:t>
            </a:r>
            <a:r>
              <a:rPr b="0" lang="en-US" sz="3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Unkn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counting - </a:t>
            </a:r>
            <a:r>
              <a:rPr b="0" lang="en-US" sz="2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ddRe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0" lang="en-US" sz="2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el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 negotiation - </a:t>
            </a:r>
            <a:r>
              <a:rPr b="0" lang="en-US" sz="2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Query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ied with a class identifier (CLSI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omponent Object Library includ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s to instantiate component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ing mechanisms (RPC) to support communication across process and network (soon!) bound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87200" y="228600"/>
            <a:ext cx="8642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Benefits Of C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36560" y="1133640"/>
            <a:ext cx="76723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 negotiation allows replaceable objects and addition of new interfaces </a:t>
            </a:r>
            <a:r>
              <a:rPr b="0" lang="en-US" sz="3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thout any recompilatio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Window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eatures will be exposed largely through objects and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ent model - no language barrier between COM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 interfaces allow “stranger” applications to work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08080" y="271440"/>
            <a:ext cx="8642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Benefits Of C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55480" y="1514520"/>
            <a:ext cx="803268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user only has to know object class:  COM locates, runs, and connects the object either in-process, locally, or rem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s can define, publish, and implement new interfaces without having to ask Microsoft to update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2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hat is OL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28640" y="1324080"/>
            <a:ext cx="7772400" cy="51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 Object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damental, underlying object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120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Interoper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nabling Techn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ndard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ndation for New Features and Ext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i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OLE 2.0 - A Collection Of Integrated Techn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36720" y="2133720"/>
            <a:ext cx="7270920" cy="4441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310520" y="4527720"/>
            <a:ext cx="0" cy="1539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46320" y="6068880"/>
            <a:ext cx="6603840" cy="61920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100000">
                <a:srgbClr val="4b4b00"/>
              </a:gs>
            </a:gsLst>
            <a:path path="rect">
              <a:fillToRect l="0" t="0" r="100000" b="100000"/>
            </a:path>
          </a:gra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06720" y="5281560"/>
            <a:ext cx="1960560" cy="41436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100000">
                <a:srgbClr val="4b4b00"/>
              </a:gs>
            </a:gsLst>
            <a:path path="rect">
              <a:fillToRect l="0" t="0" r="100000" b="100000"/>
            </a:path>
          </a:gra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94320" y="5281560"/>
            <a:ext cx="1130400" cy="41436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100000">
                <a:srgbClr val="4b4b00"/>
              </a:gs>
            </a:gsLst>
            <a:path path="rect">
              <a:fillToRect l="0" t="0" r="100000" b="100000"/>
            </a:path>
          </a:gra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94600" y="4124160"/>
            <a:ext cx="1378080" cy="41436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100000">
                <a:srgbClr val="4b4b00"/>
              </a:gs>
            </a:gsLst>
            <a:path path="rect">
              <a:fillToRect l="0" t="0" r="100000" b="100000"/>
            </a:path>
          </a:gra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98720" y="4548240"/>
            <a:ext cx="2409840" cy="44280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100000">
                <a:srgbClr val="4b4b00"/>
              </a:gs>
            </a:gsLst>
            <a:path path="rect">
              <a:fillToRect l="0" t="0" r="100000" b="100000"/>
            </a:path>
          </a:gra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81320" y="2855880"/>
            <a:ext cx="2428920" cy="37152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100000">
                <a:srgbClr val="4b4b00"/>
              </a:gs>
            </a:gsLst>
            <a:path path="rect">
              <a:fillToRect l="0" t="0" r="100000" b="100000"/>
            </a:path>
          </a:gra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928880" y="6205680"/>
            <a:ext cx="4989600" cy="3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 Objects and the Component Object 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549760" y="5311800"/>
            <a:ext cx="1019160" cy="336600"/>
          </a:xfrm>
          <a:prstGeom prst="rect">
            <a:avLst/>
          </a:prstGeom>
          <a:gradFill rotWithShape="0">
            <a:gsLst>
              <a:gs pos="0">
                <a:srgbClr val="fafd00"/>
              </a:gs>
              <a:gs pos="100000">
                <a:srgbClr val="4b4b00"/>
              </a:gs>
            </a:gsLst>
            <a:path path="rect">
              <a:fillToRect l="0" t="0" r="100000" b="100000"/>
            </a:path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340320" y="4133880"/>
            <a:ext cx="1285920" cy="3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147840" y="5291280"/>
            <a:ext cx="1676520" cy="3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044800" y="4600440"/>
            <a:ext cx="22161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orm Data Transf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870280" y="2852640"/>
            <a:ext cx="1252440" cy="3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bedd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440" y="2125800"/>
            <a:ext cx="0" cy="396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95600" y="2125800"/>
            <a:ext cx="0" cy="738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49360" y="3227400"/>
            <a:ext cx="0" cy="1325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45000" y="2330280"/>
            <a:ext cx="0" cy="524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64200" y="2327400"/>
            <a:ext cx="0" cy="3725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75400" y="2336760"/>
            <a:ext cx="0" cy="2935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0760" y="1700280"/>
            <a:ext cx="6673680" cy="1619280"/>
          </a:xfrm>
          <a:prstGeom prst="roundRect">
            <a:avLst/>
          </a:prstGeom>
          <a:noFill/>
          <a:ln w="38160">
            <a:solidFill>
              <a:srgbClr val="fffff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246720" y="2600280"/>
            <a:ext cx="133992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ompou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29080" y="5699160"/>
            <a:ext cx="0" cy="377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46440" y="5010120"/>
            <a:ext cx="0" cy="291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59520" y="5699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28920" y="3797280"/>
            <a:ext cx="2057400" cy="38412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100000">
                <a:srgbClr val="4b4b00"/>
              </a:gs>
            </a:gsLst>
            <a:path path="rect">
              <a:fillToRect l="0" t="0" r="100000" b="100000"/>
            </a:path>
          </a:gradFill>
          <a:ln w="12600">
            <a:solidFill>
              <a:srgbClr val="fafd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93920" y="3794040"/>
            <a:ext cx="2368440" cy="3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-and-Drop fea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57720" y="4181400"/>
            <a:ext cx="0" cy="376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789200" y="3051000"/>
            <a:ext cx="488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789200" y="3984480"/>
            <a:ext cx="625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789200" y="4765680"/>
            <a:ext cx="206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3008160"/>
            <a:ext cx="60480" cy="68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63640" y="3951360"/>
            <a:ext cx="60480" cy="68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54280" y="4738680"/>
            <a:ext cx="60480" cy="69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789200" y="2406600"/>
            <a:ext cx="2297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4280" y="2371680"/>
            <a:ext cx="60480" cy="68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67320" y="3230640"/>
            <a:ext cx="0" cy="20494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53360" y="4551480"/>
            <a:ext cx="0" cy="72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3760" y="3224160"/>
            <a:ext cx="0" cy="57168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3760" y="2324160"/>
            <a:ext cx="1128960" cy="1143360"/>
          </a:xfrm>
          <a:custGeom>
            <a:avLst/>
            <a:gdLst/>
            <a:ahLst/>
            <a:rect l="0" t="0" r="r" b="b"/>
            <a:pathLst>
              <a:path fill="none" w="3136" h="3176">
                <a:moveTo>
                  <a:pt x="3136" y="0"/>
                </a:moveTo>
                <a:lnTo>
                  <a:pt x="3136" y="3176"/>
                </a:lnTo>
                <a:lnTo>
                  <a:pt x="0" y="3176"/>
                </a:lnTo>
              </a:path>
            </a:pathLst>
          </a:custGeom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73520" y="3446640"/>
            <a:ext cx="60480" cy="68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919191"/>
            </a:solidFill>
            <a:round/>
          </a:ln>
        </p:spPr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84560" y="2046240"/>
            <a:ext cx="2641680" cy="51120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100000">
                <a:srgbClr val="4b4b00"/>
              </a:gs>
            </a:gsLst>
            <a:path path="rect">
              <a:fillToRect l="0" t="0" r="100000" b="100000"/>
            </a:path>
          </a:gra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937040" y="2098800"/>
            <a:ext cx="936720" cy="3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47840" y="1808280"/>
            <a:ext cx="2622600" cy="47160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100000">
                <a:srgbClr val="4b4b00"/>
              </a:gs>
            </a:gsLst>
            <a:path path="rect">
              <a:fillToRect l="0" t="0" r="100000" b="100000"/>
            </a:path>
          </a:gra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697040" y="1838160"/>
            <a:ext cx="1913040" cy="3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18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Uniform Data Transf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44480" y="1123920"/>
            <a:ext cx="7656480" cy="54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DataObje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face (data object) is the single data transfer mech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2 clipboard, Drag-and-Drop feature, and compound documents all use data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s transfer protocol from actual exchange of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implements one data object for use in all exchange protoc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 implements one set of functions to “paste” from any data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notification loops with </a:t>
            </a:r>
            <a:r>
              <a:rPr b="0" lang="en-US" sz="2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AdviseS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ra Williams</dc:creator>
  <dc:description/>
  <dc:language>en-US</dc:language>
  <cp:lastModifiedBy>media services</cp:lastModifiedBy>
  <cp:revision>0</cp:revision>
  <dc:subject/>
  <dc:title>What is OLE?</dc:title>
</cp:coreProperties>
</file>