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109A96-8AAC-466E-920A-33EFE681C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n even distribute pieces to multiple machines - facilities for transparent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chitecture built in to make it easy to build and manage distributed servic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ll start with the network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575400" y="0"/>
            <a:ext cx="22845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hibition 1994- Brian Moran </a:t>
            </a:r>
            <a:fld id="{F133697D-31A6-4F07-9F16-E6C2A9BC1E5C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231920"/>
            <a:ext cx="817236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Overview of Windows NT from a Networking Perspective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rian Moran (brianmo@microsoft.c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33400"/>
            <a:ext cx="7162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81160" y="228600"/>
            <a:ext cx="8582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PC:  Remote Procedure Calls (RPC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4720" y="2190600"/>
            <a:ext cx="81342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RPC is OSF/DCE-compatible and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es with other RPCs such as HP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B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application develop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cy (platform, transport, lo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13000" y="3871800"/>
            <a:ext cx="0" cy="395280"/>
          </a:xfrm>
          <a:prstGeom prst="line">
            <a:avLst/>
          </a:prstGeom>
          <a:ln w="38160">
            <a:solidFill>
              <a:srgbClr val="00ee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94480" y="3876840"/>
            <a:ext cx="0" cy="342720"/>
          </a:xfrm>
          <a:prstGeom prst="line">
            <a:avLst/>
          </a:prstGeom>
          <a:ln w="38160">
            <a:solidFill>
              <a:srgbClr val="00ee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PC:  Distribution of Application Fun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8520" y="1566720"/>
            <a:ext cx="1920960" cy="130320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8520" y="2523960"/>
            <a:ext cx="549360" cy="6858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5920" y="2523960"/>
            <a:ext cx="685800" cy="68580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10120" y="2523960"/>
            <a:ext cx="549360" cy="685800"/>
          </a:xfrm>
          <a:prstGeom prst="rect">
            <a:avLst/>
          </a:prstGeom>
          <a:solidFill>
            <a:srgbClr val="1f43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6920" y="3270240"/>
            <a:ext cx="178272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2400" y="5156280"/>
            <a:ext cx="2193840" cy="109692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5170320"/>
            <a:ext cx="2332080" cy="109692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7760" y="4743360"/>
            <a:ext cx="549360" cy="61740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69200" y="4724280"/>
            <a:ext cx="617400" cy="685800"/>
          </a:xfrm>
          <a:prstGeom prst="rect">
            <a:avLst/>
          </a:prstGeom>
          <a:solidFill>
            <a:srgbClr val="1f43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49280" y="4184640"/>
            <a:ext cx="185112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1600" y="4191120"/>
            <a:ext cx="219384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73600" y="1682640"/>
            <a:ext cx="15001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6021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79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737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46600" y="331956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38400" y="3857760"/>
            <a:ext cx="6721200" cy="0"/>
          </a:xfrm>
          <a:prstGeom prst="line">
            <a:avLst/>
          </a:prstGeom>
          <a:ln w="38160">
            <a:solidFill>
              <a:srgbClr val="00ee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99000" y="3713040"/>
            <a:ext cx="0" cy="136800"/>
          </a:xfrm>
          <a:prstGeom prst="line">
            <a:avLst/>
          </a:prstGeom>
          <a:ln w="38160">
            <a:solidFill>
              <a:srgbClr val="00ee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44760" y="423396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640560" y="421812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33680" y="4732200"/>
            <a:ext cx="595440" cy="5904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406600" y="4765680"/>
            <a:ext cx="5716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91160" y="4781520"/>
            <a:ext cx="5716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44760" y="5468760"/>
            <a:ext cx="1746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wit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1 an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521400" y="5502240"/>
            <a:ext cx="14288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with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0" y="228600"/>
            <a:ext cx="91440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S</a:t>
            </a:r>
            <a:r>
              <a:rPr b="1" lang="en-US" sz="4800" spc="-1" strike="noStrike" baseline="30000">
                <a:solidFill>
                  <a:srgbClr val="00eed8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RPC And 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Advanced Server: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er Plat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1840" y="3200400"/>
            <a:ext cx="716040" cy="1676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757680" y="3124080"/>
            <a:ext cx="274680" cy="1295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052640" y="3162240"/>
            <a:ext cx="2141280" cy="94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27640" y="3200400"/>
            <a:ext cx="239220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08520" y="3200400"/>
            <a:ext cx="223992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04840" y="3124080"/>
            <a:ext cx="172260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46760" y="3200400"/>
            <a:ext cx="2163600" cy="1828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940120" y="2779560"/>
            <a:ext cx="309888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PC 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338120" y="5183280"/>
            <a:ext cx="133344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986200" y="4417920"/>
            <a:ext cx="1533600" cy="7588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732200" y="4863960"/>
            <a:ext cx="1382760" cy="7588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932600" y="3549600"/>
            <a:ext cx="83808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19880" y="4308480"/>
            <a:ext cx="88272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2960" y="4102200"/>
            <a:ext cx="145260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</a:t>
            </a:r>
            <a:r>
              <a:rPr b="1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27880" y="5030640"/>
            <a:ext cx="126360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BIO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level interface for PC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s on common protocol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Network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70080" y="1728720"/>
            <a:ext cx="66056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integrated network (workstation,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to 32 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able to down-level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LAN Manager APIs  callable from Win16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43000" y="228600"/>
            <a:ext cx="8658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s - Service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70080" y="1728720"/>
            <a:ext cx="660564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SNMP 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Performance Moni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he Regis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39960" y="1728720"/>
            <a:ext cx="5464080" cy="2560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052640" y="4519440"/>
            <a:ext cx="70390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configuration data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s .INI files or random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:  Configuration Da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27160" y="1276200"/>
            <a:ext cx="689148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KEY_LOCAL_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company name, static da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SYSTEM\CurrentControl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- cros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- service-specific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bility to revert to “last known good” copy at system 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KEY_CURRENT_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-specific profil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95160" y="1724040"/>
            <a:ext cx="775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for detached processes (“daemons”)  and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 provides manual or automatic star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on in specified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 based on dependencies between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can be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 Control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90720" y="1724040"/>
            <a:ext cx="71629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/stop pause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 other services if dependent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information obtained from registry service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management APIs remo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pplet, server manager 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228600"/>
            <a:ext cx="91440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4800" spc="-1" strike="noStrike" baseline="30000">
                <a:solidFill>
                  <a:srgbClr val="00eed8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Network  Application Plat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33520" y="2647800"/>
            <a:ext cx="62769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nd memo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vent Log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76240" y="1724040"/>
            <a:ext cx="73915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-purpose fac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abl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files on system where 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support (being add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nagement:  SNM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84240" y="1276200"/>
            <a:ext cx="717696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-II, LM MI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P, IPX (under developmen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ag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 DLLs “claims” a portion of the name space during initial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lled by agent for references to managed objects in claimed name subsp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provided with ASN.1 util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 D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 compiler, test progra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WinSNMP complian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00000" y="1724040"/>
            <a:ext cx="73436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-purpose statistical monitoring, logging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monitoring 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DLL to provide textual identifiers and statistics for object         to be monito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registered in configuration regi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s - Base Operating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90720" y="1724040"/>
            <a:ext cx="71629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nd synchronization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19160" y="1724040"/>
            <a:ext cx="71056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, 4-GB demand-paged memory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independent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ross-process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ing algorithms tuned for both desktop and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, integrated file cac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ocess And Synchronization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65160" y="2104920"/>
            <a:ext cx="7215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management (create,  control, prior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ocal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thread security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are </a:t>
            </a:r>
            <a:r>
              <a:rPr b="1" i="1" lang="en-US" sz="32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transparently</a:t>
            </a:r>
            <a:r>
              <a:rPr b="1" lang="en-US" sz="32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ed to available processor on 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set of synchronization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81160" y="228600"/>
            <a:ext cx="8582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84320" y="1724040"/>
            <a:ext cx="697716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es consequences of fail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s can be handled gracefu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ap” installed components (DL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implified error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exceptions on error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exception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17640" y="1724040"/>
            <a:ext cx="73105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l system check at objec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logon to the enterpr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, replicated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 model - domains can be “joined” or “split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14400" y="4848120"/>
            <a:ext cx="73152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36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One user account, one password, secure a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“Daytona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84280" y="1447920"/>
            <a:ext cx="79772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speed and size in base system and network compon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TCP/IP internetwork naming (WI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TCP/IP configuration (DHC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IP and IPX access via P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curity providers, platforms, dat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413160" y="1728720"/>
            <a:ext cx="2319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ed From 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he Begin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90600" y="2104920"/>
            <a:ext cx="65628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in end-user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for additional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set of network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vider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, growth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:  Ne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47720" y="1728720"/>
            <a:ext cx="7648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requestor (NW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s can “look like NLMs over the net” to the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PX via Windows Sockets to issue SAP broadcast period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PX via Windows Sockets for application traf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:  RPC over SPX from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43000" y="228600"/>
            <a:ext cx="8658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are Service Announc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90720" y="1428840"/>
            <a:ext cx="7162920" cy="38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announcement on IPX via Windows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local socket (IPX protoc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d socket to workstation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() to datagram soc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the local address for S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up SAP broadcast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every 60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3120" y="5897520"/>
            <a:ext cx="6021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*Defined in Novell’s IPX Router Specification, or in book: </a:t>
            </a:r>
            <a:r>
              <a:rPr b="1" i="1" lang="en-US" sz="1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“Novell’s Guide to NetWare LAN Analysi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2920" y="228600"/>
            <a:ext cx="8858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:  Ap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31800" y="1176480"/>
            <a:ext cx="788184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file and print server (Windows NT Advanced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Phase 2 AppleTalk transport stack (includes rou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to AppleTalk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SP - connection-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P - connection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 - printers (client or serv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BP - naming, via socket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P - zone information, via socket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upport (under develop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:  UNI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62040" y="1728720"/>
            <a:ext cx="78199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utilities (ftp, telnet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erver (lpr, lpd under develop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clients and servers (third par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 Servers from 3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ccess to TCP/IP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 name service, host file access via “getXbyY”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:  D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90400" y="1724040"/>
            <a:ext cx="79628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interoperable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providers (under develop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ccess CDS via Name Service Interface Daemon (NS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:  secure core DCE cl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DCE client on Windows NT, minus D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1H 1994 from D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DCE API layer on Windows NT, for DCE source code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55560" y="1306440"/>
            <a:ext cx="7834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32 API for cross platform compatibility and network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dvantage of Windows NT  service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ca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94400" y="4784760"/>
            <a:ext cx="307008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Manage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21040" y="4076640"/>
            <a:ext cx="2286360" cy="1810080"/>
          </a:xfrm>
          <a:custGeom>
            <a:avLst/>
            <a:gdLst/>
            <a:ahLst/>
            <a:rect l="0" t="0" r="r" b="b"/>
            <a:pathLst>
              <a:path w="6351" h="5028">
                <a:moveTo>
                  <a:pt x="6324" y="0"/>
                </a:moveTo>
                <a:lnTo>
                  <a:pt x="0" y="0"/>
                </a:lnTo>
                <a:lnTo>
                  <a:pt x="0" y="5028"/>
                </a:lnTo>
                <a:lnTo>
                  <a:pt x="6351" y="5028"/>
                </a:lnTo>
                <a:lnTo>
                  <a:pt x="6351" y="4181"/>
                </a:lnTo>
                <a:lnTo>
                  <a:pt x="1058" y="4181"/>
                </a:lnTo>
                <a:lnTo>
                  <a:pt x="1058" y="793"/>
                </a:lnTo>
                <a:lnTo>
                  <a:pt x="6351" y="793"/>
                </a:lnTo>
                <a:lnTo>
                  <a:pt x="6351" y="0"/>
                </a:lnTo>
                <a:lnTo>
                  <a:pt x="6324" y="0"/>
                </a:lnTo>
                <a:close/>
              </a:path>
            </a:pathLst>
          </a:custGeom>
          <a:gradFill rotWithShape="0">
            <a:gsLst>
              <a:gs pos="0">
                <a:srgbClr val="001f7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6680" y="5965920"/>
            <a:ext cx="46879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27200" y="3986280"/>
            <a:ext cx="46818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1359000"/>
            <a:ext cx="1752480" cy="774720"/>
          </a:xfrm>
          <a:prstGeom prst="rect">
            <a:avLst/>
          </a:prstGeom>
          <a:gradFill rotWithShape="0">
            <a:gsLst>
              <a:gs pos="0">
                <a:srgbClr val="6e0043"/>
              </a:gs>
              <a:gs pos="100000">
                <a:srgbClr val="58003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73320" y="255744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253280" y="384804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21040" y="6059520"/>
            <a:ext cx="3772080" cy="4572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786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97320" y="6143760"/>
            <a:ext cx="282096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 driver(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94160" y="4075200"/>
            <a:ext cx="1344600" cy="181116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4240" y="4822920"/>
            <a:ext cx="114444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243920" y="579924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49400" y="239868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0960" y="1357200"/>
            <a:ext cx="2732040" cy="776160"/>
          </a:xfrm>
          <a:prstGeom prst="rect">
            <a:avLst/>
          </a:prstGeom>
          <a:gradFill rotWithShape="0">
            <a:gsLst>
              <a:gs pos="0">
                <a:srgbClr val="001f7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635200" y="1440000"/>
            <a:ext cx="2610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awar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and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495760" y="1425600"/>
            <a:ext cx="1631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06680" y="4441680"/>
            <a:ext cx="782640" cy="1063800"/>
          </a:xfrm>
          <a:prstGeom prst="rect">
            <a:avLst/>
          </a:prstGeom>
          <a:gradFill rotWithShape="0">
            <a:gsLst>
              <a:gs pos="0">
                <a:srgbClr val="037c03"/>
              </a:gs>
              <a:gs pos="100000">
                <a:srgbClr val="02630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429000" y="4724280"/>
            <a:ext cx="71136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940120" y="4233960"/>
            <a:ext cx="334800" cy="164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65720" y="4441680"/>
            <a:ext cx="782640" cy="10638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c900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97400" y="4718160"/>
            <a:ext cx="71928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894200" y="2257560"/>
            <a:ext cx="969840" cy="62856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Network D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684600" y="2257560"/>
            <a:ext cx="1065240" cy="614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41600" y="2257560"/>
            <a:ext cx="1065240" cy="6145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65656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959440" y="2265480"/>
            <a:ext cx="1243080" cy="62064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0120" y="3052800"/>
            <a:ext cx="72720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23040" y="3236760"/>
            <a:ext cx="839880" cy="61128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27720" y="3236760"/>
            <a:ext cx="773280" cy="6127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06760" y="3241800"/>
            <a:ext cx="878040" cy="6066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c900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487840" y="3386160"/>
            <a:ext cx="6508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96120" y="3384720"/>
            <a:ext cx="69372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386480" y="3200400"/>
            <a:ext cx="873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405560" y="2647800"/>
            <a:ext cx="657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36720" y="354636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89000" y="371808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41280" y="387036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92400" y="4032360"/>
            <a:ext cx="79524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349880" y="3387600"/>
            <a:ext cx="99216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W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96760" y="4703760"/>
            <a:ext cx="1228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1360" y="1728720"/>
            <a:ext cx="64627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s and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mech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 and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04920" y="228600"/>
            <a:ext cx="8534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ransports - Microsoft</a:t>
            </a:r>
            <a:r>
              <a:rPr b="1" lang="en-US" sz="4800" spc="-1" strike="noStrike" baseline="30000">
                <a:solidFill>
                  <a:srgbClr val="00eed8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210996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icrosoft networking (file/print) and interoperab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- internetworking, UNI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op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WLINK - Use with IPX infrastructure, NetWar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op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 - LAN transport, LAN Server interop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independence via Transport Driver Interface (TD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ransports - 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62080" y="1728720"/>
            <a:ext cx="68198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Talk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dvanced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Phase 2 AppleTalk s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le/print and 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frame access, remote pr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B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I - will be available to ISV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y:  DECne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XN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ransport API:  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27160" y="1728720"/>
            <a:ext cx="689148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keley sockets API for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ecified by ope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message notification for non-blocking 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d/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, connectionless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for multiple transport support (TCP, IPX, AppleTalk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PC - Named Pi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52560" y="1647720"/>
            <a:ext cx="72388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tes with LM/U named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ion - application server process can operate in client  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NamedPipeRevertToSelf (VO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ImpersonateNamedPipeClient  (hNamedPi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end control of impersonation via CreateFile attributes security 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(Overlapped I/O, Read/WriteE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ian K. Moran</dc:creator>
  <dc:description/>
  <dc:language>en-US</dc:language>
  <cp:lastModifiedBy>Brian K. Moran</cp:lastModifiedBy>
  <cp:revision>0</cp:revision>
  <dc:subject/>
  <dc:title>Overview of Windows NT from a Networking Perspective</dc:title>
</cp:coreProperties>
</file>