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DE629D-E2E4-4E83-A8C6-AE4032F4B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2 is important because of all the great features it provides for the end user:</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Visual editing for application integr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Drag &amp; Drop support  - direct manipul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OLE Automation for application probrammability</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Structured Storage = the road to Cairo’s Object Oriented File System</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Component Object Model - the plumbing that holds it all togeth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ow does MFC make it eas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 provides lots of interfaces but no implementations.  Its up to each programmer to decide on, and create, the implementations he or she needs for their applic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provides over 19,000 lines of C++ code for OLE 2 implementations in a standard manner.  These implemtations leverage the existing MFC 2.0, and allow developers to concentrate on writing code to solve their specific application problems, not generic OL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summ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is the new host / target matrix</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rules are sim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you are targetting 16-bits, buy “Professional Edition 1.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you are targetting 32-bits, buy “32 bit Ed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Visual C++ 1.5 pricing and availa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D-ROM bundles ar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5/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519 (Visual C++ user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32bit/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519 (Visual C++ user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6/32/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649 (Intro)</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1.5/CD-RO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749 (new us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Summar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1600" y="768240"/>
            <a:ext cx="5029200" cy="3767400"/>
          </a:xfrm>
          <a:prstGeom prst="rect">
            <a:avLst/>
          </a:prstGeom>
          <a:ln w="0">
            <a:noFill/>
          </a:ln>
        </p:spPr>
      </p:sp>
      <p:sp>
        <p:nvSpPr>
          <p:cNvPr id="2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Present a brief overview of the agenda</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talk about the Visual C++ family of produc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tell you about the exciting new features in Visual C++ version 1.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re going to demonstrate how easy Visual C++ 1.5 makes it to create applications that use OLE 2.0 and ODB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current product line includes Visual C++ 1.0 Standard and Professional editions, and 32-bit edi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andard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Hosted/Windows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Minimal optim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fessional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Hosted/Windows and DOS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Full optimiz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SDK to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32-bit edi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dows NT Hosted/Windows NT Targetting</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Full optimization:  Pentium and i486 code generation</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Win32 SDK components</a:t>
            </a:r>
            <a:endParaRPr b="0" lang="en-US" sz="1200" spc="-1" strike="noStrike">
              <a:solidFill>
                <a:srgbClr val="000000"/>
              </a:solidFill>
              <a:latin typeface="Arial"/>
            </a:endParaRPr>
          </a:p>
          <a:p>
            <a:pPr lvl="1" marL="457200" indent="0">
              <a:lnSpc>
                <a:spcPct val="90000"/>
              </a:lnSpc>
              <a:spcBef>
                <a:spcPts val="961"/>
              </a:spcBef>
              <a:buNone/>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 brief history of developers’ experience with C++.  In research conducted before Visual C++ 1.0 was released less than 15% of the responding programmers were doing production development using C++.</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same time, more than 70% wanted 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Just a year later things have changed dramatically.  Now, over 81% of responding developers are using C++ for real projec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ven better, 66% of these developers have standardized on MFC as the C++ way to do Windows application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40% are in the process of completing current projects using Visual 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 first introduced MFC Version Version 1.0 back in 1992 with C7.</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ollowed shortly by MFC Version 2.0 in February of this ye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2.0 built on the </a:t>
            </a:r>
            <a:r>
              <a:rPr b="0" i="1" lang="en-US" sz="1200" spc="-1" strike="noStrike">
                <a:solidFill>
                  <a:srgbClr val="000000"/>
                </a:solidFill>
                <a:latin typeface="Arial"/>
                <a:ea typeface="Arial"/>
              </a:rPr>
              <a:t>Windows-specific </a:t>
            </a:r>
            <a:r>
              <a:rPr b="0" lang="en-US" sz="1200" spc="-1" strike="noStrike">
                <a:solidFill>
                  <a:srgbClr val="000000"/>
                </a:solidFill>
                <a:latin typeface="Arial"/>
                <a:ea typeface="Arial"/>
              </a:rPr>
              <a:t>foundation established in 1992 by adding sophisticated architectural elements like a document/view architecture, and high-level </a:t>
            </a:r>
            <a:r>
              <a:rPr b="0" i="1" lang="en-US" sz="1200" spc="-1" strike="noStrike">
                <a:solidFill>
                  <a:srgbClr val="000000"/>
                </a:solidFill>
                <a:latin typeface="Arial"/>
                <a:ea typeface="Arial"/>
              </a:rPr>
              <a:t>application-specific </a:t>
            </a:r>
            <a:r>
              <a:rPr b="0" lang="en-US" sz="1200" spc="-1" strike="noStrike">
                <a:solidFill>
                  <a:srgbClr val="000000"/>
                </a:solidFill>
                <a:latin typeface="Arial"/>
                <a:ea typeface="Arial"/>
              </a:rPr>
              <a:t>features  like MDI support, tool bars, status bars, true device-independent output including print preview, and OLE suppor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st importantly, MFC 1.0 was upwards compatible with MFC 2.0, involving a no-brainer recompilation to get all of the cool new benefits of MFC 2.</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implemented MFC 1 and MFC 2 using a sane subset of C++, leveraging the language’s strengths but not depending on fringe or compiler-specific features. As a result, the framework is portable between different vendors’ tools and compiler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was written by Microsoft’s top C++ application developers, to solve </a:t>
            </a:r>
            <a:r>
              <a:rPr b="0" i="1" lang="en-US" sz="1200" spc="-1" strike="noStrike">
                <a:solidFill>
                  <a:srgbClr val="000000"/>
                </a:solidFill>
                <a:latin typeface="Arial"/>
                <a:ea typeface="Arial"/>
              </a:rPr>
              <a:t>real</a:t>
            </a:r>
            <a:r>
              <a:rPr b="0" lang="en-US" sz="1200" spc="-1" strike="noStrike">
                <a:solidFill>
                  <a:srgbClr val="000000"/>
                </a:solidFill>
                <a:latin typeface="Arial"/>
                <a:ea typeface="Arial"/>
              </a:rPr>
              <a:t> application problems, and tuned for both speed and size, with copious diagnostic suppor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omplete sources are included in Visual C++ and you can see for yourself that this is one of the finest examples of professional, industrial strength, Windows C++ co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FC is truly the standard C++ API for Windows.  It’s been licensed to other leading C++ tools vendors including Blue Sky, Symantec, and Bristol Technolog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 didn’t stop with Visual C++ 1.0.  We’re committed to helping developers take advantage of all of the crucial developments in the Windows operating system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elopments like 32-bits with Windows NT, database support with ODBC, and OLE 2.0 with drag&amp;drop, visual editing, OLE automation and mo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Database access is crucial to modern business.  Visual C++ 1.5 makes it easy to create database applications with C++.  Visula C++ 1.5 includes all the key components from the ODBC SDK and additionally it contains a set of drivers, local and remote, that can be distributed with no runtime license fees with applications developed using MFC database class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atabase support is provided through the MFC 2.5 database classes and Wizards.  The database classes are similar to data objects in Visual Basic and Microsoft Access so developers familiar with this syntax can leverage their knowledg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Developers who really want to be bleeding edge know that OLE 2 is important. But, today, OLE 2 is hard.  Currently less than 10% of the developer community is developer for OLE 2, yet more than 75% want to.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Visual C++ 1.5 will truly make it easy to develop for OLE 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0" name=""/>
          <p:cNvSpPr txBox="1"/>
          <p:nvPr/>
        </p:nvSpPr>
        <p:spPr>
          <a:xfrm>
            <a:off x="485640" y="488880"/>
            <a:ext cx="8172360" cy="50306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Visual C++ </a:t>
            </a:r>
            <a:br>
              <a:rPr sz="4800"/>
            </a:br>
            <a:br>
              <a:rPr sz="4800"/>
            </a:br>
            <a:r>
              <a:rPr b="1" i="1" lang="en-US" sz="4800" spc="-1" strike="noStrike">
                <a:solidFill>
                  <a:srgbClr val="b50069"/>
                </a:solidFill>
                <a:latin typeface="Times New Roman"/>
                <a:ea typeface="Times New Roman"/>
              </a:rPr>
              <a:t>Setting new standards for Windows development </a:t>
            </a:r>
            <a:br>
              <a:rPr sz="4800"/>
            </a:br>
            <a:r>
              <a:rPr b="1" i="1" lang="en-US" sz="3200" spc="-1" strike="noStrike">
                <a:solidFill>
                  <a:srgbClr val="b50069"/>
                </a:solidFill>
                <a:latin typeface="Times New Roman"/>
                <a:ea typeface="Times New Roman"/>
              </a:rPr>
              <a:t>ftp.microsoft.com:</a:t>
            </a:r>
            <a:br>
              <a:rPr sz="1800"/>
            </a:br>
            <a:r>
              <a:rPr b="1" i="1" lang="en-US" sz="2800" spc="-1" strike="noStrike">
                <a:solidFill>
                  <a:srgbClr val="b50069"/>
                </a:solidFill>
                <a:latin typeface="Times New Roman"/>
                <a:ea typeface="Times New Roman"/>
              </a:rPr>
              <a:t>Developer/DRG/Unix-to-Windows/xhibition-94/*</a:t>
            </a:r>
            <a:br>
              <a:rPr sz="1800"/>
            </a:br>
            <a:br>
              <a:rPr sz="1800"/>
            </a:br>
            <a:br>
              <a:rPr sz="1800"/>
            </a:br>
            <a:r>
              <a:rPr b="1" i="1" lang="en-US" sz="3600" spc="-1" strike="noStrike">
                <a:solidFill>
                  <a:srgbClr val="fafd00"/>
                </a:solidFill>
                <a:latin typeface="Times New Roman"/>
                <a:ea typeface="Times New Roman"/>
              </a:rPr>
              <a:t>Brian Mor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7" name=""/>
          <p:cNvSpPr txBox="1"/>
          <p:nvPr/>
        </p:nvSpPr>
        <p:spPr>
          <a:xfrm>
            <a:off x="485640" y="-10008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OLE 2.0 Features</a:t>
            </a:r>
            <a:endParaRPr b="0" lang="en-US" sz="4800" spc="-1" strike="noStrike">
              <a:solidFill>
                <a:srgbClr val="ffffff"/>
              </a:solidFill>
              <a:latin typeface="Arial"/>
            </a:endParaRPr>
          </a:p>
        </p:txBody>
      </p:sp>
      <p:sp>
        <p:nvSpPr>
          <p:cNvPr id="158" name=""/>
          <p:cNvSpPr txBox="1"/>
          <p:nvPr/>
        </p:nvSpPr>
        <p:spPr>
          <a:xfrm>
            <a:off x="990720" y="1733400"/>
            <a:ext cx="7162920" cy="389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 (Server, Contain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 and toolbar negoti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 and editing</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Automation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9" name=""/>
          <p:cNvSpPr txBox="1"/>
          <p:nvPr/>
        </p:nvSpPr>
        <p:spPr>
          <a:xfrm>
            <a:off x="485640" y="95400"/>
            <a:ext cx="8645400" cy="1409760"/>
          </a:xfrm>
          <a:prstGeom prst="rect">
            <a:avLst/>
          </a:prstGeom>
          <a:noFill/>
          <a:ln w="0">
            <a:noFill/>
          </a:ln>
        </p:spPr>
        <p:txBody>
          <a:bodyPr lIns="0" rIns="0" tIns="0" bIns="0" anchor="t">
            <a:noAutofit/>
          </a:bodyPr>
          <a:p>
            <a:pPr>
              <a:lnSpc>
                <a:spcPct val="90000"/>
              </a:lnSpc>
            </a:pPr>
            <a:r>
              <a:rPr b="1" lang="en-US" sz="4800" spc="-1" strike="noStrike">
                <a:solidFill>
                  <a:srgbClr val="fafd00"/>
                </a:solidFill>
                <a:latin typeface="Times New Roman"/>
                <a:ea typeface="Times New Roman"/>
              </a:rPr>
              <a:t>Q: “OLE 2 is hard”</a:t>
            </a:r>
            <a:br>
              <a:rPr sz="4800"/>
            </a:br>
            <a:r>
              <a:rPr b="1" lang="en-US" sz="4800" spc="-1" strike="noStrike">
                <a:solidFill>
                  <a:srgbClr val="fafd00"/>
                </a:solidFill>
                <a:latin typeface="Times New Roman"/>
                <a:ea typeface="Times New Roman"/>
              </a:rPr>
              <a:t>A: “Visual C++ Makes It Easy”</a:t>
            </a:r>
            <a:endParaRPr b="0" lang="en-US" sz="4800" spc="-1" strike="noStrike">
              <a:solidFill>
                <a:srgbClr val="ffffff"/>
              </a:solidFill>
              <a:latin typeface="Arial"/>
            </a:endParaRPr>
          </a:p>
        </p:txBody>
      </p:sp>
      <p:sp>
        <p:nvSpPr>
          <p:cNvPr id="160" name=""/>
          <p:cNvSpPr txBox="1"/>
          <p:nvPr/>
        </p:nvSpPr>
        <p:spPr>
          <a:xfrm>
            <a:off x="990720" y="173340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implementation of OLE2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19,000 lines of C++ code just for OLE2</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s existing  MFC 2.0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61" name=""/>
          <p:cNvSpPr txBox="1"/>
          <p:nvPr/>
        </p:nvSpPr>
        <p:spPr>
          <a:xfrm>
            <a:off x="485640" y="212760"/>
            <a:ext cx="8172360" cy="1849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Summary</a:t>
            </a:r>
            <a:br>
              <a:rPr sz="4800"/>
            </a:br>
            <a:r>
              <a:rPr b="1" i="1" lang="en-US" sz="4000" spc="-1" strike="noStrike">
                <a:solidFill>
                  <a:srgbClr val="fafd00"/>
                </a:solidFill>
                <a:latin typeface="Times New Roman"/>
                <a:ea typeface="Times New Roman"/>
              </a:rPr>
              <a:t>Setting new standards for Windows development</a:t>
            </a:r>
            <a:endParaRPr b="0" lang="en-US" sz="4000" spc="-1" strike="noStrike">
              <a:solidFill>
                <a:srgbClr val="ffffff"/>
              </a:solidFill>
              <a:latin typeface="Arial"/>
            </a:endParaRPr>
          </a:p>
        </p:txBody>
      </p:sp>
      <p:sp>
        <p:nvSpPr>
          <p:cNvPr id="162" name=""/>
          <p:cNvSpPr txBox="1"/>
          <p:nvPr/>
        </p:nvSpPr>
        <p:spPr>
          <a:xfrm>
            <a:off x="990720" y="247644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shortest path to reusable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performance, versatile databas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fe investment for the fu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63" name=""/>
          <p:cNvSpPr/>
          <p:nvPr/>
        </p:nvSpPr>
        <p:spPr>
          <a:xfrm>
            <a:off x="485640" y="228600"/>
            <a:ext cx="81741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65" name=""/>
          <p:cNvSpPr/>
          <p:nvPr/>
        </p:nvSpPr>
        <p:spPr>
          <a:xfrm>
            <a:off x="457200" y="990720"/>
            <a:ext cx="8464680" cy="3498840"/>
          </a:xfrm>
          <a:prstGeom prst="rect">
            <a:avLst/>
          </a:prstGeom>
          <a:gradFill rotWithShape="0">
            <a:gsLst>
              <a:gs pos="0">
                <a:srgbClr val="cecece"/>
              </a:gs>
              <a:gs pos="100000">
                <a:srgbClr val="676767"/>
              </a:gs>
            </a:gsLst>
            <a:path path="rect">
              <a:fillToRect l="100000" t="100000" r="0" b="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Family</a:t>
            </a:r>
            <a:endParaRPr b="0" lang="en-US" sz="4800" spc="-1" strike="noStrike">
              <a:solidFill>
                <a:srgbClr val="ffffff"/>
              </a:solidFill>
              <a:latin typeface="Arial"/>
            </a:endParaRPr>
          </a:p>
        </p:txBody>
      </p:sp>
      <p:sp>
        <p:nvSpPr>
          <p:cNvPr id="167" name=""/>
          <p:cNvSpPr txBox="1"/>
          <p:nvPr/>
        </p:nvSpPr>
        <p:spPr>
          <a:xfrm>
            <a:off x="520560" y="990720"/>
            <a:ext cx="8521560" cy="3508200"/>
          </a:xfrm>
          <a:prstGeom prst="rect">
            <a:avLst/>
          </a:prstGeom>
          <a:noFill/>
          <a:ln w="0">
            <a:noFill/>
          </a:ln>
        </p:spPr>
        <p:txBody>
          <a:bodyPr lIns="0" rIns="0" tIns="0" bIns="0" anchor="t">
            <a:noAutofit/>
          </a:bodyPr>
          <a:p>
            <a:pPr marL="1828800">
              <a:lnSpc>
                <a:spcPct val="100000"/>
              </a:lnSpc>
              <a:tabLst>
                <a:tab algn="l" pos="343080"/>
                <a:tab algn="l" pos="3657600"/>
              </a:tabLst>
            </a:pPr>
            <a:r>
              <a:rPr b="1" lang="en-US" sz="2800" spc="-1" strike="noStrike">
                <a:solidFill>
                  <a:srgbClr val="919191"/>
                </a:solidFill>
                <a:latin typeface="Times New Roman"/>
                <a:ea typeface="Times New Roman"/>
              </a:rPr>
              <a:t>	</a:t>
            </a:r>
            <a:r>
              <a:rPr b="1" lang="en-US" sz="2800" spc="-1" strike="noStrike">
                <a:solidFill>
                  <a:srgbClr val="fafd00"/>
                </a:solidFill>
                <a:latin typeface="Times New Roman"/>
                <a:ea typeface="Times New Roman"/>
              </a:rPr>
              <a:t>Professional</a:t>
            </a:r>
            <a:r>
              <a:rPr b="1" lang="en-US" sz="28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32-bit</a:t>
            </a:r>
            <a:endParaRPr b="0" lang="en-US" sz="2800" spc="-1" strike="noStrike">
              <a:solidFill>
                <a:srgbClr val="ffffff"/>
              </a:solidFill>
              <a:latin typeface="Arial"/>
            </a:endParaRPr>
          </a:p>
          <a:p>
            <a:pPr marL="2171880">
              <a:lnSpc>
                <a:spcPct val="100000"/>
              </a:lnSpc>
              <a:tabLst>
                <a:tab algn="l" pos="0"/>
                <a:tab algn="l" pos="3314880"/>
              </a:tabLst>
            </a:pPr>
            <a:r>
              <a:rPr b="1" lang="en-US" sz="2800" spc="-1" strike="noStrike">
                <a:solidFill>
                  <a:srgbClr val="fafd00"/>
                </a:solidFill>
                <a:latin typeface="Times New Roman"/>
                <a:ea typeface="Times New Roman"/>
              </a:rPr>
              <a:t>Edition 1.5</a:t>
            </a:r>
            <a:r>
              <a:rPr b="1" lang="en-US" sz="2800" spc="-1" strike="noStrike">
                <a:solidFill>
                  <a:srgbClr val="fafd00"/>
                </a:solidFill>
                <a:latin typeface="Times New Roman"/>
                <a:ea typeface="Times New Roman"/>
              </a:rPr>
              <a:t>	</a:t>
            </a:r>
            <a:r>
              <a:rPr b="1" lang="en-US" sz="2800" spc="-1" strike="noStrike">
                <a:solidFill>
                  <a:srgbClr val="fafd00"/>
                </a:solidFill>
                <a:latin typeface="Times New Roman"/>
                <a:ea typeface="Times New Roman"/>
              </a:rPr>
              <a:t>Edition</a:t>
            </a:r>
            <a:endParaRPr b="0" lang="en-US" sz="2800" spc="-1" strike="noStrike">
              <a:solidFill>
                <a:srgbClr val="ffffff"/>
              </a:solidFill>
              <a:latin typeface="Arial"/>
            </a:endParaRPr>
          </a:p>
          <a:p>
            <a:pPr marL="1828800">
              <a:lnSpc>
                <a:spcPct val="100000"/>
              </a:lnSpc>
              <a:tabLst>
                <a:tab algn="l" pos="343080"/>
                <a:tab algn="l" pos="3657600"/>
              </a:tabLst>
            </a:pPr>
            <a:endParaRPr b="0" lang="en-US" sz="2800" spc="-1" strike="noStrike">
              <a:solidFill>
                <a:srgbClr val="ffffff"/>
              </a:solidFill>
              <a:latin typeface="Arial"/>
            </a:endParaRPr>
          </a:p>
          <a:p>
            <a:pPr marL="57240">
              <a:lnSpc>
                <a:spcPct val="100000"/>
              </a:lnSpc>
              <a:tabLst>
                <a:tab algn="l" pos="1657440"/>
                <a:tab algn="l" pos="2114640"/>
                <a:tab algn="l" pos="5429160"/>
              </a:tabLst>
            </a:pPr>
            <a:r>
              <a:rPr b="1" lang="en-US" sz="2800" spc="-1" strike="noStrike">
                <a:solidFill>
                  <a:srgbClr val="fafd00"/>
                </a:solidFill>
                <a:latin typeface="Times New Roman"/>
                <a:ea typeface="Times New Roman"/>
              </a:rPr>
              <a:t>Host</a:t>
            </a:r>
            <a:r>
              <a:rPr b="1" lang="en-US" sz="2800" spc="-1" strike="noStrike">
                <a:solidFill>
                  <a:srgbClr val="fafd00"/>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ffffff"/>
                </a:solidFill>
                <a:latin typeface="Times New Roman"/>
                <a:ea typeface="Times New Roman"/>
              </a:rPr>
              <a:t>Windows 3.1/</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171880">
              <a:lnSpc>
                <a:spcPct val="100000"/>
              </a:lnSpc>
              <a:tabLst>
                <a:tab algn="l" pos="0"/>
                <a:tab algn="l" pos="3314880"/>
              </a:tabLst>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57240">
              <a:lnSpc>
                <a:spcPct val="100000"/>
              </a:lnSpc>
              <a:tabLst>
                <a:tab algn="l" pos="1657440"/>
                <a:tab algn="l" pos="2114640"/>
                <a:tab algn="l" pos="5429160"/>
              </a:tabLst>
            </a:pPr>
            <a:br>
              <a:rPr sz="2800"/>
            </a:br>
            <a:r>
              <a:rPr b="1" lang="en-US" sz="2800" spc="-1" strike="noStrike">
                <a:solidFill>
                  <a:srgbClr val="fafd00"/>
                </a:solidFill>
                <a:latin typeface="Times New Roman"/>
                <a:ea typeface="Times New Roman"/>
              </a:rPr>
              <a:t>Target</a:t>
            </a:r>
            <a:r>
              <a:rPr b="1" lang="en-US" sz="2800" spc="-1" strike="noStrike">
                <a:solidFill>
                  <a:srgbClr val="ffffff"/>
                </a:solidFill>
                <a:latin typeface="Times New Roman"/>
                <a:ea typeface="Times New Roman"/>
              </a:rPr>
              <a:t>	</a:t>
            </a:r>
            <a:r>
              <a:rPr b="1" lang="en-US" sz="2800" spc="-1" strike="noStrike">
                <a:solidFill>
                  <a:srgbClr val="919191"/>
                </a:solidFill>
                <a:latin typeface="Times New Roman"/>
                <a:ea typeface="Times New Roman"/>
              </a:rPr>
              <a:t>	</a:t>
            </a:r>
            <a:r>
              <a:rPr b="1" lang="en-US" sz="2800" spc="-1" strike="noStrike">
                <a:solidFill>
                  <a:srgbClr val="ffffff"/>
                </a:solidFill>
                <a:latin typeface="Times New Roman"/>
                <a:ea typeface="Times New Roman"/>
              </a:rPr>
              <a:t>Windows 3.1</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32s</a:t>
            </a:r>
            <a:endParaRPr b="0" lang="en-US" sz="2800" spc="-1" strike="noStrike">
              <a:solidFill>
                <a:srgbClr val="ffffff"/>
              </a:solidFill>
              <a:latin typeface="Arial"/>
            </a:endParaRPr>
          </a:p>
          <a:p>
            <a:pPr marL="57240">
              <a:lnSpc>
                <a:spcPct val="100000"/>
              </a:lnSpc>
              <a:tabLst>
                <a:tab algn="l" pos="1657440"/>
                <a:tab algn="l" pos="2114640"/>
                <a:tab algn="l" pos="542916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MS-DOS</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168" name=""/>
          <p:cNvSpPr/>
          <p:nvPr/>
        </p:nvSpPr>
        <p:spPr>
          <a:xfrm>
            <a:off x="457200" y="2021040"/>
            <a:ext cx="843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457200" y="3335400"/>
            <a:ext cx="845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70" name="" descr=""/>
          <p:cNvPicPr/>
          <p:nvPr/>
        </p:nvPicPr>
        <p:blipFill>
          <a:blip r:embed="rId1"/>
          <a:stretch/>
        </p:blipFill>
        <p:spPr>
          <a:xfrm>
            <a:off x="6140520" y="4549680"/>
            <a:ext cx="1859040" cy="2260440"/>
          </a:xfrm>
          <a:prstGeom prst="rect">
            <a:avLst/>
          </a:prstGeom>
          <a:ln w="0">
            <a:noFill/>
          </a:ln>
        </p:spPr>
      </p:pic>
      <p:pic>
        <p:nvPicPr>
          <p:cNvPr id="171" name="" descr=""/>
          <p:cNvPicPr/>
          <p:nvPr/>
        </p:nvPicPr>
        <p:blipFill>
          <a:blip r:embed="rId2"/>
          <a:stretch/>
        </p:blipFill>
        <p:spPr>
          <a:xfrm>
            <a:off x="2774880" y="4535640"/>
            <a:ext cx="1797120" cy="2260440"/>
          </a:xfrm>
          <a:prstGeom prst="rect">
            <a:avLst/>
          </a:prstGeom>
          <a:ln w="0">
            <a:noFill/>
          </a:ln>
        </p:spPr>
      </p:pic>
      <p:sp>
        <p:nvSpPr>
          <p:cNvPr id="172" name=""/>
          <p:cNvSpPr/>
          <p:nvPr/>
        </p:nvSpPr>
        <p:spPr>
          <a:xfrm>
            <a:off x="2001960" y="1004760"/>
            <a:ext cx="0" cy="348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5319720" y="990720"/>
            <a:ext cx="0" cy="34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ricing</a:t>
            </a:r>
            <a:endParaRPr b="0" lang="en-US" sz="4800" spc="-1" strike="noStrike">
              <a:solidFill>
                <a:srgbClr val="ffffff"/>
              </a:solidFill>
              <a:latin typeface="Arial"/>
            </a:endParaRPr>
          </a:p>
        </p:txBody>
      </p:sp>
      <p:sp>
        <p:nvSpPr>
          <p:cNvPr id="175" name=""/>
          <p:cNvSpPr txBox="1"/>
          <p:nvPr/>
        </p:nvSpPr>
        <p:spPr>
          <a:xfrm>
            <a:off x="57240" y="1467000"/>
            <a:ext cx="9029880" cy="464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pgrades/Special off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5 $99 (Visual C++ us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32Bit Edition $99* (Visual C++ us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6/32Bit Suite $199 (Microsoft Tools us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Retai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5 $599</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C++ 16/32Bit Suite $749</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D-ROM bundles too!</a:t>
            </a:r>
            <a:endParaRPr b="0" lang="en-US" sz="3200" spc="-1" strike="noStrike">
              <a:solidFill>
                <a:srgbClr val="ffffff"/>
              </a:solidFill>
              <a:latin typeface="Arial"/>
            </a:endParaRPr>
          </a:p>
        </p:txBody>
      </p:sp>
      <p:sp>
        <p:nvSpPr>
          <p:cNvPr id="176" name=""/>
          <p:cNvSpPr txBox="1"/>
          <p:nvPr/>
        </p:nvSpPr>
        <p:spPr>
          <a:xfrm>
            <a:off x="612720" y="6319800"/>
            <a:ext cx="521172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 Until December 31, 1993. Offer will change to $13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7" name=""/>
          <p:cNvSpPr txBox="1"/>
          <p:nvPr/>
        </p:nvSpPr>
        <p:spPr>
          <a:xfrm>
            <a:off x="485640" y="212760"/>
            <a:ext cx="8172360" cy="1849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Summary</a:t>
            </a:r>
            <a:br>
              <a:rPr sz="4800"/>
            </a:br>
            <a:r>
              <a:rPr b="1" i="1" lang="en-US" sz="4000" spc="-1" strike="noStrike">
                <a:solidFill>
                  <a:srgbClr val="fafd00"/>
                </a:solidFill>
                <a:latin typeface="Times New Roman"/>
                <a:ea typeface="Times New Roman"/>
              </a:rPr>
              <a:t>Setting new standards for Windows development</a:t>
            </a:r>
            <a:endParaRPr b="0" lang="en-US" sz="4000" spc="-1" strike="noStrike">
              <a:solidFill>
                <a:srgbClr val="ffffff"/>
              </a:solidFill>
              <a:latin typeface="Arial"/>
            </a:endParaRPr>
          </a:p>
        </p:txBody>
      </p:sp>
      <p:sp>
        <p:nvSpPr>
          <p:cNvPr id="178" name=""/>
          <p:cNvSpPr txBox="1"/>
          <p:nvPr/>
        </p:nvSpPr>
        <p:spPr>
          <a:xfrm>
            <a:off x="990720" y="2476440"/>
            <a:ext cx="716292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shortest path to reusable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performance, versatile databas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fe investment for the fu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79" name=""/>
          <p:cNvSpPr txBox="1"/>
          <p:nvPr/>
        </p:nvSpPr>
        <p:spPr>
          <a:xfrm>
            <a:off x="1028880" y="22860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2.0 Family</a:t>
            </a:r>
            <a:endParaRPr b="0" lang="en-US" sz="4800" spc="-1" strike="noStrike">
              <a:solidFill>
                <a:srgbClr val="ffffff"/>
              </a:solidFill>
              <a:latin typeface="Arial"/>
            </a:endParaRPr>
          </a:p>
        </p:txBody>
      </p:sp>
      <p:sp>
        <p:nvSpPr>
          <p:cNvPr id="180" name=""/>
          <p:cNvSpPr/>
          <p:nvPr/>
        </p:nvSpPr>
        <p:spPr>
          <a:xfrm>
            <a:off x="1251000" y="1581120"/>
            <a:ext cx="4875480" cy="4637520"/>
          </a:xfrm>
          <a:custGeom>
            <a:avLst/>
            <a:gdLst/>
            <a:ahLst/>
            <a:rect l="0" t="0" r="r" b="b"/>
            <a:pathLst>
              <a:path w="13543" h="12882">
                <a:moveTo>
                  <a:pt x="9987" y="12882"/>
                </a:moveTo>
                <a:lnTo>
                  <a:pt x="13543" y="10838"/>
                </a:lnTo>
                <a:lnTo>
                  <a:pt x="9987" y="8802"/>
                </a:lnTo>
                <a:lnTo>
                  <a:pt x="9987" y="9562"/>
                </a:lnTo>
                <a:lnTo>
                  <a:pt x="9446" y="9566"/>
                </a:lnTo>
                <a:lnTo>
                  <a:pt x="8996" y="9535"/>
                </a:lnTo>
                <a:lnTo>
                  <a:pt x="8552" y="9499"/>
                </a:lnTo>
                <a:lnTo>
                  <a:pt x="8114" y="9435"/>
                </a:lnTo>
                <a:lnTo>
                  <a:pt x="7676" y="9347"/>
                </a:lnTo>
                <a:lnTo>
                  <a:pt x="7250" y="9264"/>
                </a:lnTo>
                <a:lnTo>
                  <a:pt x="6841" y="9144"/>
                </a:lnTo>
                <a:lnTo>
                  <a:pt x="6431" y="9013"/>
                </a:lnTo>
                <a:lnTo>
                  <a:pt x="6033" y="8869"/>
                </a:lnTo>
                <a:lnTo>
                  <a:pt x="5658" y="8698"/>
                </a:lnTo>
                <a:lnTo>
                  <a:pt x="5301" y="8515"/>
                </a:lnTo>
                <a:lnTo>
                  <a:pt x="4944" y="8327"/>
                </a:lnTo>
                <a:lnTo>
                  <a:pt x="4627" y="8124"/>
                </a:lnTo>
                <a:lnTo>
                  <a:pt x="4321" y="7905"/>
                </a:lnTo>
                <a:lnTo>
                  <a:pt x="4039" y="7674"/>
                </a:lnTo>
                <a:lnTo>
                  <a:pt x="3768" y="7423"/>
                </a:lnTo>
                <a:lnTo>
                  <a:pt x="3544" y="7176"/>
                </a:lnTo>
                <a:lnTo>
                  <a:pt x="3336" y="6917"/>
                </a:lnTo>
                <a:lnTo>
                  <a:pt x="3134" y="6646"/>
                </a:lnTo>
                <a:lnTo>
                  <a:pt x="2985" y="6363"/>
                </a:lnTo>
                <a:lnTo>
                  <a:pt x="2835" y="6088"/>
                </a:lnTo>
                <a:lnTo>
                  <a:pt x="2737" y="5801"/>
                </a:lnTo>
                <a:lnTo>
                  <a:pt x="2650" y="5503"/>
                </a:lnTo>
                <a:lnTo>
                  <a:pt x="2593" y="5212"/>
                </a:lnTo>
                <a:lnTo>
                  <a:pt x="2564" y="4917"/>
                </a:lnTo>
                <a:lnTo>
                  <a:pt x="2564" y="4614"/>
                </a:lnTo>
                <a:lnTo>
                  <a:pt x="2604" y="4315"/>
                </a:lnTo>
                <a:lnTo>
                  <a:pt x="2650" y="4032"/>
                </a:lnTo>
                <a:lnTo>
                  <a:pt x="2743" y="3730"/>
                </a:lnTo>
                <a:lnTo>
                  <a:pt x="2852" y="3447"/>
                </a:lnTo>
                <a:lnTo>
                  <a:pt x="2996" y="3163"/>
                </a:lnTo>
                <a:lnTo>
                  <a:pt x="3163" y="2888"/>
                </a:lnTo>
                <a:lnTo>
                  <a:pt x="3353" y="2617"/>
                </a:lnTo>
                <a:lnTo>
                  <a:pt x="3567" y="2362"/>
                </a:lnTo>
                <a:lnTo>
                  <a:pt x="3814" y="2107"/>
                </a:lnTo>
                <a:lnTo>
                  <a:pt x="4079" y="1868"/>
                </a:lnTo>
                <a:lnTo>
                  <a:pt x="4362" y="1633"/>
                </a:lnTo>
                <a:lnTo>
                  <a:pt x="4667" y="1414"/>
                </a:lnTo>
                <a:lnTo>
                  <a:pt x="4996" y="1219"/>
                </a:lnTo>
                <a:lnTo>
                  <a:pt x="5359" y="1023"/>
                </a:lnTo>
                <a:lnTo>
                  <a:pt x="5699" y="848"/>
                </a:lnTo>
                <a:lnTo>
                  <a:pt x="6091" y="685"/>
                </a:lnTo>
                <a:lnTo>
                  <a:pt x="6477" y="533"/>
                </a:lnTo>
                <a:lnTo>
                  <a:pt x="6881" y="410"/>
                </a:lnTo>
                <a:lnTo>
                  <a:pt x="7313" y="294"/>
                </a:lnTo>
                <a:lnTo>
                  <a:pt x="7722" y="207"/>
                </a:lnTo>
                <a:lnTo>
                  <a:pt x="8166" y="119"/>
                </a:lnTo>
                <a:lnTo>
                  <a:pt x="8708" y="0"/>
                </a:lnTo>
                <a:lnTo>
                  <a:pt x="8207" y="47"/>
                </a:lnTo>
                <a:lnTo>
                  <a:pt x="7676" y="119"/>
                </a:lnTo>
                <a:lnTo>
                  <a:pt x="7163" y="199"/>
                </a:lnTo>
                <a:lnTo>
                  <a:pt x="6667" y="294"/>
                </a:lnTo>
                <a:lnTo>
                  <a:pt x="6160" y="410"/>
                </a:lnTo>
                <a:lnTo>
                  <a:pt x="5693" y="537"/>
                </a:lnTo>
                <a:lnTo>
                  <a:pt x="5215" y="685"/>
                </a:lnTo>
                <a:lnTo>
                  <a:pt x="4754" y="852"/>
                </a:lnTo>
                <a:lnTo>
                  <a:pt x="4310" y="1027"/>
                </a:lnTo>
                <a:lnTo>
                  <a:pt x="3884" y="1219"/>
                </a:lnTo>
                <a:lnTo>
                  <a:pt x="3474" y="1426"/>
                </a:lnTo>
                <a:lnTo>
                  <a:pt x="3094" y="1633"/>
                </a:lnTo>
                <a:lnTo>
                  <a:pt x="2719" y="1868"/>
                </a:lnTo>
                <a:lnTo>
                  <a:pt x="2362" y="2107"/>
                </a:lnTo>
                <a:lnTo>
                  <a:pt x="2028" y="2362"/>
                </a:lnTo>
                <a:lnTo>
                  <a:pt x="1723" y="2621"/>
                </a:lnTo>
                <a:lnTo>
                  <a:pt x="1440" y="2896"/>
                </a:lnTo>
                <a:lnTo>
                  <a:pt x="1175" y="3171"/>
                </a:lnTo>
                <a:lnTo>
                  <a:pt x="945" y="3463"/>
                </a:lnTo>
                <a:lnTo>
                  <a:pt x="720" y="3762"/>
                </a:lnTo>
                <a:lnTo>
                  <a:pt x="541" y="4060"/>
                </a:lnTo>
                <a:lnTo>
                  <a:pt x="374" y="4367"/>
                </a:lnTo>
                <a:lnTo>
                  <a:pt x="247" y="4678"/>
                </a:lnTo>
                <a:lnTo>
                  <a:pt x="155" y="4997"/>
                </a:lnTo>
                <a:lnTo>
                  <a:pt x="69" y="5319"/>
                </a:lnTo>
                <a:lnTo>
                  <a:pt x="23" y="5638"/>
                </a:lnTo>
                <a:lnTo>
                  <a:pt x="0" y="5961"/>
                </a:lnTo>
                <a:lnTo>
                  <a:pt x="5" y="6284"/>
                </a:lnTo>
                <a:lnTo>
                  <a:pt x="46" y="6598"/>
                </a:lnTo>
                <a:lnTo>
                  <a:pt x="103" y="6921"/>
                </a:lnTo>
                <a:lnTo>
                  <a:pt x="195" y="7244"/>
                </a:lnTo>
                <a:lnTo>
                  <a:pt x="316" y="7558"/>
                </a:lnTo>
                <a:lnTo>
                  <a:pt x="455" y="7861"/>
                </a:lnTo>
                <a:lnTo>
                  <a:pt x="633" y="8168"/>
                </a:lnTo>
                <a:lnTo>
                  <a:pt x="829" y="8475"/>
                </a:lnTo>
                <a:lnTo>
                  <a:pt x="1060" y="8766"/>
                </a:lnTo>
                <a:lnTo>
                  <a:pt x="1308" y="9049"/>
                </a:lnTo>
                <a:lnTo>
                  <a:pt x="1584" y="9319"/>
                </a:lnTo>
                <a:lnTo>
                  <a:pt x="1878" y="9590"/>
                </a:lnTo>
                <a:lnTo>
                  <a:pt x="2195" y="9846"/>
                </a:lnTo>
                <a:lnTo>
                  <a:pt x="2541" y="10093"/>
                </a:lnTo>
                <a:lnTo>
                  <a:pt x="2898" y="10332"/>
                </a:lnTo>
                <a:lnTo>
                  <a:pt x="3278" y="10552"/>
                </a:lnTo>
                <a:lnTo>
                  <a:pt x="3682" y="10755"/>
                </a:lnTo>
                <a:lnTo>
                  <a:pt x="4103" y="10958"/>
                </a:lnTo>
                <a:lnTo>
                  <a:pt x="4540" y="11133"/>
                </a:lnTo>
                <a:lnTo>
                  <a:pt x="4996" y="11305"/>
                </a:lnTo>
                <a:lnTo>
                  <a:pt x="5457" y="11452"/>
                </a:lnTo>
                <a:lnTo>
                  <a:pt x="5929" y="11599"/>
                </a:lnTo>
                <a:lnTo>
                  <a:pt x="6419" y="11723"/>
                </a:lnTo>
                <a:lnTo>
                  <a:pt x="6921" y="11826"/>
                </a:lnTo>
                <a:lnTo>
                  <a:pt x="7429" y="11926"/>
                </a:lnTo>
                <a:lnTo>
                  <a:pt x="7953" y="11994"/>
                </a:lnTo>
                <a:lnTo>
                  <a:pt x="8477" y="12054"/>
                </a:lnTo>
                <a:lnTo>
                  <a:pt x="8996" y="12089"/>
                </a:lnTo>
                <a:lnTo>
                  <a:pt x="9987" y="12145"/>
                </a:lnTo>
                <a:lnTo>
                  <a:pt x="9987" y="12882"/>
                </a:lnTo>
                <a:close/>
              </a:path>
            </a:pathLst>
          </a:custGeom>
          <a:gradFill rotWithShape="0">
            <a:gsLst>
              <a:gs pos="0">
                <a:srgbClr val="000000"/>
              </a:gs>
              <a:gs pos="100000">
                <a:srgbClr val="cecec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1203480" y="2006640"/>
            <a:ext cx="1190520" cy="1447920"/>
          </a:xfrm>
          <a:prstGeom prst="rect">
            <a:avLst/>
          </a:prstGeom>
          <a:ln w="0">
            <a:noFill/>
          </a:ln>
        </p:spPr>
      </p:pic>
      <p:pic>
        <p:nvPicPr>
          <p:cNvPr id="182" name="" descr=""/>
          <p:cNvPicPr/>
          <p:nvPr/>
        </p:nvPicPr>
        <p:blipFill>
          <a:blip r:embed="rId2"/>
          <a:stretch/>
        </p:blipFill>
        <p:spPr>
          <a:xfrm>
            <a:off x="2994120" y="3411360"/>
            <a:ext cx="1638360" cy="1990800"/>
          </a:xfrm>
          <a:prstGeom prst="rect">
            <a:avLst/>
          </a:prstGeom>
          <a:ln w="0">
            <a:noFill/>
          </a:ln>
        </p:spPr>
      </p:pic>
      <p:pic>
        <p:nvPicPr>
          <p:cNvPr id="183" name="" descr=""/>
          <p:cNvPicPr/>
          <p:nvPr/>
        </p:nvPicPr>
        <p:blipFill>
          <a:blip r:embed="rId3"/>
          <a:stretch/>
        </p:blipFill>
        <p:spPr>
          <a:xfrm>
            <a:off x="6240600" y="4211640"/>
            <a:ext cx="1862280" cy="2262240"/>
          </a:xfrm>
          <a:prstGeom prst="rect">
            <a:avLst/>
          </a:prstGeom>
          <a:ln w="0">
            <a:noFill/>
          </a:ln>
        </p:spPr>
      </p:pic>
      <p:sp>
        <p:nvSpPr>
          <p:cNvPr id="184" name=""/>
          <p:cNvSpPr txBox="1"/>
          <p:nvPr/>
        </p:nvSpPr>
        <p:spPr>
          <a:xfrm>
            <a:off x="801720" y="126036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p:txBody>
      </p:sp>
      <p:sp>
        <p:nvSpPr>
          <p:cNvPr id="185" name=""/>
          <p:cNvSpPr txBox="1"/>
          <p:nvPr/>
        </p:nvSpPr>
        <p:spPr>
          <a:xfrm>
            <a:off x="2744640" y="259380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Macintosh</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186" name=""/>
          <p:cNvSpPr txBox="1"/>
          <p:nvPr/>
        </p:nvSpPr>
        <p:spPr>
          <a:xfrm>
            <a:off x="6059520" y="3298680"/>
            <a:ext cx="211464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sual C++ 2.0</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RISC</a:t>
            </a:r>
            <a:endParaRPr b="0" lang="en-US" sz="2400" spc="-1" strike="noStrike">
              <a:solidFill>
                <a:srgbClr val="ffffff"/>
              </a:solidFill>
              <a:latin typeface="Arial"/>
            </a:endParaRPr>
          </a:p>
        </p:txBody>
      </p:sp>
      <p:sp>
        <p:nvSpPr>
          <p:cNvPr id="187" name=""/>
          <p:cNvSpPr txBox="1"/>
          <p:nvPr/>
        </p:nvSpPr>
        <p:spPr>
          <a:xfrm>
            <a:off x="5765760" y="1984320"/>
            <a:ext cx="2986200" cy="822240"/>
          </a:xfrm>
          <a:prstGeom prst="rect">
            <a:avLst/>
          </a:prstGeom>
          <a:noFill/>
          <a:ln w="0">
            <a:noFill/>
          </a:ln>
        </p:spPr>
        <p:txBody>
          <a:bodyPr lIns="0" rIns="0" tIns="0" bIns="0" anchor="t">
            <a:noAutofit/>
          </a:bodyPr>
          <a:p>
            <a:pPr>
              <a:lnSpc>
                <a:spcPct val="100000"/>
              </a:lnSpc>
            </a:pPr>
            <a:r>
              <a:rPr b="1" lang="en-US" sz="2400" spc="-1" strike="noStrike">
                <a:solidFill>
                  <a:srgbClr val="80fff0"/>
                </a:solidFill>
                <a:latin typeface="Times New Roman"/>
                <a:ea typeface="Times New Roman"/>
              </a:rPr>
              <a:t>Host:  Win32</a:t>
            </a:r>
            <a:r>
              <a:rPr b="1" lang="en-US" sz="2400" spc="-1" strike="noStrike" baseline="30000">
                <a:solidFill>
                  <a:srgbClr val="80fff0"/>
                </a:solidFill>
                <a:latin typeface="Times New Roman"/>
                <a:ea typeface="Times New Roman"/>
              </a:rPr>
              <a:t>®</a:t>
            </a:r>
            <a:r>
              <a:rPr b="1" lang="en-US" sz="2400" spc="-1" strike="noStrike">
                <a:solidFill>
                  <a:srgbClr val="80fff0"/>
                </a:solidFill>
                <a:latin typeface="Times New Roman"/>
                <a:ea typeface="Times New Roman"/>
              </a:rPr>
              <a:t> RISC</a:t>
            </a:r>
            <a:endParaRPr b="0" lang="en-US" sz="2400" spc="-1" strike="noStrike">
              <a:solidFill>
                <a:srgbClr val="ffffff"/>
              </a:solidFill>
              <a:latin typeface="Arial"/>
            </a:endParaRPr>
          </a:p>
          <a:p>
            <a:pPr>
              <a:lnSpc>
                <a:spcPct val="100000"/>
              </a:lnSpc>
            </a:pPr>
            <a:r>
              <a:rPr b="1" lang="en-US" sz="2400" spc="-1" strike="noStrike">
                <a:solidFill>
                  <a:srgbClr val="80fff0"/>
                </a:solidFill>
                <a:latin typeface="Times New Roman"/>
                <a:ea typeface="Times New Roman"/>
              </a:rPr>
              <a:t>Target:  Win32 RIS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88"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 name=""/>
          <p:cNvSpPr/>
          <p:nvPr/>
        </p:nvSpPr>
        <p:spPr>
          <a:xfrm>
            <a:off x="4479840" y="3382920"/>
            <a:ext cx="184320" cy="92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2.0 Productivity</a:t>
            </a:r>
            <a:endParaRPr b="0" lang="en-US" sz="4800" spc="-1" strike="noStrike">
              <a:solidFill>
                <a:srgbClr val="ffffff"/>
              </a:solidFill>
              <a:latin typeface="Arial"/>
            </a:endParaRPr>
          </a:p>
        </p:txBody>
      </p:sp>
      <p:sp>
        <p:nvSpPr>
          <p:cNvPr id="191" name=""/>
          <p:cNvSpPr txBox="1"/>
          <p:nvPr/>
        </p:nvSpPr>
        <p:spPr>
          <a:xfrm>
            <a:off x="1206360" y="1739880"/>
            <a:ext cx="6730920" cy="3159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letely redesigned integrated development environment (I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templates and exception handl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 to .EXE in second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owser “on dem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ortability</a:t>
            </a:r>
            <a:br>
              <a:rPr sz="4800"/>
            </a:br>
            <a:r>
              <a:rPr b="1" lang="en-US" sz="4800" spc="-1" strike="noStrike">
                <a:solidFill>
                  <a:srgbClr val="fafd00"/>
                </a:solidFill>
                <a:latin typeface="Times New Roman"/>
                <a:ea typeface="Times New Roman"/>
              </a:rPr>
              <a:t>Multiplatform Editions</a:t>
            </a:r>
            <a:endParaRPr b="0" lang="en-US" sz="4800" spc="-1" strike="noStrike">
              <a:solidFill>
                <a:srgbClr val="ffffff"/>
              </a:solidFill>
              <a:latin typeface="Arial"/>
            </a:endParaRPr>
          </a:p>
        </p:txBody>
      </p:sp>
      <p:sp>
        <p:nvSpPr>
          <p:cNvPr id="193" name=""/>
          <p:cNvSpPr txBox="1"/>
          <p:nvPr/>
        </p:nvSpPr>
        <p:spPr>
          <a:xfrm>
            <a:off x="1160640" y="1892160"/>
            <a:ext cx="6823080" cy="3821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perating syste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ndows NT is the same everywher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ebugger, IDE, etc., alik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language implementation</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 templates, exceptions,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Is (Win32, MFC,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94" name=""/>
          <p:cNvSpPr txBox="1"/>
          <p:nvPr/>
        </p:nvSpPr>
        <p:spPr>
          <a:xfrm>
            <a:off x="485640" y="2318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ultiplatform Architecture</a:t>
            </a:r>
            <a:endParaRPr b="0" lang="en-US" sz="4800" spc="-1" strike="noStrike">
              <a:solidFill>
                <a:srgbClr val="ffffff"/>
              </a:solidFill>
              <a:latin typeface="Arial"/>
            </a:endParaRPr>
          </a:p>
        </p:txBody>
      </p:sp>
      <p:sp>
        <p:nvSpPr>
          <p:cNvPr id="195" name=""/>
          <p:cNvSpPr/>
          <p:nvPr/>
        </p:nvSpPr>
        <p:spPr>
          <a:xfrm>
            <a:off x="7334280" y="2117880"/>
            <a:ext cx="0" cy="13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335560" y="4124160"/>
            <a:ext cx="6480" cy="363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5337000" y="2119320"/>
            <a:ext cx="5040" cy="377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5335560" y="3162240"/>
            <a:ext cx="6480" cy="331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txBox="1"/>
          <p:nvPr/>
        </p:nvSpPr>
        <p:spPr>
          <a:xfrm>
            <a:off x="770040" y="1550880"/>
            <a:ext cx="17082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p:txBody>
      </p:sp>
      <p:sp>
        <p:nvSpPr>
          <p:cNvPr id="200" name=""/>
          <p:cNvSpPr txBox="1"/>
          <p:nvPr/>
        </p:nvSpPr>
        <p:spPr>
          <a:xfrm>
            <a:off x="770040" y="2422440"/>
            <a:ext cx="1708200" cy="82224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a:p>
            <a:pPr algn="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ffffff"/>
              </a:solidFill>
              <a:latin typeface="Arial"/>
            </a:endParaRPr>
          </a:p>
        </p:txBody>
      </p:sp>
      <p:sp>
        <p:nvSpPr>
          <p:cNvPr id="201" name=""/>
          <p:cNvSpPr txBox="1"/>
          <p:nvPr/>
        </p:nvSpPr>
        <p:spPr>
          <a:xfrm>
            <a:off x="762120" y="3568680"/>
            <a:ext cx="171612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ffffff"/>
              </a:solidFill>
              <a:latin typeface="Arial"/>
            </a:endParaRPr>
          </a:p>
        </p:txBody>
      </p:sp>
      <p:sp>
        <p:nvSpPr>
          <p:cNvPr id="202" name=""/>
          <p:cNvSpPr/>
          <p:nvPr/>
        </p:nvSpPr>
        <p:spPr>
          <a:xfrm>
            <a:off x="2579760" y="2523960"/>
            <a:ext cx="4589640" cy="61596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4435560" y="2604960"/>
            <a:ext cx="878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a:t>
            </a:r>
            <a:endParaRPr b="0" lang="en-US" sz="2400" spc="-1" strike="noStrike">
              <a:solidFill>
                <a:srgbClr val="ffffff"/>
              </a:solidFill>
              <a:latin typeface="Arial"/>
            </a:endParaRPr>
          </a:p>
        </p:txBody>
      </p:sp>
      <p:sp>
        <p:nvSpPr>
          <p:cNvPr id="204" name=""/>
          <p:cNvSpPr/>
          <p:nvPr/>
        </p:nvSpPr>
        <p:spPr>
          <a:xfrm>
            <a:off x="2579760" y="3516480"/>
            <a:ext cx="551988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3917880" y="3564000"/>
            <a:ext cx="2841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32 subsystem</a:t>
            </a:r>
            <a:endParaRPr b="0" lang="en-US" sz="2800" spc="-1" strike="noStrike">
              <a:solidFill>
                <a:srgbClr val="ffffff"/>
              </a:solidFill>
              <a:latin typeface="Arial"/>
            </a:endParaRPr>
          </a:p>
        </p:txBody>
      </p:sp>
      <p:sp>
        <p:nvSpPr>
          <p:cNvPr id="206" name=""/>
          <p:cNvSpPr txBox="1"/>
          <p:nvPr/>
        </p:nvSpPr>
        <p:spPr>
          <a:xfrm>
            <a:off x="0" y="4570560"/>
            <a:ext cx="247824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ffffff"/>
              </a:solidFill>
              <a:latin typeface="Arial"/>
            </a:endParaRPr>
          </a:p>
        </p:txBody>
      </p:sp>
      <p:sp>
        <p:nvSpPr>
          <p:cNvPr id="207" name=""/>
          <p:cNvSpPr txBox="1"/>
          <p:nvPr/>
        </p:nvSpPr>
        <p:spPr>
          <a:xfrm>
            <a:off x="957240" y="5573880"/>
            <a:ext cx="1521000" cy="457200"/>
          </a:xfrm>
          <a:prstGeom prst="rect">
            <a:avLst/>
          </a:prstGeom>
          <a:noFill/>
          <a:ln w="0">
            <a:noFill/>
          </a:ln>
        </p:spPr>
        <p:txBody>
          <a:bodyPr lIns="0" rIns="0" tIns="0" bIns="0" anchor="t">
            <a:noAutofit/>
          </a:bodyPr>
          <a:p>
            <a:pPr algn="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208" name=""/>
          <p:cNvSpPr/>
          <p:nvPr/>
        </p:nvSpPr>
        <p:spPr>
          <a:xfrm>
            <a:off x="2579760" y="5513400"/>
            <a:ext cx="103032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2697120" y="559584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ntel</a:t>
            </a:r>
            <a:endParaRPr b="0" lang="en-US" sz="2400" spc="-1" strike="noStrike">
              <a:solidFill>
                <a:srgbClr val="ffffff"/>
              </a:solidFill>
              <a:latin typeface="Arial"/>
            </a:endParaRPr>
          </a:p>
        </p:txBody>
      </p:sp>
      <p:sp>
        <p:nvSpPr>
          <p:cNvPr id="210" name=""/>
          <p:cNvSpPr/>
          <p:nvPr/>
        </p:nvSpPr>
        <p:spPr>
          <a:xfrm>
            <a:off x="3781440" y="5513400"/>
            <a:ext cx="103176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3824280" y="5595840"/>
            <a:ext cx="946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PS</a:t>
            </a:r>
            <a:endParaRPr b="0" lang="en-US" sz="2400" spc="-1" strike="noStrike">
              <a:solidFill>
                <a:srgbClr val="ffffff"/>
              </a:solidFill>
              <a:latin typeface="Arial"/>
            </a:endParaRPr>
          </a:p>
        </p:txBody>
      </p:sp>
      <p:sp>
        <p:nvSpPr>
          <p:cNvPr id="212" name=""/>
          <p:cNvSpPr/>
          <p:nvPr/>
        </p:nvSpPr>
        <p:spPr>
          <a:xfrm>
            <a:off x="5057640" y="5513400"/>
            <a:ext cx="1030320" cy="6238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081760" y="5595840"/>
            <a:ext cx="98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pha</a:t>
            </a:r>
            <a:endParaRPr b="0" lang="en-US" sz="2400" spc="-1" strike="noStrike">
              <a:solidFill>
                <a:srgbClr val="ffffff"/>
              </a:solidFill>
              <a:latin typeface="Arial"/>
            </a:endParaRPr>
          </a:p>
        </p:txBody>
      </p:sp>
      <p:sp>
        <p:nvSpPr>
          <p:cNvPr id="214" name=""/>
          <p:cNvSpPr/>
          <p:nvPr/>
        </p:nvSpPr>
        <p:spPr>
          <a:xfrm>
            <a:off x="6405480" y="5513400"/>
            <a:ext cx="1720800" cy="63180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6383160" y="5600520"/>
            <a:ext cx="1766880" cy="457200"/>
          </a:xfrm>
          <a:prstGeom prst="rect">
            <a:avLst/>
          </a:prstGeom>
          <a:noFill/>
          <a:ln w="0">
            <a:noFill/>
          </a:ln>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Other RISC</a:t>
            </a:r>
            <a:endParaRPr b="0" lang="en-US" sz="2400" spc="-1" strike="noStrike">
              <a:solidFill>
                <a:srgbClr val="ffffff"/>
              </a:solidFill>
              <a:latin typeface="Arial"/>
            </a:endParaRPr>
          </a:p>
        </p:txBody>
      </p:sp>
      <p:sp>
        <p:nvSpPr>
          <p:cNvPr id="216" name=""/>
          <p:cNvSpPr/>
          <p:nvPr/>
        </p:nvSpPr>
        <p:spPr>
          <a:xfrm>
            <a:off x="2579760" y="1498680"/>
            <a:ext cx="551988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3625920" y="158256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ffffff"/>
              </a:solidFill>
              <a:latin typeface="Arial"/>
            </a:endParaRPr>
          </a:p>
        </p:txBody>
      </p:sp>
      <p:sp>
        <p:nvSpPr>
          <p:cNvPr id="218" name=""/>
          <p:cNvSpPr/>
          <p:nvPr/>
        </p:nvSpPr>
        <p:spPr>
          <a:xfrm>
            <a:off x="3182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p:nvPr/>
        </p:nvSpPr>
        <p:spPr>
          <a:xfrm>
            <a:off x="432576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0" name=""/>
          <p:cNvSpPr/>
          <p:nvPr/>
        </p:nvSpPr>
        <p:spPr>
          <a:xfrm>
            <a:off x="55450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a:off x="7145280" y="512136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2579760" y="4525920"/>
            <a:ext cx="55198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243320" y="4572000"/>
            <a:ext cx="21906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1" name=""/>
          <p:cNvSpPr txBox="1"/>
          <p:nvPr/>
        </p:nvSpPr>
        <p:spPr>
          <a:xfrm>
            <a:off x="47520" y="154080"/>
            <a:ext cx="9048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22" name=""/>
          <p:cNvSpPr txBox="1"/>
          <p:nvPr/>
        </p:nvSpPr>
        <p:spPr>
          <a:xfrm>
            <a:off x="3720960" y="2271600"/>
            <a:ext cx="5410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roduc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1.5</a:t>
            </a:r>
            <a:endParaRPr b="0" lang="en-US" sz="3200" spc="-1" strike="noStrike">
              <a:solidFill>
                <a:srgbClr val="ffffff"/>
              </a:solidFill>
              <a:latin typeface="Arial"/>
            </a:endParaRPr>
          </a:p>
        </p:txBody>
      </p:sp>
      <p:pic>
        <p:nvPicPr>
          <p:cNvPr id="123" name="" descr=""/>
          <p:cNvPicPr/>
          <p:nvPr/>
        </p:nvPicPr>
        <p:blipFill>
          <a:blip r:embed="rId1"/>
          <a:stretch/>
        </p:blipFill>
        <p:spPr>
          <a:xfrm>
            <a:off x="874800" y="2001960"/>
            <a:ext cx="2289240" cy="288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24" name=""/>
          <p:cNvSpPr txBox="1"/>
          <p:nvPr/>
        </p:nvSpPr>
        <p:spPr>
          <a:xfrm>
            <a:off x="542880" y="228600"/>
            <a:ext cx="805968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Portability</a:t>
            </a:r>
            <a:br>
              <a:rPr sz="4800"/>
            </a:br>
            <a:r>
              <a:rPr b="1" lang="en-US" sz="3600" spc="-1" strike="noStrike">
                <a:solidFill>
                  <a:srgbClr val="ffffff"/>
                </a:solidFill>
                <a:latin typeface="Times New Roman"/>
                <a:ea typeface="Times New Roman"/>
              </a:rPr>
              <a:t>Macintosh cross-development edition</a:t>
            </a:r>
            <a:endParaRPr b="0" lang="en-US" sz="3600" spc="-1" strike="noStrike">
              <a:solidFill>
                <a:srgbClr val="ffffff"/>
              </a:solidFill>
              <a:latin typeface="Arial"/>
            </a:endParaRPr>
          </a:p>
        </p:txBody>
      </p:sp>
      <p:grpSp>
        <p:nvGrpSpPr>
          <p:cNvPr id="225" name=""/>
          <p:cNvGrpSpPr/>
          <p:nvPr/>
        </p:nvGrpSpPr>
        <p:grpSpPr>
          <a:xfrm>
            <a:off x="388800" y="1787400"/>
            <a:ext cx="8436240" cy="4429080"/>
            <a:chOff x="388800" y="1787400"/>
            <a:chExt cx="8436240" cy="4429080"/>
          </a:xfrm>
        </p:grpSpPr>
        <p:pic>
          <p:nvPicPr>
            <p:cNvPr id="226" name="" descr=""/>
            <p:cNvPicPr/>
            <p:nvPr/>
          </p:nvPicPr>
          <p:blipFill>
            <a:blip r:embed="rId1"/>
            <a:stretch/>
          </p:blipFill>
          <p:spPr>
            <a:xfrm>
              <a:off x="5443560" y="2813040"/>
              <a:ext cx="3381480" cy="2598840"/>
            </a:xfrm>
            <a:prstGeom prst="rect">
              <a:avLst/>
            </a:prstGeom>
            <a:ln w="0">
              <a:noFill/>
            </a:ln>
          </p:spPr>
        </p:pic>
        <p:pic>
          <p:nvPicPr>
            <p:cNvPr id="227" name="" descr=""/>
            <p:cNvPicPr/>
            <p:nvPr/>
          </p:nvPicPr>
          <p:blipFill>
            <a:blip r:embed="rId2"/>
            <a:stretch/>
          </p:blipFill>
          <p:spPr>
            <a:xfrm>
              <a:off x="431640" y="2784600"/>
              <a:ext cx="3371760" cy="2428920"/>
            </a:xfrm>
            <a:prstGeom prst="rect">
              <a:avLst/>
            </a:prstGeom>
            <a:ln w="0">
              <a:noFill/>
            </a:ln>
          </p:spPr>
        </p:pic>
        <p:grpSp>
          <p:nvGrpSpPr>
            <p:cNvPr id="228" name=""/>
            <p:cNvGrpSpPr/>
            <p:nvPr/>
          </p:nvGrpSpPr>
          <p:grpSpPr>
            <a:xfrm>
              <a:off x="3411360" y="3133800"/>
              <a:ext cx="2362680" cy="1080000"/>
              <a:chOff x="3411360" y="3133800"/>
              <a:chExt cx="2362680" cy="1080000"/>
            </a:xfrm>
          </p:grpSpPr>
          <p:sp>
            <p:nvSpPr>
              <p:cNvPr id="229" name=""/>
              <p:cNvSpPr/>
              <p:nvPr/>
            </p:nvSpPr>
            <p:spPr>
              <a:xfrm>
                <a:off x="3411360" y="3133800"/>
                <a:ext cx="2362680" cy="655920"/>
              </a:xfrm>
              <a:custGeom>
                <a:avLst/>
                <a:gdLst/>
                <a:ahLst/>
                <a:rect l="0" t="0" r="r" b="b"/>
                <a:pathLst>
                  <a:path w="6563" h="1822">
                    <a:moveTo>
                      <a:pt x="0" y="920"/>
                    </a:moveTo>
                    <a:lnTo>
                      <a:pt x="0" y="1763"/>
                    </a:lnTo>
                    <a:lnTo>
                      <a:pt x="74" y="1637"/>
                    </a:lnTo>
                    <a:lnTo>
                      <a:pt x="187" y="1526"/>
                    </a:lnTo>
                    <a:lnTo>
                      <a:pt x="338" y="1429"/>
                    </a:lnTo>
                    <a:lnTo>
                      <a:pt x="508" y="1339"/>
                    </a:lnTo>
                    <a:lnTo>
                      <a:pt x="758" y="1251"/>
                    </a:lnTo>
                    <a:lnTo>
                      <a:pt x="1023" y="1175"/>
                    </a:lnTo>
                    <a:lnTo>
                      <a:pt x="1316" y="1107"/>
                    </a:lnTo>
                    <a:lnTo>
                      <a:pt x="1695" y="1046"/>
                    </a:lnTo>
                    <a:lnTo>
                      <a:pt x="2009" y="1005"/>
                    </a:lnTo>
                    <a:lnTo>
                      <a:pt x="2341" y="970"/>
                    </a:lnTo>
                    <a:lnTo>
                      <a:pt x="2676" y="952"/>
                    </a:lnTo>
                    <a:lnTo>
                      <a:pt x="3089" y="935"/>
                    </a:lnTo>
                    <a:lnTo>
                      <a:pt x="3618" y="935"/>
                    </a:lnTo>
                    <a:lnTo>
                      <a:pt x="4070" y="967"/>
                    </a:lnTo>
                    <a:lnTo>
                      <a:pt x="4466" y="999"/>
                    </a:lnTo>
                    <a:lnTo>
                      <a:pt x="4893" y="1052"/>
                    </a:lnTo>
                    <a:lnTo>
                      <a:pt x="5240" y="1107"/>
                    </a:lnTo>
                    <a:lnTo>
                      <a:pt x="5504" y="1169"/>
                    </a:lnTo>
                    <a:lnTo>
                      <a:pt x="5734" y="1239"/>
                    </a:lnTo>
                    <a:lnTo>
                      <a:pt x="5896" y="1289"/>
                    </a:lnTo>
                    <a:lnTo>
                      <a:pt x="6041" y="1339"/>
                    </a:lnTo>
                    <a:lnTo>
                      <a:pt x="6178" y="1418"/>
                    </a:lnTo>
                    <a:lnTo>
                      <a:pt x="6295" y="1473"/>
                    </a:lnTo>
                    <a:lnTo>
                      <a:pt x="6401" y="1555"/>
                    </a:lnTo>
                    <a:lnTo>
                      <a:pt x="6450" y="1596"/>
                    </a:lnTo>
                    <a:lnTo>
                      <a:pt x="6500" y="1652"/>
                    </a:lnTo>
                    <a:lnTo>
                      <a:pt x="6535" y="1719"/>
                    </a:lnTo>
                    <a:lnTo>
                      <a:pt x="6563" y="1822"/>
                    </a:lnTo>
                    <a:lnTo>
                      <a:pt x="6563" y="854"/>
                    </a:lnTo>
                    <a:lnTo>
                      <a:pt x="6538" y="761"/>
                    </a:lnTo>
                    <a:lnTo>
                      <a:pt x="6464" y="667"/>
                    </a:lnTo>
                    <a:lnTo>
                      <a:pt x="6387" y="591"/>
                    </a:lnTo>
                    <a:lnTo>
                      <a:pt x="6295" y="532"/>
                    </a:lnTo>
                    <a:lnTo>
                      <a:pt x="6207" y="477"/>
                    </a:lnTo>
                    <a:lnTo>
                      <a:pt x="6101" y="427"/>
                    </a:lnTo>
                    <a:lnTo>
                      <a:pt x="5984" y="377"/>
                    </a:lnTo>
                    <a:lnTo>
                      <a:pt x="5825" y="319"/>
                    </a:lnTo>
                    <a:lnTo>
                      <a:pt x="5660" y="266"/>
                    </a:lnTo>
                    <a:lnTo>
                      <a:pt x="5469" y="216"/>
                    </a:lnTo>
                    <a:lnTo>
                      <a:pt x="5257" y="169"/>
                    </a:lnTo>
                    <a:lnTo>
                      <a:pt x="5010" y="122"/>
                    </a:lnTo>
                    <a:lnTo>
                      <a:pt x="4709" y="81"/>
                    </a:lnTo>
                    <a:lnTo>
                      <a:pt x="4370" y="46"/>
                    </a:lnTo>
                    <a:lnTo>
                      <a:pt x="3954" y="14"/>
                    </a:lnTo>
                    <a:lnTo>
                      <a:pt x="3562" y="0"/>
                    </a:lnTo>
                    <a:lnTo>
                      <a:pt x="3054" y="0"/>
                    </a:lnTo>
                    <a:lnTo>
                      <a:pt x="2637" y="14"/>
                    </a:lnTo>
                    <a:lnTo>
                      <a:pt x="2380" y="32"/>
                    </a:lnTo>
                    <a:lnTo>
                      <a:pt x="2147" y="52"/>
                    </a:lnTo>
                    <a:lnTo>
                      <a:pt x="1938" y="73"/>
                    </a:lnTo>
                    <a:lnTo>
                      <a:pt x="1769" y="99"/>
                    </a:lnTo>
                    <a:lnTo>
                      <a:pt x="1556" y="125"/>
                    </a:lnTo>
                    <a:lnTo>
                      <a:pt x="1316" y="169"/>
                    </a:lnTo>
                    <a:lnTo>
                      <a:pt x="1143" y="207"/>
                    </a:lnTo>
                    <a:lnTo>
                      <a:pt x="960" y="251"/>
                    </a:lnTo>
                    <a:lnTo>
                      <a:pt x="864" y="281"/>
                    </a:lnTo>
                    <a:lnTo>
                      <a:pt x="744" y="316"/>
                    </a:lnTo>
                    <a:lnTo>
                      <a:pt x="631" y="354"/>
                    </a:lnTo>
                    <a:lnTo>
                      <a:pt x="490" y="409"/>
                    </a:lnTo>
                    <a:lnTo>
                      <a:pt x="405" y="450"/>
                    </a:lnTo>
                    <a:lnTo>
                      <a:pt x="338" y="486"/>
                    </a:lnTo>
                    <a:lnTo>
                      <a:pt x="264" y="529"/>
                    </a:lnTo>
                    <a:lnTo>
                      <a:pt x="190" y="579"/>
                    </a:lnTo>
                    <a:lnTo>
                      <a:pt x="134" y="623"/>
                    </a:lnTo>
                    <a:lnTo>
                      <a:pt x="74" y="685"/>
                    </a:lnTo>
                    <a:lnTo>
                      <a:pt x="31" y="749"/>
                    </a:lnTo>
                    <a:lnTo>
                      <a:pt x="10" y="802"/>
                    </a:lnTo>
                    <a:lnTo>
                      <a:pt x="0" y="857"/>
                    </a:lnTo>
                    <a:lnTo>
                      <a:pt x="0" y="920"/>
                    </a:lnTo>
                    <a:close/>
                  </a:path>
                </a:pathLst>
              </a:cu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0" name=""/>
              <p:cNvGrpSpPr/>
              <p:nvPr/>
            </p:nvGrpSpPr>
            <p:grpSpPr>
              <a:xfrm>
                <a:off x="3411360" y="3448080"/>
                <a:ext cx="2362680" cy="765720"/>
                <a:chOff x="3411360" y="3448080"/>
                <a:chExt cx="2362680" cy="765720"/>
              </a:xfrm>
            </p:grpSpPr>
            <p:sp>
              <p:nvSpPr>
                <p:cNvPr id="231" name=""/>
                <p:cNvSpPr/>
                <p:nvPr/>
              </p:nvSpPr>
              <p:spPr>
                <a:xfrm>
                  <a:off x="3411360" y="3462480"/>
                  <a:ext cx="1224360" cy="751320"/>
                </a:xfrm>
                <a:custGeom>
                  <a:avLst/>
                  <a:gdLst/>
                  <a:ahLst/>
                  <a:rect l="0" t="0" r="r" b="b"/>
                  <a:pathLst>
                    <a:path w="3401" h="2087">
                      <a:moveTo>
                        <a:pt x="0" y="863"/>
                      </a:moveTo>
                      <a:lnTo>
                        <a:pt x="0" y="916"/>
                      </a:lnTo>
                      <a:lnTo>
                        <a:pt x="14" y="998"/>
                      </a:lnTo>
                      <a:lnTo>
                        <a:pt x="56" y="1092"/>
                      </a:lnTo>
                      <a:lnTo>
                        <a:pt x="127" y="1162"/>
                      </a:lnTo>
                      <a:lnTo>
                        <a:pt x="211" y="1233"/>
                      </a:lnTo>
                      <a:lnTo>
                        <a:pt x="303" y="1291"/>
                      </a:lnTo>
                      <a:lnTo>
                        <a:pt x="402" y="1338"/>
                      </a:lnTo>
                      <a:lnTo>
                        <a:pt x="543" y="1403"/>
                      </a:lnTo>
                      <a:lnTo>
                        <a:pt x="677" y="1461"/>
                      </a:lnTo>
                      <a:lnTo>
                        <a:pt x="833" y="1508"/>
                      </a:lnTo>
                      <a:lnTo>
                        <a:pt x="1024" y="1558"/>
                      </a:lnTo>
                      <a:lnTo>
                        <a:pt x="1233" y="1612"/>
                      </a:lnTo>
                      <a:lnTo>
                        <a:pt x="1377" y="1636"/>
                      </a:lnTo>
                      <a:lnTo>
                        <a:pt x="1540" y="1671"/>
                      </a:lnTo>
                      <a:lnTo>
                        <a:pt x="1695" y="1694"/>
                      </a:lnTo>
                      <a:lnTo>
                        <a:pt x="1836" y="1712"/>
                      </a:lnTo>
                      <a:lnTo>
                        <a:pt x="1942" y="1724"/>
                      </a:lnTo>
                      <a:lnTo>
                        <a:pt x="2048" y="1735"/>
                      </a:lnTo>
                      <a:lnTo>
                        <a:pt x="2211" y="1753"/>
                      </a:lnTo>
                      <a:lnTo>
                        <a:pt x="2387" y="1765"/>
                      </a:lnTo>
                      <a:lnTo>
                        <a:pt x="2600" y="1782"/>
                      </a:lnTo>
                      <a:lnTo>
                        <a:pt x="2600" y="2087"/>
                      </a:lnTo>
                      <a:lnTo>
                        <a:pt x="3401" y="1338"/>
                      </a:lnTo>
                      <a:lnTo>
                        <a:pt x="2600" y="489"/>
                      </a:lnTo>
                      <a:lnTo>
                        <a:pt x="2600" y="834"/>
                      </a:lnTo>
                      <a:lnTo>
                        <a:pt x="2458" y="822"/>
                      </a:lnTo>
                      <a:lnTo>
                        <a:pt x="2295" y="807"/>
                      </a:lnTo>
                      <a:lnTo>
                        <a:pt x="2119" y="790"/>
                      </a:lnTo>
                      <a:lnTo>
                        <a:pt x="1942" y="772"/>
                      </a:lnTo>
                      <a:lnTo>
                        <a:pt x="1787" y="749"/>
                      </a:lnTo>
                      <a:lnTo>
                        <a:pt x="1646" y="731"/>
                      </a:lnTo>
                      <a:lnTo>
                        <a:pt x="1406" y="690"/>
                      </a:lnTo>
                      <a:lnTo>
                        <a:pt x="1197" y="649"/>
                      </a:lnTo>
                      <a:lnTo>
                        <a:pt x="1053" y="614"/>
                      </a:lnTo>
                      <a:lnTo>
                        <a:pt x="933" y="584"/>
                      </a:lnTo>
                      <a:lnTo>
                        <a:pt x="812" y="549"/>
                      </a:lnTo>
                      <a:lnTo>
                        <a:pt x="720" y="519"/>
                      </a:lnTo>
                      <a:lnTo>
                        <a:pt x="621" y="484"/>
                      </a:lnTo>
                      <a:lnTo>
                        <a:pt x="543" y="454"/>
                      </a:lnTo>
                      <a:lnTo>
                        <a:pt x="469" y="422"/>
                      </a:lnTo>
                      <a:lnTo>
                        <a:pt x="402" y="393"/>
                      </a:lnTo>
                      <a:lnTo>
                        <a:pt x="324" y="352"/>
                      </a:lnTo>
                      <a:lnTo>
                        <a:pt x="268" y="316"/>
                      </a:lnTo>
                      <a:lnTo>
                        <a:pt x="204" y="275"/>
                      </a:lnTo>
                      <a:lnTo>
                        <a:pt x="155" y="237"/>
                      </a:lnTo>
                      <a:lnTo>
                        <a:pt x="120" y="202"/>
                      </a:lnTo>
                      <a:lnTo>
                        <a:pt x="77" y="158"/>
                      </a:lnTo>
                      <a:lnTo>
                        <a:pt x="49" y="117"/>
                      </a:lnTo>
                      <a:lnTo>
                        <a:pt x="28" y="79"/>
                      </a:lnTo>
                      <a:lnTo>
                        <a:pt x="14" y="46"/>
                      </a:lnTo>
                      <a:lnTo>
                        <a:pt x="0" y="0"/>
                      </a:lnTo>
                      <a:lnTo>
                        <a:pt x="0" y="863"/>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584600" y="3448080"/>
                  <a:ext cx="1189440" cy="662400"/>
                </a:xfrm>
                <a:custGeom>
                  <a:avLst/>
                  <a:gdLst/>
                  <a:ahLst/>
                  <a:rect l="0" t="0" r="r" b="b"/>
                  <a:pathLst>
                    <a:path w="3304" h="1840">
                      <a:moveTo>
                        <a:pt x="0" y="886"/>
                      </a:moveTo>
                      <a:lnTo>
                        <a:pt x="469" y="1386"/>
                      </a:lnTo>
                      <a:lnTo>
                        <a:pt x="28" y="1840"/>
                      </a:lnTo>
                      <a:lnTo>
                        <a:pt x="225" y="1840"/>
                      </a:lnTo>
                      <a:lnTo>
                        <a:pt x="504" y="1834"/>
                      </a:lnTo>
                      <a:lnTo>
                        <a:pt x="755" y="1817"/>
                      </a:lnTo>
                      <a:lnTo>
                        <a:pt x="1031" y="1799"/>
                      </a:lnTo>
                      <a:lnTo>
                        <a:pt x="1313" y="1770"/>
                      </a:lnTo>
                      <a:lnTo>
                        <a:pt x="1588" y="1735"/>
                      </a:lnTo>
                      <a:lnTo>
                        <a:pt x="1758" y="1705"/>
                      </a:lnTo>
                      <a:lnTo>
                        <a:pt x="1970" y="1664"/>
                      </a:lnTo>
                      <a:lnTo>
                        <a:pt x="2157" y="1629"/>
                      </a:lnTo>
                      <a:lnTo>
                        <a:pt x="2312" y="1588"/>
                      </a:lnTo>
                      <a:lnTo>
                        <a:pt x="2453" y="1550"/>
                      </a:lnTo>
                      <a:lnTo>
                        <a:pt x="2616" y="1503"/>
                      </a:lnTo>
                      <a:lnTo>
                        <a:pt x="2736" y="1456"/>
                      </a:lnTo>
                      <a:lnTo>
                        <a:pt x="2853" y="1403"/>
                      </a:lnTo>
                      <a:lnTo>
                        <a:pt x="2959" y="1350"/>
                      </a:lnTo>
                      <a:lnTo>
                        <a:pt x="3029" y="1309"/>
                      </a:lnTo>
                      <a:lnTo>
                        <a:pt x="3093" y="1262"/>
                      </a:lnTo>
                      <a:lnTo>
                        <a:pt x="3149" y="1218"/>
                      </a:lnTo>
                      <a:lnTo>
                        <a:pt x="3213" y="1156"/>
                      </a:lnTo>
                      <a:lnTo>
                        <a:pt x="3248" y="1103"/>
                      </a:lnTo>
                      <a:lnTo>
                        <a:pt x="3276" y="1050"/>
                      </a:lnTo>
                      <a:lnTo>
                        <a:pt x="3297" y="1004"/>
                      </a:lnTo>
                      <a:lnTo>
                        <a:pt x="3304" y="957"/>
                      </a:lnTo>
                      <a:lnTo>
                        <a:pt x="3304" y="910"/>
                      </a:lnTo>
                      <a:lnTo>
                        <a:pt x="3304" y="0"/>
                      </a:lnTo>
                      <a:lnTo>
                        <a:pt x="3290" y="64"/>
                      </a:lnTo>
                      <a:lnTo>
                        <a:pt x="3269" y="123"/>
                      </a:lnTo>
                      <a:lnTo>
                        <a:pt x="3234" y="181"/>
                      </a:lnTo>
                      <a:lnTo>
                        <a:pt x="3184" y="240"/>
                      </a:lnTo>
                      <a:lnTo>
                        <a:pt x="3117" y="296"/>
                      </a:lnTo>
                      <a:lnTo>
                        <a:pt x="3043" y="351"/>
                      </a:lnTo>
                      <a:lnTo>
                        <a:pt x="2952" y="404"/>
                      </a:lnTo>
                      <a:lnTo>
                        <a:pt x="2832" y="461"/>
                      </a:lnTo>
                      <a:lnTo>
                        <a:pt x="2683" y="523"/>
                      </a:lnTo>
                      <a:lnTo>
                        <a:pt x="2592" y="555"/>
                      </a:lnTo>
                      <a:lnTo>
                        <a:pt x="2467" y="596"/>
                      </a:lnTo>
                      <a:lnTo>
                        <a:pt x="2347" y="628"/>
                      </a:lnTo>
                      <a:lnTo>
                        <a:pt x="2206" y="663"/>
                      </a:lnTo>
                      <a:lnTo>
                        <a:pt x="2093" y="690"/>
                      </a:lnTo>
                      <a:lnTo>
                        <a:pt x="1864" y="737"/>
                      </a:lnTo>
                      <a:lnTo>
                        <a:pt x="1666" y="772"/>
                      </a:lnTo>
                      <a:lnTo>
                        <a:pt x="1433" y="801"/>
                      </a:lnTo>
                      <a:lnTo>
                        <a:pt x="1158" y="836"/>
                      </a:lnTo>
                      <a:lnTo>
                        <a:pt x="883" y="863"/>
                      </a:lnTo>
                      <a:lnTo>
                        <a:pt x="673" y="874"/>
                      </a:lnTo>
                      <a:lnTo>
                        <a:pt x="426" y="886"/>
                      </a:lnTo>
                      <a:lnTo>
                        <a:pt x="162" y="892"/>
                      </a:lnTo>
                      <a:lnTo>
                        <a:pt x="0" y="886"/>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33" name=""/>
            <p:cNvSpPr txBox="1"/>
            <p:nvPr/>
          </p:nvSpPr>
          <p:spPr>
            <a:xfrm>
              <a:off x="3695760" y="1940040"/>
              <a:ext cx="1716120" cy="1077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Ethernet o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serial (56K)</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transport</a:t>
              </a:r>
              <a:endParaRPr b="0" lang="en-US" sz="2400" spc="-1" strike="noStrike">
                <a:solidFill>
                  <a:srgbClr val="ffffff"/>
                </a:solidFill>
                <a:latin typeface="Arial"/>
              </a:endParaRPr>
            </a:p>
          </p:txBody>
        </p:sp>
        <p:sp>
          <p:nvSpPr>
            <p:cNvPr id="234" name=""/>
            <p:cNvSpPr txBox="1"/>
            <p:nvPr/>
          </p:nvSpPr>
          <p:spPr>
            <a:xfrm>
              <a:off x="804960" y="1787400"/>
              <a:ext cx="2703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Windows NT and Intel host</a:t>
              </a:r>
              <a:endParaRPr b="0" lang="en-US" sz="2800" spc="-1" strike="noStrike">
                <a:solidFill>
                  <a:srgbClr val="ffffff"/>
                </a:solidFill>
                <a:latin typeface="Arial"/>
              </a:endParaRPr>
            </a:p>
          </p:txBody>
        </p:sp>
        <p:sp>
          <p:nvSpPr>
            <p:cNvPr id="235" name=""/>
            <p:cNvSpPr txBox="1"/>
            <p:nvPr/>
          </p:nvSpPr>
          <p:spPr>
            <a:xfrm>
              <a:off x="6831000" y="1787400"/>
              <a:ext cx="109224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ac</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target</a:t>
              </a:r>
              <a:endParaRPr b="0" lang="en-US" sz="2800" spc="-1" strike="noStrike">
                <a:solidFill>
                  <a:srgbClr val="ffffff"/>
                </a:solidFill>
                <a:latin typeface="Arial"/>
              </a:endParaRPr>
            </a:p>
          </p:txBody>
        </p:sp>
        <p:sp>
          <p:nvSpPr>
            <p:cNvPr id="236" name=""/>
            <p:cNvSpPr txBox="1"/>
            <p:nvPr/>
          </p:nvSpPr>
          <p:spPr>
            <a:xfrm>
              <a:off x="388800" y="5356080"/>
              <a:ext cx="33051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Edit, compile, debu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core code</a:t>
              </a:r>
              <a:endParaRPr b="0" lang="en-US" sz="2800" spc="-1" strike="noStrike">
                <a:solidFill>
                  <a:srgbClr val="ffffff"/>
                </a:solidFill>
                <a:latin typeface="Arial"/>
              </a:endParaRPr>
            </a:p>
          </p:txBody>
        </p:sp>
        <p:sp>
          <p:nvSpPr>
            <p:cNvPr id="237" name=""/>
            <p:cNvSpPr txBox="1"/>
            <p:nvPr/>
          </p:nvSpPr>
          <p:spPr>
            <a:xfrm>
              <a:off x="4978440" y="5302080"/>
              <a:ext cx="2268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un resultin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application</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38" name=""/>
          <p:cNvSpPr txBox="1"/>
          <p:nvPr/>
        </p:nvSpPr>
        <p:spPr>
          <a:xfrm>
            <a:off x="433440" y="228600"/>
            <a:ext cx="8278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ross-Platform Architecture</a:t>
            </a:r>
            <a:endParaRPr b="0" lang="en-US" sz="4800" spc="-1" strike="noStrike">
              <a:solidFill>
                <a:srgbClr val="ffffff"/>
              </a:solidFill>
              <a:latin typeface="Arial"/>
            </a:endParaRPr>
          </a:p>
        </p:txBody>
      </p:sp>
      <p:sp>
        <p:nvSpPr>
          <p:cNvPr id="239" name=""/>
          <p:cNvSpPr/>
          <p:nvPr/>
        </p:nvSpPr>
        <p:spPr>
          <a:xfrm>
            <a:off x="8097840" y="2130480"/>
            <a:ext cx="0" cy="241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113600" y="2117880"/>
            <a:ext cx="0" cy="1406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869000" y="41925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4869000" y="317340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4869000" y="214488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3370320" y="2536920"/>
            <a:ext cx="351792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4653000" y="2612880"/>
            <a:ext cx="954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FC </a:t>
            </a:r>
            <a:endParaRPr b="0" lang="en-US" sz="2400" spc="-1" strike="noStrike">
              <a:solidFill>
                <a:srgbClr val="ffffff"/>
              </a:solidFill>
              <a:latin typeface="Arial"/>
            </a:endParaRPr>
          </a:p>
        </p:txBody>
      </p:sp>
      <p:sp>
        <p:nvSpPr>
          <p:cNvPr id="246" name=""/>
          <p:cNvSpPr/>
          <p:nvPr/>
        </p:nvSpPr>
        <p:spPr>
          <a:xfrm>
            <a:off x="6033960" y="5616720"/>
            <a:ext cx="243684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6440400" y="5692680"/>
            <a:ext cx="1622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owerP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248" name=""/>
          <p:cNvSpPr txBox="1"/>
          <p:nvPr/>
        </p:nvSpPr>
        <p:spPr>
          <a:xfrm>
            <a:off x="1444680" y="1593720"/>
            <a:ext cx="1708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a:t>
            </a:r>
            <a:endParaRPr b="0" lang="en-US" sz="2400" spc="-1" strike="noStrike">
              <a:solidFill>
                <a:srgbClr val="ffffff"/>
              </a:solidFill>
              <a:latin typeface="Arial"/>
            </a:endParaRPr>
          </a:p>
        </p:txBody>
      </p:sp>
      <p:sp>
        <p:nvSpPr>
          <p:cNvPr id="249" name=""/>
          <p:cNvSpPr txBox="1"/>
          <p:nvPr/>
        </p:nvSpPr>
        <p:spPr>
          <a:xfrm>
            <a:off x="1436760" y="3645000"/>
            <a:ext cx="1716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ystem API</a:t>
            </a:r>
            <a:endParaRPr b="0" lang="en-US" sz="2400" spc="-1" strike="noStrike">
              <a:solidFill>
                <a:srgbClr val="ffffff"/>
              </a:solidFill>
              <a:latin typeface="Arial"/>
            </a:endParaRPr>
          </a:p>
        </p:txBody>
      </p:sp>
      <p:sp>
        <p:nvSpPr>
          <p:cNvPr id="250" name=""/>
          <p:cNvSpPr txBox="1"/>
          <p:nvPr/>
        </p:nvSpPr>
        <p:spPr>
          <a:xfrm>
            <a:off x="674640" y="4641840"/>
            <a:ext cx="24782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perating system</a:t>
            </a:r>
            <a:endParaRPr b="0" lang="en-US" sz="2400" spc="-1" strike="noStrike">
              <a:solidFill>
                <a:srgbClr val="ffffff"/>
              </a:solidFill>
              <a:latin typeface="Arial"/>
            </a:endParaRPr>
          </a:p>
        </p:txBody>
      </p:sp>
      <p:sp>
        <p:nvSpPr>
          <p:cNvPr id="251" name=""/>
          <p:cNvSpPr txBox="1"/>
          <p:nvPr/>
        </p:nvSpPr>
        <p:spPr>
          <a:xfrm>
            <a:off x="1631880" y="5676840"/>
            <a:ext cx="15210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grpSp>
        <p:nvGrpSpPr>
          <p:cNvPr id="252" name=""/>
          <p:cNvGrpSpPr/>
          <p:nvPr/>
        </p:nvGrpSpPr>
        <p:grpSpPr>
          <a:xfrm>
            <a:off x="3370320" y="3565440"/>
            <a:ext cx="4587840" cy="625320"/>
            <a:chOff x="3370320" y="3565440"/>
            <a:chExt cx="4587840" cy="625320"/>
          </a:xfrm>
        </p:grpSpPr>
        <p:sp>
          <p:nvSpPr>
            <p:cNvPr id="253" name=""/>
            <p:cNvSpPr/>
            <p:nvPr/>
          </p:nvSpPr>
          <p:spPr>
            <a:xfrm>
              <a:off x="3370320" y="3565440"/>
              <a:ext cx="4587840" cy="62532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735360" y="3649680"/>
              <a:ext cx="38592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portability library</a:t>
              </a:r>
              <a:endParaRPr b="0" lang="en-US" sz="2400" spc="-1" strike="noStrike">
                <a:solidFill>
                  <a:srgbClr val="ffffff"/>
                </a:solidFill>
                <a:latin typeface="Arial"/>
              </a:endParaRPr>
            </a:p>
          </p:txBody>
        </p:sp>
      </p:grpSp>
      <p:sp>
        <p:nvSpPr>
          <p:cNvPr id="255" name=""/>
          <p:cNvSpPr/>
          <p:nvPr/>
        </p:nvSpPr>
        <p:spPr>
          <a:xfrm>
            <a:off x="3370320" y="4584600"/>
            <a:ext cx="51004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248440" y="463860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ystem 7</a:t>
            </a:r>
            <a:endParaRPr b="0" lang="en-US" sz="2400" spc="-1" strike="noStrike">
              <a:solidFill>
                <a:srgbClr val="ffffff"/>
              </a:solidFill>
              <a:latin typeface="Arial"/>
            </a:endParaRPr>
          </a:p>
        </p:txBody>
      </p:sp>
      <p:sp>
        <p:nvSpPr>
          <p:cNvPr id="257" name=""/>
          <p:cNvSpPr/>
          <p:nvPr/>
        </p:nvSpPr>
        <p:spPr>
          <a:xfrm>
            <a:off x="3370320" y="5616720"/>
            <a:ext cx="24382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4227480" y="5692680"/>
            <a:ext cx="72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68K</a:t>
            </a:r>
            <a:endParaRPr b="0" lang="en-US" sz="2400" spc="-1" strike="noStrike">
              <a:solidFill>
                <a:srgbClr val="ffffff"/>
              </a:solidFill>
              <a:latin typeface="Arial"/>
            </a:endParaRPr>
          </a:p>
        </p:txBody>
      </p:sp>
      <p:sp>
        <p:nvSpPr>
          <p:cNvPr id="259" name=""/>
          <p:cNvSpPr/>
          <p:nvPr/>
        </p:nvSpPr>
        <p:spPr>
          <a:xfrm>
            <a:off x="3370320" y="1517760"/>
            <a:ext cx="5100480" cy="611280"/>
          </a:xfrm>
          <a:prstGeom prst="rect">
            <a:avLst/>
          </a:prstGeom>
          <a:gradFill rotWithShape="0">
            <a:gsLst>
              <a:gs pos="0">
                <a:srgbClr val="cecece"/>
              </a:gs>
              <a:gs pos="100000">
                <a:srgbClr val="3d3d3d"/>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4206960" y="1593720"/>
            <a:ext cx="3427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based application</a:t>
            </a:r>
            <a:endParaRPr b="0" lang="en-US" sz="2400" spc="-1" strike="noStrike">
              <a:solidFill>
                <a:srgbClr val="ffffff"/>
              </a:solidFill>
              <a:latin typeface="Arial"/>
            </a:endParaRPr>
          </a:p>
        </p:txBody>
      </p:sp>
      <p:sp>
        <p:nvSpPr>
          <p:cNvPr id="261" name=""/>
          <p:cNvSpPr txBox="1"/>
          <p:nvPr/>
        </p:nvSpPr>
        <p:spPr>
          <a:xfrm>
            <a:off x="1368360" y="2462040"/>
            <a:ext cx="178452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pplication </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framework</a:t>
            </a:r>
            <a:endParaRPr b="0" lang="en-US" sz="2400" spc="-1" strike="noStrike">
              <a:solidFill>
                <a:srgbClr val="ffffff"/>
              </a:solidFill>
              <a:latin typeface="Arial"/>
            </a:endParaRPr>
          </a:p>
        </p:txBody>
      </p:sp>
      <p:sp>
        <p:nvSpPr>
          <p:cNvPr id="262" name=""/>
          <p:cNvSpPr/>
          <p:nvPr/>
        </p:nvSpPr>
        <p:spPr>
          <a:xfrm>
            <a:off x="7176960" y="5213520"/>
            <a:ext cx="0" cy="36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4556160" y="5214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64" name=""/>
          <p:cNvSpPr txBox="1"/>
          <p:nvPr/>
        </p:nvSpPr>
        <p:spPr>
          <a:xfrm>
            <a:off x="372960" y="255600"/>
            <a:ext cx="83977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trols</a:t>
            </a:r>
            <a:br>
              <a:rPr sz="4800"/>
            </a:br>
            <a:r>
              <a:rPr b="1" lang="en-US" sz="3600" spc="-1" strike="noStrike">
                <a:solidFill>
                  <a:srgbClr val="fafd00"/>
                </a:solidFill>
                <a:latin typeface="Times New Roman"/>
                <a:ea typeface="Times New Roman"/>
              </a:rPr>
              <a:t>Enabling a free market for objects</a:t>
            </a:r>
            <a:endParaRPr b="0" lang="en-US" sz="3600" spc="-1" strike="noStrike">
              <a:solidFill>
                <a:srgbClr val="ffffff"/>
              </a:solidFill>
              <a:latin typeface="Arial"/>
            </a:endParaRPr>
          </a:p>
        </p:txBody>
      </p:sp>
      <p:sp>
        <p:nvSpPr>
          <p:cNvPr id="265" name=""/>
          <p:cNvSpPr txBox="1"/>
          <p:nvPr/>
        </p:nvSpPr>
        <p:spPr>
          <a:xfrm>
            <a:off x="907920" y="1962000"/>
            <a:ext cx="732780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rges benefits of OLE 2.0 and .VBX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16 and 32-bit OLE Custom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CX contain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ture Microsoft applications and tool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y OLE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66" name=""/>
          <p:cNvSpPr/>
          <p:nvPr/>
        </p:nvSpPr>
        <p:spPr>
          <a:xfrm>
            <a:off x="774720" y="2717640"/>
            <a:ext cx="7315200" cy="3581280"/>
          </a:xfrm>
          <a:prstGeom prst="roundRect">
            <a:avLst/>
          </a:prstGeom>
          <a:gradFill rotWithShape="0">
            <a:gsLst>
              <a:gs pos="0">
                <a:srgbClr val="cecece"/>
              </a:gs>
              <a:gs pos="100000">
                <a:srgbClr val="7b7b7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txBox="1"/>
          <p:nvPr/>
        </p:nvSpPr>
        <p:spPr>
          <a:xfrm>
            <a:off x="685800" y="22860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trol Development Tools</a:t>
            </a:r>
            <a:endParaRPr b="0" lang="en-US" sz="4800" spc="-1" strike="noStrike">
              <a:solidFill>
                <a:srgbClr val="ffffff"/>
              </a:solidFill>
              <a:latin typeface="Arial"/>
            </a:endParaRPr>
          </a:p>
        </p:txBody>
      </p:sp>
      <p:sp>
        <p:nvSpPr>
          <p:cNvPr id="268" name=""/>
          <p:cNvSpPr txBox="1"/>
          <p:nvPr/>
        </p:nvSpPr>
        <p:spPr>
          <a:xfrm>
            <a:off x="1596960" y="1146240"/>
            <a:ext cx="2363760" cy="887400"/>
          </a:xfrm>
          <a:prstGeom prst="rect">
            <a:avLst/>
          </a:prstGeom>
          <a:gradFill rotWithShape="0">
            <a:gsLst>
              <a:gs pos="0">
                <a:srgbClr val="7b00e4"/>
              </a:gs>
              <a:gs pos="100000">
                <a:srgbClr val="6200b6"/>
              </a:gs>
            </a:gsLst>
            <a:lin ang="5400000"/>
          </a:gradFill>
          <a:ln w="0">
            <a:noFill/>
          </a:ln>
          <a:effectLst>
            <a:outerShdw dist="0" dir="0" blurRad="0" rotWithShape="0">
              <a:srgbClr val="333333"/>
            </a:outerShdw>
          </a:effectLst>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Visual C++ 1.5</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2.5</a:t>
            </a:r>
            <a:endParaRPr b="0" lang="en-US" sz="2400" spc="-1" strike="noStrike">
              <a:solidFill>
                <a:srgbClr val="000000"/>
              </a:solidFill>
              <a:latin typeface="Arial"/>
            </a:endParaRPr>
          </a:p>
        </p:txBody>
      </p:sp>
      <p:sp>
        <p:nvSpPr>
          <p:cNvPr id="269" name=""/>
          <p:cNvSpPr txBox="1"/>
          <p:nvPr/>
        </p:nvSpPr>
        <p:spPr>
          <a:xfrm>
            <a:off x="5049720" y="1146240"/>
            <a:ext cx="2176560" cy="887400"/>
          </a:xfrm>
          <a:prstGeom prst="rect">
            <a:avLst/>
          </a:prstGeom>
          <a:gradFill rotWithShape="0">
            <a:gsLst>
              <a:gs pos="0">
                <a:srgbClr val="7b00e4"/>
              </a:gs>
              <a:gs pos="100000">
                <a:srgbClr val="6200b6"/>
              </a:gs>
            </a:gsLst>
            <a:lin ang="5400000"/>
          </a:gradFill>
          <a:ln w="0">
            <a:noFill/>
          </a:ln>
          <a:effectLst>
            <a:outerShdw dist="0" dir="0" blurRad="0" rotWithShape="0">
              <a:srgbClr val="333333"/>
            </a:outerShdw>
          </a:effectLst>
        </p:spPr>
        <p:txBody>
          <a:bodyPr lIns="0" rIns="0" tIns="0" bIns="0" anchor="t">
            <a:noAutofit/>
          </a:bodyPr>
          <a:p>
            <a:pPr algn="ctr">
              <a:lnSpc>
                <a:spcPct val="100000"/>
              </a:lnSpc>
            </a:pPr>
            <a:r>
              <a:rPr b="1" lang="en-US" sz="2400" spc="-1" strike="noStrike">
                <a:solidFill>
                  <a:srgbClr val="80fff0"/>
                </a:solidFill>
                <a:latin typeface="Times New Roman"/>
                <a:ea typeface="Times New Roman"/>
              </a:rPr>
              <a:t>Visual C++ 2.0</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FC 3.0</a:t>
            </a:r>
            <a:endParaRPr b="0" lang="en-US" sz="2400" spc="-1" strike="noStrike">
              <a:solidFill>
                <a:srgbClr val="000000"/>
              </a:solidFill>
              <a:latin typeface="Arial"/>
            </a:endParaRPr>
          </a:p>
        </p:txBody>
      </p:sp>
      <p:sp>
        <p:nvSpPr>
          <p:cNvPr id="270" name=""/>
          <p:cNvSpPr txBox="1"/>
          <p:nvPr/>
        </p:nvSpPr>
        <p:spPr>
          <a:xfrm>
            <a:off x="1494000" y="2997360"/>
            <a:ext cx="1762200" cy="102564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MFC</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ffffff"/>
              </a:solidFill>
              <a:latin typeface="Arial"/>
            </a:endParaRPr>
          </a:p>
        </p:txBody>
      </p:sp>
      <p:sp>
        <p:nvSpPr>
          <p:cNvPr id="271" name=""/>
          <p:cNvSpPr txBox="1"/>
          <p:nvPr/>
        </p:nvSpPr>
        <p:spPr>
          <a:xfrm>
            <a:off x="5597640" y="2997360"/>
            <a:ext cx="1841400" cy="102564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MFC</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ro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extensions</a:t>
            </a:r>
            <a:endParaRPr b="0" lang="en-US" sz="2000" spc="-1" strike="noStrike">
              <a:solidFill>
                <a:srgbClr val="ffffff"/>
              </a:solidFill>
              <a:latin typeface="Arial"/>
            </a:endParaRPr>
          </a:p>
        </p:txBody>
      </p:sp>
      <p:sp>
        <p:nvSpPr>
          <p:cNvPr id="272" name=""/>
          <p:cNvSpPr txBox="1"/>
          <p:nvPr/>
        </p:nvSpPr>
        <p:spPr>
          <a:xfrm>
            <a:off x="3289320" y="4338720"/>
            <a:ext cx="2286000" cy="41580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trol Wizard</a:t>
            </a:r>
            <a:endParaRPr b="0" lang="en-US" sz="2000" spc="-1" strike="noStrike">
              <a:solidFill>
                <a:srgbClr val="ffffff"/>
              </a:solidFill>
              <a:latin typeface="Arial"/>
            </a:endParaRPr>
          </a:p>
        </p:txBody>
      </p:sp>
      <p:sp>
        <p:nvSpPr>
          <p:cNvPr id="273" name=""/>
          <p:cNvSpPr txBox="1"/>
          <p:nvPr/>
        </p:nvSpPr>
        <p:spPr>
          <a:xfrm>
            <a:off x="1670040" y="4216320"/>
            <a:ext cx="140976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class</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ffffff"/>
              </a:solidFill>
              <a:latin typeface="Arial"/>
            </a:endParaRPr>
          </a:p>
        </p:txBody>
      </p:sp>
      <p:sp>
        <p:nvSpPr>
          <p:cNvPr id="274" name=""/>
          <p:cNvSpPr txBox="1"/>
          <p:nvPr/>
        </p:nvSpPr>
        <p:spPr>
          <a:xfrm>
            <a:off x="5730840" y="4216320"/>
            <a:ext cx="157464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class</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wizard</a:t>
            </a:r>
            <a:endParaRPr b="0" lang="en-US" sz="2000" spc="-1" strike="noStrike">
              <a:solidFill>
                <a:srgbClr val="ffffff"/>
              </a:solidFill>
              <a:latin typeface="Arial"/>
            </a:endParaRPr>
          </a:p>
        </p:txBody>
      </p:sp>
      <p:sp>
        <p:nvSpPr>
          <p:cNvPr id="275" name=""/>
          <p:cNvSpPr txBox="1"/>
          <p:nvPr/>
        </p:nvSpPr>
        <p:spPr>
          <a:xfrm>
            <a:off x="1733400" y="5100480"/>
            <a:ext cx="128268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16-bit tes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ffffff"/>
              </a:solidFill>
              <a:latin typeface="Arial"/>
            </a:endParaRPr>
          </a:p>
        </p:txBody>
      </p:sp>
      <p:sp>
        <p:nvSpPr>
          <p:cNvPr id="276" name=""/>
          <p:cNvSpPr txBox="1"/>
          <p:nvPr/>
        </p:nvSpPr>
        <p:spPr>
          <a:xfrm>
            <a:off x="5877000" y="5100480"/>
            <a:ext cx="1282680" cy="720720"/>
          </a:xfrm>
          <a:prstGeom prst="rect">
            <a:avLst/>
          </a:prstGeom>
          <a:noFill/>
          <a:ln w="12600">
            <a:solidFill>
              <a:srgbClr val="80fff0"/>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32-bit tes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ontainer</a:t>
            </a:r>
            <a:endParaRPr b="0" lang="en-US" sz="2000" spc="-1" strike="noStrike">
              <a:solidFill>
                <a:srgbClr val="ffffff"/>
              </a:solidFill>
              <a:latin typeface="Arial"/>
            </a:endParaRPr>
          </a:p>
        </p:txBody>
      </p:sp>
      <p:sp>
        <p:nvSpPr>
          <p:cNvPr id="277" name=""/>
          <p:cNvSpPr txBox="1"/>
          <p:nvPr/>
        </p:nvSpPr>
        <p:spPr>
          <a:xfrm>
            <a:off x="2406600" y="5826240"/>
            <a:ext cx="4205160" cy="4572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OLE Control Development Kit</a:t>
            </a:r>
            <a:endParaRPr b="0" lang="en-US" sz="2400" spc="-1" strike="noStrike">
              <a:solidFill>
                <a:srgbClr val="ffffff"/>
              </a:solidFill>
              <a:latin typeface="Arial"/>
            </a:endParaRPr>
          </a:p>
        </p:txBody>
      </p:sp>
      <p:sp>
        <p:nvSpPr>
          <p:cNvPr id="278" name=""/>
          <p:cNvSpPr/>
          <p:nvPr/>
        </p:nvSpPr>
        <p:spPr>
          <a:xfrm>
            <a:off x="6184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2755800" y="2031840"/>
            <a:ext cx="0" cy="685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2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ollout Schedule</a:t>
            </a:r>
            <a:endParaRPr b="0" lang="en-US" sz="4800" spc="-1" strike="noStrike">
              <a:solidFill>
                <a:srgbClr val="ffffff"/>
              </a:solidFill>
              <a:latin typeface="Arial"/>
            </a:endParaRPr>
          </a:p>
        </p:txBody>
      </p:sp>
      <p:sp>
        <p:nvSpPr>
          <p:cNvPr id="281" name=""/>
          <p:cNvSpPr txBox="1"/>
          <p:nvPr/>
        </p:nvSpPr>
        <p:spPr>
          <a:xfrm>
            <a:off x="490680" y="1511280"/>
            <a:ext cx="8164440" cy="3817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1.5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duct preview was at SD ’94</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C++ 2.0 (Intel MIPS and Mac 68K)</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mmer 1994 (following “Daytona” 3.5)</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c PowerPC and DEC</a:t>
            </a:r>
            <a:r>
              <a:rPr b="1" lang="en-US" sz="2800" spc="-1" strike="noStrike" baseline="40000">
                <a:solidFill>
                  <a:srgbClr val="ffffff"/>
                </a:solidFill>
                <a:latin typeface="Times New Roman"/>
                <a:ea typeface="Times New Roman"/>
              </a:rPr>
              <a:t>®</a:t>
            </a:r>
            <a:r>
              <a:rPr b="1" lang="en-US" sz="3200" spc="-1" strike="noStrike">
                <a:solidFill>
                  <a:srgbClr val="ffffff"/>
                </a:solidFill>
                <a:latin typeface="Times New Roman"/>
                <a:ea typeface="Times New Roman"/>
              </a:rPr>
              <a:t> Alpha</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trol Development Kit available in Visual C++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24" name=""/>
          <p:cNvSpPr/>
          <p:nvPr/>
        </p:nvSpPr>
        <p:spPr>
          <a:xfrm>
            <a:off x="485640" y="228600"/>
            <a:ext cx="81741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 name=""/>
          <p:cNvSpPr txBox="1"/>
          <p:nvPr/>
        </p:nvSpPr>
        <p:spPr>
          <a:xfrm>
            <a:off x="2405160" y="1728720"/>
            <a:ext cx="5375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ndard Edi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fessional Edi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Edition</a:t>
            </a:r>
            <a:endParaRPr b="0" lang="en-US" sz="3200" spc="-1" strike="noStrike">
              <a:solidFill>
                <a:srgbClr val="ffffff"/>
              </a:solidFill>
              <a:latin typeface="Arial"/>
            </a:endParaRPr>
          </a:p>
        </p:txBody>
      </p:sp>
      <p:sp>
        <p:nvSpPr>
          <p:cNvPr id="126" name=""/>
          <p:cNvSpPr txBox="1"/>
          <p:nvPr/>
        </p:nvSpPr>
        <p:spPr>
          <a:xfrm>
            <a:off x="487440" y="225360"/>
            <a:ext cx="8170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Family</a:t>
            </a:r>
            <a:endParaRPr b="0" lang="en-US" sz="4800" spc="-1" strike="noStrike">
              <a:solidFill>
                <a:srgbClr val="ffffff"/>
              </a:solidFill>
              <a:latin typeface="Arial"/>
            </a:endParaRPr>
          </a:p>
        </p:txBody>
      </p:sp>
      <p:pic>
        <p:nvPicPr>
          <p:cNvPr id="127" name="" descr=""/>
          <p:cNvPicPr/>
          <p:nvPr/>
        </p:nvPicPr>
        <p:blipFill>
          <a:blip r:embed="rId1"/>
          <a:stretch/>
        </p:blipFill>
        <p:spPr>
          <a:xfrm>
            <a:off x="1562040" y="3949560"/>
            <a:ext cx="1841400" cy="2260440"/>
          </a:xfrm>
          <a:prstGeom prst="rect">
            <a:avLst/>
          </a:prstGeom>
          <a:ln w="0">
            <a:noFill/>
          </a:ln>
        </p:spPr>
      </p:pic>
      <p:pic>
        <p:nvPicPr>
          <p:cNvPr id="128" name="" descr=""/>
          <p:cNvPicPr/>
          <p:nvPr/>
        </p:nvPicPr>
        <p:blipFill>
          <a:blip r:embed="rId2"/>
          <a:stretch/>
        </p:blipFill>
        <p:spPr>
          <a:xfrm>
            <a:off x="4035600" y="3963960"/>
            <a:ext cx="1797120" cy="2260440"/>
          </a:xfrm>
          <a:prstGeom prst="rect">
            <a:avLst/>
          </a:prstGeom>
          <a:ln w="0">
            <a:noFill/>
          </a:ln>
        </p:spPr>
      </p:pic>
      <p:pic>
        <p:nvPicPr>
          <p:cNvPr id="129" name="" descr=""/>
          <p:cNvPicPr/>
          <p:nvPr/>
        </p:nvPicPr>
        <p:blipFill>
          <a:blip r:embed="rId3"/>
          <a:stretch/>
        </p:blipFill>
        <p:spPr>
          <a:xfrm>
            <a:off x="6326280" y="3963960"/>
            <a:ext cx="1859040" cy="226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3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fore Visual C++</a:t>
            </a:r>
            <a:endParaRPr b="0" lang="en-US" sz="4800" spc="-1" strike="noStrike">
              <a:solidFill>
                <a:srgbClr val="ffffff"/>
              </a:solidFill>
              <a:latin typeface="Arial"/>
            </a:endParaRPr>
          </a:p>
        </p:txBody>
      </p:sp>
      <p:sp>
        <p:nvSpPr>
          <p:cNvPr id="131" name=""/>
          <p:cNvSpPr txBox="1"/>
          <p:nvPr/>
        </p:nvSpPr>
        <p:spPr>
          <a:xfrm>
            <a:off x="2790720" y="1919160"/>
            <a:ext cx="624060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ess than </a:t>
            </a:r>
            <a:r>
              <a:rPr b="1" i="1" lang="en-US" sz="3200" spc="-1" strike="noStrike">
                <a:solidFill>
                  <a:srgbClr val="fafd00"/>
                </a:solidFill>
                <a:latin typeface="Times New Roman"/>
                <a:ea typeface="Times New Roman"/>
              </a:rPr>
              <a:t>15%</a:t>
            </a:r>
            <a:r>
              <a:rPr b="1" lang="en-US" sz="3200" spc="-1" strike="noStrike">
                <a:solidFill>
                  <a:srgbClr val="ffffff"/>
                </a:solidFill>
                <a:latin typeface="Times New Roman"/>
                <a:ea typeface="Times New Roman"/>
              </a:rPr>
              <a:t> of programmers doing production C++ develop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More than </a:t>
            </a:r>
            <a:r>
              <a:rPr b="1" i="1" lang="en-US" sz="3200" spc="-1" strike="noStrike">
                <a:solidFill>
                  <a:srgbClr val="fafd00"/>
                </a:solidFill>
                <a:latin typeface="Times New Roman"/>
                <a:ea typeface="Times New Roman"/>
              </a:rPr>
              <a:t>70%</a:t>
            </a:r>
            <a:r>
              <a:rPr b="1" lang="en-US" sz="3200" spc="-1" strike="noStrike">
                <a:solidFill>
                  <a:srgbClr val="ffffff"/>
                </a:solidFill>
                <a:latin typeface="Times New Roman"/>
                <a:ea typeface="Times New Roman"/>
              </a:rPr>
              <a:t> want to, plan to, hope to. </a:t>
            </a:r>
            <a:endParaRPr b="0" lang="en-US" sz="3200" spc="-1" strike="noStrike">
              <a:solidFill>
                <a:srgbClr val="ffffff"/>
              </a:solidFill>
              <a:latin typeface="Arial"/>
            </a:endParaRPr>
          </a:p>
        </p:txBody>
      </p:sp>
      <p:pic>
        <p:nvPicPr>
          <p:cNvPr id="132" name="" descr=""/>
          <p:cNvPicPr/>
          <p:nvPr/>
        </p:nvPicPr>
        <p:blipFill>
          <a:blip r:embed="rId1"/>
          <a:stretch/>
        </p:blipFill>
        <p:spPr>
          <a:xfrm>
            <a:off x="171360" y="1900080"/>
            <a:ext cx="332568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fter Visual C++</a:t>
            </a:r>
            <a:endParaRPr b="0" lang="en-US" sz="4800" spc="-1" strike="noStrike">
              <a:solidFill>
                <a:srgbClr val="ffffff"/>
              </a:solidFill>
              <a:latin typeface="Arial"/>
            </a:endParaRPr>
          </a:p>
        </p:txBody>
      </p:sp>
      <p:sp>
        <p:nvSpPr>
          <p:cNvPr id="134" name=""/>
          <p:cNvSpPr txBox="1"/>
          <p:nvPr/>
        </p:nvSpPr>
        <p:spPr>
          <a:xfrm>
            <a:off x="2354400" y="1733400"/>
            <a:ext cx="6777000" cy="3984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81%</a:t>
            </a:r>
            <a:r>
              <a:rPr b="1" lang="en-US" sz="3200" spc="-1" strike="noStrike">
                <a:solidFill>
                  <a:srgbClr val="ffffff"/>
                </a:solidFill>
                <a:latin typeface="Times New Roman"/>
                <a:ea typeface="Times New Roman"/>
              </a:rPr>
              <a:t> of developers are using C++</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51% Starting a major project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30% Have completed several project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66%</a:t>
            </a:r>
            <a:r>
              <a:rPr b="1" lang="en-US" sz="3200" spc="-1" strike="noStrike">
                <a:solidFill>
                  <a:srgbClr val="ffffff"/>
                </a:solidFill>
                <a:latin typeface="Times New Roman"/>
                <a:ea typeface="Times New Roman"/>
              </a:rPr>
              <a:t> of developers have standardized on MF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afd00"/>
                </a:solidFill>
                <a:latin typeface="Times New Roman"/>
                <a:ea typeface="Times New Roman"/>
              </a:rPr>
              <a:t>40%</a:t>
            </a:r>
            <a:r>
              <a:rPr b="1" lang="en-US" sz="3200" spc="-1" strike="noStrike">
                <a:solidFill>
                  <a:srgbClr val="ffffff"/>
                </a:solidFill>
                <a:latin typeface="Times New Roman"/>
                <a:ea typeface="Times New Roman"/>
              </a:rPr>
              <a:t> completing applications in Visual C++</a:t>
            </a:r>
            <a:endParaRPr b="0" lang="en-US" sz="3200" spc="-1" strike="noStrike">
              <a:solidFill>
                <a:srgbClr val="ffffff"/>
              </a:solidFill>
              <a:latin typeface="Arial"/>
            </a:endParaRPr>
          </a:p>
        </p:txBody>
      </p:sp>
      <p:pic>
        <p:nvPicPr>
          <p:cNvPr id="135" name="" descr=""/>
          <p:cNvPicPr/>
          <p:nvPr/>
        </p:nvPicPr>
        <p:blipFill>
          <a:blip r:embed="rId1"/>
          <a:stretch/>
        </p:blipFill>
        <p:spPr>
          <a:xfrm>
            <a:off x="201600" y="2276640"/>
            <a:ext cx="2666880" cy="1982880"/>
          </a:xfrm>
          <a:prstGeom prst="rect">
            <a:avLst/>
          </a:prstGeom>
          <a:ln w="0">
            <a:noFill/>
          </a:ln>
        </p:spPr>
      </p:pic>
      <p:grpSp>
        <p:nvGrpSpPr>
          <p:cNvPr id="136" name=""/>
          <p:cNvGrpSpPr/>
          <p:nvPr/>
        </p:nvGrpSpPr>
        <p:grpSpPr>
          <a:xfrm>
            <a:off x="297000" y="1419120"/>
            <a:ext cx="1689480" cy="1649880"/>
            <a:chOff x="297000" y="1419120"/>
            <a:chExt cx="1689480" cy="1649880"/>
          </a:xfrm>
        </p:grpSpPr>
        <p:sp>
          <p:nvSpPr>
            <p:cNvPr id="137" name=""/>
            <p:cNvSpPr/>
            <p:nvPr/>
          </p:nvSpPr>
          <p:spPr>
            <a:xfrm>
              <a:off x="297000" y="1420920"/>
              <a:ext cx="1689480" cy="1646640"/>
            </a:xfrm>
            <a:custGeom>
              <a:avLst/>
              <a:gdLst/>
              <a:ahLst/>
              <a:rect l="0" t="0" r="r" b="b"/>
              <a:pathLst>
                <a:path w="4693" h="4574">
                  <a:moveTo>
                    <a:pt x="4693" y="159"/>
                  </a:moveTo>
                  <a:lnTo>
                    <a:pt x="4693" y="129"/>
                  </a:lnTo>
                  <a:lnTo>
                    <a:pt x="4682" y="93"/>
                  </a:lnTo>
                  <a:lnTo>
                    <a:pt x="4661" y="58"/>
                  </a:lnTo>
                  <a:lnTo>
                    <a:pt x="4633" y="31"/>
                  </a:lnTo>
                  <a:lnTo>
                    <a:pt x="4598" y="12"/>
                  </a:lnTo>
                  <a:lnTo>
                    <a:pt x="4556" y="0"/>
                  </a:lnTo>
                  <a:lnTo>
                    <a:pt x="131" y="0"/>
                  </a:lnTo>
                  <a:lnTo>
                    <a:pt x="109" y="4"/>
                  </a:lnTo>
                  <a:lnTo>
                    <a:pt x="68" y="29"/>
                  </a:lnTo>
                  <a:lnTo>
                    <a:pt x="41" y="53"/>
                  </a:lnTo>
                  <a:lnTo>
                    <a:pt x="13" y="88"/>
                  </a:lnTo>
                  <a:lnTo>
                    <a:pt x="0" y="125"/>
                  </a:lnTo>
                  <a:lnTo>
                    <a:pt x="0" y="159"/>
                  </a:lnTo>
                  <a:lnTo>
                    <a:pt x="0" y="4413"/>
                  </a:lnTo>
                  <a:lnTo>
                    <a:pt x="0" y="4444"/>
                  </a:lnTo>
                  <a:lnTo>
                    <a:pt x="10" y="4481"/>
                  </a:lnTo>
                  <a:lnTo>
                    <a:pt x="32" y="4516"/>
                  </a:lnTo>
                  <a:lnTo>
                    <a:pt x="60" y="4545"/>
                  </a:lnTo>
                  <a:lnTo>
                    <a:pt x="98" y="4562"/>
                  </a:lnTo>
                  <a:lnTo>
                    <a:pt x="131" y="4574"/>
                  </a:lnTo>
                  <a:lnTo>
                    <a:pt x="712" y="4574"/>
                  </a:lnTo>
                  <a:lnTo>
                    <a:pt x="712" y="4430"/>
                  </a:lnTo>
                  <a:lnTo>
                    <a:pt x="999" y="4430"/>
                  </a:lnTo>
                  <a:lnTo>
                    <a:pt x="1125" y="4574"/>
                  </a:lnTo>
                  <a:lnTo>
                    <a:pt x="3573" y="4574"/>
                  </a:lnTo>
                  <a:lnTo>
                    <a:pt x="3573" y="4430"/>
                  </a:lnTo>
                  <a:lnTo>
                    <a:pt x="3872" y="4430"/>
                  </a:lnTo>
                  <a:lnTo>
                    <a:pt x="3992" y="4574"/>
                  </a:lnTo>
                  <a:lnTo>
                    <a:pt x="4337" y="4574"/>
                  </a:lnTo>
                  <a:lnTo>
                    <a:pt x="4693" y="4273"/>
                  </a:lnTo>
                  <a:lnTo>
                    <a:pt x="4693" y="159"/>
                  </a:lnTo>
                  <a:close/>
                </a:path>
              </a:pathLst>
            </a:cu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01640" y="2548080"/>
              <a:ext cx="881280" cy="520920"/>
            </a:xfrm>
            <a:custGeom>
              <a:avLst/>
              <a:gdLst/>
              <a:ahLst/>
              <a:rect l="0" t="0" r="r" b="b"/>
              <a:pathLst>
                <a:path w="2448" h="1447">
                  <a:moveTo>
                    <a:pt x="183" y="2"/>
                  </a:moveTo>
                  <a:lnTo>
                    <a:pt x="178" y="0"/>
                  </a:lnTo>
                  <a:lnTo>
                    <a:pt x="156" y="0"/>
                  </a:lnTo>
                  <a:lnTo>
                    <a:pt x="134" y="0"/>
                  </a:lnTo>
                  <a:lnTo>
                    <a:pt x="109" y="4"/>
                  </a:lnTo>
                  <a:lnTo>
                    <a:pt x="87" y="7"/>
                  </a:lnTo>
                  <a:lnTo>
                    <a:pt x="65" y="19"/>
                  </a:lnTo>
                  <a:lnTo>
                    <a:pt x="49" y="34"/>
                  </a:lnTo>
                  <a:lnTo>
                    <a:pt x="35" y="48"/>
                  </a:lnTo>
                  <a:lnTo>
                    <a:pt x="19" y="66"/>
                  </a:lnTo>
                  <a:lnTo>
                    <a:pt x="8" y="85"/>
                  </a:lnTo>
                  <a:lnTo>
                    <a:pt x="0" y="105"/>
                  </a:lnTo>
                  <a:lnTo>
                    <a:pt x="0" y="124"/>
                  </a:lnTo>
                  <a:lnTo>
                    <a:pt x="0" y="146"/>
                  </a:lnTo>
                  <a:lnTo>
                    <a:pt x="0" y="171"/>
                  </a:lnTo>
                  <a:lnTo>
                    <a:pt x="0" y="1447"/>
                  </a:lnTo>
                  <a:lnTo>
                    <a:pt x="2448" y="1447"/>
                  </a:lnTo>
                  <a:lnTo>
                    <a:pt x="2448" y="171"/>
                  </a:lnTo>
                  <a:lnTo>
                    <a:pt x="2448" y="163"/>
                  </a:lnTo>
                  <a:lnTo>
                    <a:pt x="2448" y="141"/>
                  </a:lnTo>
                  <a:lnTo>
                    <a:pt x="2448" y="119"/>
                  </a:lnTo>
                  <a:lnTo>
                    <a:pt x="2445" y="100"/>
                  </a:lnTo>
                  <a:lnTo>
                    <a:pt x="2437" y="80"/>
                  </a:lnTo>
                  <a:lnTo>
                    <a:pt x="2426" y="61"/>
                  </a:lnTo>
                  <a:lnTo>
                    <a:pt x="2412" y="44"/>
                  </a:lnTo>
                  <a:lnTo>
                    <a:pt x="2399" y="29"/>
                  </a:lnTo>
                  <a:lnTo>
                    <a:pt x="2379" y="19"/>
                  </a:lnTo>
                  <a:lnTo>
                    <a:pt x="2357" y="7"/>
                  </a:lnTo>
                  <a:lnTo>
                    <a:pt x="2336" y="2"/>
                  </a:lnTo>
                  <a:lnTo>
                    <a:pt x="2314" y="0"/>
                  </a:lnTo>
                  <a:lnTo>
                    <a:pt x="2286" y="0"/>
                  </a:lnTo>
                  <a:lnTo>
                    <a:pt x="2267" y="2"/>
                  </a:lnTo>
                  <a:lnTo>
                    <a:pt x="183" y="2"/>
                  </a:lnTo>
                  <a:close/>
                </a:path>
              </a:pathLst>
            </a:custGeom>
            <a:solidFill>
              <a:srgbClr val="b5b5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2840" y="2627280"/>
              <a:ext cx="209880" cy="373320"/>
            </a:xfrm>
            <a:custGeom>
              <a:avLst/>
              <a:gdLst/>
              <a:ahLst/>
              <a:rect l="0" t="0" r="r" b="b"/>
              <a:pathLst>
                <a:path w="583" h="1037">
                  <a:moveTo>
                    <a:pt x="583" y="1037"/>
                  </a:moveTo>
                  <a:lnTo>
                    <a:pt x="583" y="0"/>
                  </a:lnTo>
                  <a:lnTo>
                    <a:pt x="0" y="0"/>
                  </a:lnTo>
                  <a:lnTo>
                    <a:pt x="0" y="1037"/>
                  </a:lnTo>
                  <a:lnTo>
                    <a:pt x="583" y="1037"/>
                  </a:lnTo>
                  <a:close/>
                </a:path>
              </a:pathLst>
            </a:cu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509760" y="1419120"/>
              <a:ext cx="1268640" cy="1005120"/>
            </a:xfrm>
            <a:custGeom>
              <a:avLst/>
              <a:gdLst/>
              <a:ahLst/>
              <a:rect l="0" t="0" r="r" b="b"/>
              <a:pathLst>
                <a:path w="3524" h="2792">
                  <a:moveTo>
                    <a:pt x="268" y="2792"/>
                  </a:moveTo>
                  <a:lnTo>
                    <a:pt x="238" y="2792"/>
                  </a:lnTo>
                  <a:lnTo>
                    <a:pt x="208" y="2789"/>
                  </a:lnTo>
                  <a:lnTo>
                    <a:pt x="180" y="2785"/>
                  </a:lnTo>
                  <a:lnTo>
                    <a:pt x="153" y="2775"/>
                  </a:lnTo>
                  <a:lnTo>
                    <a:pt x="123" y="2762"/>
                  </a:lnTo>
                  <a:lnTo>
                    <a:pt x="101" y="2750"/>
                  </a:lnTo>
                  <a:lnTo>
                    <a:pt x="76" y="2731"/>
                  </a:lnTo>
                  <a:lnTo>
                    <a:pt x="54" y="2711"/>
                  </a:lnTo>
                  <a:lnTo>
                    <a:pt x="35" y="2689"/>
                  </a:lnTo>
                  <a:lnTo>
                    <a:pt x="21" y="2669"/>
                  </a:lnTo>
                  <a:lnTo>
                    <a:pt x="10" y="2645"/>
                  </a:lnTo>
                  <a:lnTo>
                    <a:pt x="0" y="2616"/>
                  </a:lnTo>
                  <a:lnTo>
                    <a:pt x="0" y="2586"/>
                  </a:lnTo>
                  <a:lnTo>
                    <a:pt x="0" y="2559"/>
                  </a:lnTo>
                  <a:lnTo>
                    <a:pt x="0" y="2540"/>
                  </a:lnTo>
                  <a:lnTo>
                    <a:pt x="0" y="0"/>
                  </a:lnTo>
                  <a:lnTo>
                    <a:pt x="3524" y="0"/>
                  </a:lnTo>
                  <a:lnTo>
                    <a:pt x="3524" y="2540"/>
                  </a:lnTo>
                  <a:lnTo>
                    <a:pt x="3524" y="2564"/>
                  </a:lnTo>
                  <a:lnTo>
                    <a:pt x="3524" y="2594"/>
                  </a:lnTo>
                  <a:lnTo>
                    <a:pt x="3518" y="2618"/>
                  </a:lnTo>
                  <a:lnTo>
                    <a:pt x="3507" y="2647"/>
                  </a:lnTo>
                  <a:lnTo>
                    <a:pt x="3494" y="2669"/>
                  </a:lnTo>
                  <a:lnTo>
                    <a:pt x="3480" y="2694"/>
                  </a:lnTo>
                  <a:lnTo>
                    <a:pt x="3461" y="2716"/>
                  </a:lnTo>
                  <a:lnTo>
                    <a:pt x="3439" y="2733"/>
                  </a:lnTo>
                  <a:lnTo>
                    <a:pt x="3417" y="2750"/>
                  </a:lnTo>
                  <a:lnTo>
                    <a:pt x="3392" y="2765"/>
                  </a:lnTo>
                  <a:lnTo>
                    <a:pt x="3362" y="2775"/>
                  </a:lnTo>
                  <a:lnTo>
                    <a:pt x="3335" y="2785"/>
                  </a:lnTo>
                  <a:lnTo>
                    <a:pt x="3310" y="2789"/>
                  </a:lnTo>
                  <a:lnTo>
                    <a:pt x="3275" y="2792"/>
                  </a:lnTo>
                  <a:lnTo>
                    <a:pt x="3253" y="2792"/>
                  </a:lnTo>
                  <a:lnTo>
                    <a:pt x="268" y="2792"/>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65040" y="1539720"/>
              <a:ext cx="76680" cy="54360"/>
            </a:xfrm>
            <a:custGeom>
              <a:avLst/>
              <a:gdLst/>
              <a:ahLst/>
              <a:rect l="0" t="0" r="r" b="b"/>
              <a:pathLst>
                <a:path w="213" h="151">
                  <a:moveTo>
                    <a:pt x="213" y="0"/>
                  </a:moveTo>
                  <a:lnTo>
                    <a:pt x="0" y="0"/>
                  </a:lnTo>
                  <a:lnTo>
                    <a:pt x="0" y="151"/>
                  </a:lnTo>
                  <a:lnTo>
                    <a:pt x="213" y="151"/>
                  </a:lnTo>
                  <a:lnTo>
                    <a:pt x="213" y="0"/>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42" name=""/>
          <p:cNvSpPr txBox="1"/>
          <p:nvPr/>
        </p:nvSpPr>
        <p:spPr>
          <a:xfrm>
            <a:off x="0" y="255600"/>
            <a:ext cx="914400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Foundation Classes</a:t>
            </a:r>
            <a:br>
              <a:rPr sz="4800"/>
            </a:br>
            <a:r>
              <a:rPr b="1" i="1" lang="en-US" sz="4000" spc="-1" strike="noStrike">
                <a:solidFill>
                  <a:srgbClr val="fafd00"/>
                </a:solidFill>
                <a:latin typeface="Times New Roman"/>
                <a:ea typeface="Times New Roman"/>
              </a:rPr>
              <a:t>The Standard For Windows</a:t>
            </a:r>
            <a:r>
              <a:rPr b="1" i="1" lang="en-US" sz="2800" spc="-1" strike="noStrike" baseline="45000">
                <a:solidFill>
                  <a:srgbClr val="fafd00"/>
                </a:solidFill>
                <a:latin typeface="Times New Roman"/>
                <a:ea typeface="Times New Roman"/>
              </a:rPr>
              <a:t>™</a:t>
            </a:r>
            <a:r>
              <a:rPr b="1" i="1"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143" name=""/>
          <p:cNvSpPr txBox="1"/>
          <p:nvPr/>
        </p:nvSpPr>
        <p:spPr>
          <a:xfrm>
            <a:off x="649440" y="4246560"/>
            <a:ext cx="8016840" cy="1738440"/>
          </a:xfrm>
          <a:prstGeom prst="rect">
            <a:avLst/>
          </a:prstGeom>
          <a:gradFill rotWithShape="0">
            <a:gsLst>
              <a:gs pos="0">
                <a:srgbClr val="3d3d3d"/>
              </a:gs>
              <a:gs pos="100000">
                <a:srgbClr val="cecece"/>
              </a:gs>
            </a:gsLst>
            <a:lin ang="5400000"/>
          </a:gradFill>
          <a:ln w="12600">
            <a:solidFill>
              <a:srgbClr val="ffffff"/>
            </a:solidFill>
            <a:round/>
          </a:ln>
          <a:effectLst>
            <a:outerShdw dist="0" dir="0" blurRad="0" rotWithShape="0">
              <a:srgbClr val="333333"/>
            </a:outerShdw>
          </a:effectLst>
        </p:spPr>
        <p:txBody>
          <a:bodyPr lIns="0" rIns="0" tIns="0" bIns="0" anchor="t">
            <a:noAutofit/>
          </a:bodyPr>
          <a:p>
            <a:pPr>
              <a:lnSpc>
                <a:spcPct val="90000"/>
              </a:lnSpc>
              <a:spcBef>
                <a:spcPts val="720"/>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MFC 2.0 makes it possible to write full-featured      Windows-based applications in a fraction of the time that would be required using the traditional C/SDK approach...”</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r">
              <a:lnSpc>
                <a:spcPct val="90000"/>
              </a:lnSpc>
              <a:spcBef>
                <a:spcPts val="720"/>
              </a:spcBef>
            </a:pPr>
            <a:r>
              <a:rPr b="1" i="1" lang="en-US" sz="2000" spc="-1" strike="noStrike">
                <a:solidFill>
                  <a:srgbClr val="ffffff"/>
                </a:solidFill>
                <a:latin typeface="Times New Roman"/>
                <a:ea typeface="Times New Roman"/>
              </a:rPr>
              <a:t>Richard Hale Shaw, Microsoft Systems Journal</a:t>
            </a:r>
            <a:br>
              <a:rPr sz="2000"/>
            </a:br>
            <a:r>
              <a:rPr b="1" i="1" lang="en-US" sz="2000" spc="-1" strike="noStrike">
                <a:solidFill>
                  <a:srgbClr val="ffffff"/>
                </a:solidFill>
                <a:latin typeface="Times New Roman"/>
                <a:ea typeface="Times New Roman"/>
              </a:rPr>
              <a:t>June 1993</a:t>
            </a:r>
            <a:endParaRPr b="0" lang="en-US" sz="2000" spc="-1" strike="noStrike">
              <a:solidFill>
                <a:srgbClr val="000000"/>
              </a:solidFill>
              <a:latin typeface="Arial"/>
            </a:endParaRPr>
          </a:p>
        </p:txBody>
      </p:sp>
      <p:sp>
        <p:nvSpPr>
          <p:cNvPr id="144" name=""/>
          <p:cNvSpPr txBox="1"/>
          <p:nvPr/>
        </p:nvSpPr>
        <p:spPr>
          <a:xfrm>
            <a:off x="1092240" y="2000160"/>
            <a:ext cx="554184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rtab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able</a:t>
            </a:r>
            <a:endParaRPr b="0" lang="en-US" sz="3200" spc="-1" strike="noStrike">
              <a:solidFill>
                <a:srgbClr val="ffffff"/>
              </a:solidFill>
              <a:latin typeface="Arial"/>
            </a:endParaRPr>
          </a:p>
        </p:txBody>
      </p:sp>
      <p:sp>
        <p:nvSpPr>
          <p:cNvPr id="145" name=""/>
          <p:cNvSpPr txBox="1"/>
          <p:nvPr/>
        </p:nvSpPr>
        <p:spPr>
          <a:xfrm>
            <a:off x="5138640" y="2038320"/>
            <a:ext cx="3892680" cy="1114560"/>
          </a:xfrm>
          <a:prstGeom prst="rect">
            <a:avLst/>
          </a:prstGeom>
          <a:noFill/>
          <a:ln w="0">
            <a:noFill/>
          </a:ln>
        </p:spPr>
        <p:txBody>
          <a:bodyPr lIns="0" rIns="0" tIns="0" bIns="0" anchor="t">
            <a:noAutofit/>
          </a:bodyPr>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fessional</a:t>
            </a:r>
            <a:endParaRPr b="0" lang="en-US" sz="3200" spc="-1" strike="noStrike">
              <a:solidFill>
                <a:srgbClr val="ffffff"/>
              </a:solidFill>
              <a:latin typeface="Arial"/>
            </a:endParaRPr>
          </a:p>
          <a:p>
            <a:pPr marL="555480" indent="-55548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 </a:t>
            </a:r>
            <a:endParaRPr b="0" lang="en-US" sz="4800" spc="-1" strike="noStrike">
              <a:solidFill>
                <a:srgbClr val="ffffff"/>
              </a:solidFill>
              <a:latin typeface="Arial"/>
            </a:endParaRPr>
          </a:p>
        </p:txBody>
      </p:sp>
      <p:pic>
        <p:nvPicPr>
          <p:cNvPr id="147" name="" descr=""/>
          <p:cNvPicPr/>
          <p:nvPr/>
        </p:nvPicPr>
        <p:blipFill>
          <a:blip r:embed="rId1"/>
          <a:stretch/>
        </p:blipFill>
        <p:spPr>
          <a:xfrm>
            <a:off x="176040" y="762120"/>
            <a:ext cx="3753000" cy="3629160"/>
          </a:xfrm>
          <a:prstGeom prst="rect">
            <a:avLst/>
          </a:prstGeom>
          <a:ln w="0">
            <a:noFill/>
          </a:ln>
        </p:spPr>
      </p:pic>
      <p:pic>
        <p:nvPicPr>
          <p:cNvPr id="148" name="" descr=""/>
          <p:cNvPicPr/>
          <p:nvPr/>
        </p:nvPicPr>
        <p:blipFill>
          <a:blip r:embed="rId2"/>
          <a:stretch/>
        </p:blipFill>
        <p:spPr>
          <a:xfrm>
            <a:off x="4572000" y="762120"/>
            <a:ext cx="3753000" cy="3629160"/>
          </a:xfrm>
          <a:prstGeom prst="rect">
            <a:avLst/>
          </a:prstGeom>
          <a:ln w="0">
            <a:noFill/>
          </a:ln>
        </p:spPr>
      </p:pic>
      <p:pic>
        <p:nvPicPr>
          <p:cNvPr id="149" name="" descr=""/>
          <p:cNvPicPr/>
          <p:nvPr/>
        </p:nvPicPr>
        <p:blipFill>
          <a:blip r:embed="rId3"/>
          <a:stretch/>
        </p:blipFill>
        <p:spPr>
          <a:xfrm>
            <a:off x="2695680" y="3216240"/>
            <a:ext cx="3753000" cy="3629160"/>
          </a:xfrm>
          <a:prstGeom prst="rect">
            <a:avLst/>
          </a:prstGeom>
          <a:ln w="0">
            <a:noFill/>
          </a:ln>
        </p:spPr>
      </p:pic>
      <p:sp>
        <p:nvSpPr>
          <p:cNvPr id="150" name=""/>
          <p:cNvSpPr txBox="1"/>
          <p:nvPr/>
        </p:nvSpPr>
        <p:spPr>
          <a:xfrm>
            <a:off x="3213000" y="4776840"/>
            <a:ext cx="271944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Windows NT</a:t>
            </a:r>
            <a:endParaRPr b="0" lang="en-US" sz="3200" spc="-1" strike="noStrike">
              <a:solidFill>
                <a:srgbClr val="000000"/>
              </a:solidFill>
              <a:latin typeface="Arial"/>
            </a:endParaRPr>
          </a:p>
        </p:txBody>
      </p:sp>
      <p:sp>
        <p:nvSpPr>
          <p:cNvPr id="151" name=""/>
          <p:cNvSpPr txBox="1"/>
          <p:nvPr/>
        </p:nvSpPr>
        <p:spPr>
          <a:xfrm>
            <a:off x="1100160" y="2252520"/>
            <a:ext cx="181944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OLE 2.0</a:t>
            </a:r>
            <a:endParaRPr b="0" lang="en-US" sz="3200" spc="-1" strike="noStrike">
              <a:solidFill>
                <a:srgbClr val="000000"/>
              </a:solidFill>
              <a:latin typeface="Arial"/>
            </a:endParaRPr>
          </a:p>
        </p:txBody>
      </p:sp>
      <p:sp>
        <p:nvSpPr>
          <p:cNvPr id="152" name=""/>
          <p:cNvSpPr txBox="1"/>
          <p:nvPr/>
        </p:nvSpPr>
        <p:spPr>
          <a:xfrm>
            <a:off x="5554800" y="2228760"/>
            <a:ext cx="2076480" cy="530280"/>
          </a:xfrm>
          <a:prstGeom prst="rect">
            <a:avLst/>
          </a:prstGeom>
          <a:solidFill>
            <a:srgbClr val="114ffb"/>
          </a:solid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Arial"/>
                <a:ea typeface="Arial"/>
              </a:rPr>
              <a:t>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3" name=""/>
          <p:cNvSpPr txBox="1"/>
          <p:nvPr/>
        </p:nvSpPr>
        <p:spPr>
          <a:xfrm>
            <a:off x="485640" y="-10008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Database Support</a:t>
            </a:r>
            <a:endParaRPr b="0" lang="en-US" sz="4800" spc="-1" strike="noStrike">
              <a:solidFill>
                <a:srgbClr val="ffffff"/>
              </a:solidFill>
              <a:latin typeface="Arial"/>
            </a:endParaRPr>
          </a:p>
        </p:txBody>
      </p:sp>
      <p:sp>
        <p:nvSpPr>
          <p:cNvPr id="154" name=""/>
          <p:cNvSpPr txBox="1"/>
          <p:nvPr/>
        </p:nvSpPr>
        <p:spPr>
          <a:xfrm>
            <a:off x="990720" y="1733400"/>
            <a:ext cx="7162920" cy="4148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DBC Driv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dBase, FoxPro, Paradox, Btrieve, Excel, text, SQL Server, Oracl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FC 2.5 Database Class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zards to </a:t>
            </a:r>
            <a:r>
              <a:rPr b="1" i="1" lang="en-US" sz="3200" spc="-1" strike="noStrike">
                <a:solidFill>
                  <a:srgbClr val="ffffff"/>
                </a:solidFill>
                <a:latin typeface="Times New Roman"/>
                <a:ea typeface="Times New Roman"/>
              </a:rPr>
              <a:t>“Make It Eas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 runtime licen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Query T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0093"/>
        </a:solidFill>
      </p:bgPr>
    </p:bg>
    <p:spTree>
      <p:nvGrpSpPr>
        <p:cNvPr id="1" name=""/>
        <p:cNvGrpSpPr/>
        <p:nvPr/>
      </p:nvGrpSpPr>
      <p:grpSpPr>
        <a:xfrm>
          <a:off x="0" y="0"/>
          <a:ext cx="0" cy="0"/>
          <a:chOff x="0" y="0"/>
          <a:chExt cx="0" cy="0"/>
        </a:xfrm>
      </p:grpSpPr>
      <p:sp>
        <p:nvSpPr>
          <p:cNvPr id="155" name=""/>
          <p:cNvSpPr txBox="1"/>
          <p:nvPr/>
        </p:nvSpPr>
        <p:spPr>
          <a:xfrm>
            <a:off x="698400" y="2247840"/>
            <a:ext cx="7748640" cy="2195640"/>
          </a:xfrm>
          <a:prstGeom prst="rect">
            <a:avLst/>
          </a:prstGeom>
          <a:noFill/>
          <a:ln w="0">
            <a:noFill/>
          </a:ln>
        </p:spPr>
        <p:txBody>
          <a:bodyPr lIns="0" rIns="0" tIns="0" bIns="0" anchor="t">
            <a:noAutofit/>
          </a:bodyPr>
          <a:p>
            <a:pPr marL="552600" indent="-552600">
              <a:lnSpc>
                <a:spcPct val="90000"/>
              </a:lnSpc>
              <a:spcBef>
                <a:spcPts val="720"/>
              </a:spcBef>
            </a:pPr>
            <a:r>
              <a:rPr b="1" lang="en-US" sz="3600" spc="-1" strike="noStrike">
                <a:solidFill>
                  <a:srgbClr val="ffffff"/>
                </a:solidFill>
                <a:latin typeface="Times New Roman"/>
                <a:ea typeface="Times New Roman"/>
              </a:rPr>
              <a:t>Today, OLE 2 “is hard”</a:t>
            </a:r>
            <a:endParaRPr b="0" lang="en-US" sz="36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ess than 10% developing for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than 75% want to, plan to, hope to.</a:t>
            </a:r>
            <a:endParaRPr b="0" lang="en-US" sz="2800" spc="-1" strike="noStrike">
              <a:solidFill>
                <a:srgbClr val="ffffff"/>
              </a:solidFill>
              <a:latin typeface="Arial"/>
            </a:endParaRPr>
          </a:p>
        </p:txBody>
      </p:sp>
      <p:sp>
        <p:nvSpPr>
          <p:cNvPr id="156" name=""/>
          <p:cNvSpPr txBox="1"/>
          <p:nvPr/>
        </p:nvSpPr>
        <p:spPr>
          <a:xfrm>
            <a:off x="485640" y="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isual C++ 1.5</a:t>
            </a:r>
            <a:br>
              <a:rPr sz="4800"/>
            </a:br>
            <a:r>
              <a:rPr b="1" lang="en-US" sz="4800" spc="-1" strike="noStrike">
                <a:solidFill>
                  <a:srgbClr val="fafd00"/>
                </a:solidFill>
                <a:latin typeface="Times New Roman"/>
                <a:ea typeface="Times New Roman"/>
              </a:rPr>
              <a:t>OLE 2.0 Suppor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ian K. Moran</dc:creator>
  <dc:description/>
  <dc:language>en-US</dc:language>
  <cp:lastModifiedBy>Brian K. Moran</cp:lastModifiedBy>
  <cp:revision>0</cp:revision>
  <dc:subject/>
  <dc:title>Microsoft Visual C++   Setting new standards for Windows development    Speaker's Name</dc:title>
</cp:coreProperties>
</file>