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91120" y="0"/>
            <a:ext cx="28684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nix Winter 1994 Brian Moran 1/94 </a:t>
            </a:r>
            <a:fld id="{4F33441E-05F3-4AF8-8BB8-1636D4EA656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34604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</a:t>
            </a:r>
            <a:r>
              <a:rPr b="0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</a:t>
            </a:r>
            <a:br>
              <a:rPr sz="1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OS Resources for Client Server Comp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stall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ervic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add service to regis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ing process must have Administrator privileges to do this (see service security information in end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pecify username and password to run service in specific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Service.13 page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 Main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90720" y="1728720"/>
            <a:ext cx="7162920" cy="454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stdio.h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time.h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rpc.h&gt;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RPC data,API prototyp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“auto.h”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DL-generated head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main(void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ime_t t1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har * pszTi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GetTime(&amp;t1);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this is the remote cal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zTime = ctime(&amp;t1);// convert to str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intf(“time = %s\n”, pszTime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Remote Pro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90720" y="1728720"/>
            <a:ext cx="7162920" cy="40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stdio.h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time.h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rpc.h&gt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RPC header 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“auto.h”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DL-generat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GetTime(time_t * pTim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ime (pTime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obtain a time stamp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eturn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951200" y="1557360"/>
            <a:ext cx="5241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UseAllProtseq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Register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Inq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Ex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Unex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Vector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728720"/>
            <a:ext cx="7162920" cy="405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STATUS statu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UseAllProtseqs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ax calls - not us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optional securit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RegisterIf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uto_ServerIfHandle, // interfa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type UUID; nil typ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gr epv; defaul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90720" y="1728720"/>
            <a:ext cx="7162920" cy="45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BINDING_VECTOR * pBindingVector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InqBindings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BindingVector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used in next cal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Export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C_NS_SYNTAX_DEFAULT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"/.:/autohandle_sample", // entry na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uto_ServerIfHandl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BindingVector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UUID </a:t>
            </a:r>
            <a:r>
              <a:rPr b="1" lang="en-US" sz="23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ect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26880" y="1682640"/>
            <a:ext cx="84916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pcServer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ls server to start accepting client requ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return until another server thread call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MgmtStopServerListen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90720" y="1728720"/>
            <a:ext cx="7162920" cy="366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STATUS statu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Listen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n number of call threa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MAX_CALLS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ax concurrent cal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FALSE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wait until server shutdow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90720" y="1728720"/>
            <a:ext cx="7162920" cy="340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Unexport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C_NS_SYNTAX_DEFAULT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"/.:/autohandle_sample", // entry na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uto_ServerIfHandl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BindingVectorFree(&amp;pBindingVector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inding:  How Clients Choose Which Server To U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35080" y="1944720"/>
            <a:ext cx="68756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-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match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using yellow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By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Like using white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/machine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:  location-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afe if “phone number”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written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Phone.id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90720" y="1728720"/>
            <a:ext cx="7162920" cy="547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 uuid(B19DD540-9B1F-1067-89D6-00DD010F2F1C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ersion(1.0) ] interface phone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lookup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andle_t 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  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a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nmax,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out, string, max_is(nmax)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add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andle_t 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a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delete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andle_t 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am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elet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ervic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 to remo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have Administrator privileges to remove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xample in end notes page Service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812960" y="1728720"/>
            <a:ext cx="55198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Import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Import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Import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46120" y="1400040"/>
            <a:ext cx="8053560" cy="53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stdio.h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rpc.h&gt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RPC data, API prototyp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“phone.h”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DL-generated head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main(int argc, char **argv) 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STATUS statu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NS_HANDLE nsHandle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ImportBegin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C_NS_DEFAULT_SYNTAX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.:/phone_sample”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hone_ClientIfHandl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nsHandl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720" y="1671480"/>
            <a:ext cx="7162920" cy="513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BINDING_HANDLE hBin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har number[NUMLEN]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while (Continue == TRUE)  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ImportNext(nsHandle,  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hBind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TryExcept 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call the remote procedur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lookup(hBind, argv[1], NUMLEN, number);                             Continue = FALSE;  // exit if successfu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Except(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Continue = TRUE;} // keep looking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EndExcep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 // end while loop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90720" y="1728720"/>
            <a:ext cx="7162920" cy="40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intf(“Name: %s\nNumber: %s\n”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rgv[1], number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ImportDone(nsHandl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BindingFree(hBind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xit(0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73000" y="2268360"/>
            <a:ext cx="739764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auto handle exampl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li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684440" y="1728720"/>
            <a:ext cx="577692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eplicate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them in an NS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comm failure, try next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y fail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Reset( 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might have re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92240" y="228600"/>
            <a:ext cx="6959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 RPC -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“Daytona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47640" y="1933560"/>
            <a:ext cx="6048360" cy="32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e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-less RPC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/IP, IPX transpor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interpreted stu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maller stu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r>
              <a:rPr b="1" lang="en-US" sz="27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lient 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90720" y="15048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 variety of communications mechanisms availabl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 may use multiple methods of communication (e.g. named pipes, sockets)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methods more secure, easier to use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l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733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ServiceConfi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hange service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ServiceConfi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et information on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tart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ServiceStatu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get the status of th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nd notes pages Service.15 through Service.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733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Example code provided in end notes, and in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of code to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stall/remove servic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ovider servic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reate named pip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anipulate security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654200"/>
            <a:ext cx="7162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system configuration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store application config or initialization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ttributes for database e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overhead than small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put LARGE amounts of information in the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- Where to put 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1752480"/>
            <a:ext cx="8381880" cy="27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Application-specfic information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LOCAL_MACHINE\Software\CompanyName\ProductName\Version\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User-specific information in KEY_CURRENT_USER\Software\CompanyName\ProductName\Version\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5360" y="1752480"/>
            <a:ext cx="81532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BINA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data in any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2-bit numb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_LITTLE_ENDI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2-bit number in little-endian format (same as REG_DWOR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_BIG_ENDI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2-bit number in big-endian forma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EXPAND_SZ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ull-terminated string that contains unexpanded references to environment variables (for example, "%PATH%"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LINK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icode symbolic lin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MULTI_SZ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rray of null-terminated strings, terminated by two null charac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NO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efined value typ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RESOURCE_LIS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evice-driver resource lis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SZ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ull-terminated string. It will be a UNICODE or ANSI string depending on whether you use the UNICODE or ANSI funct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 - Data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920" y="1066680"/>
            <a:ext cx="8534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data may be in the following forma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 - Adding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58112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reate/open registry key and get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reate/set the value(s) of the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lose registry; RegFlushKey(...) actually writes to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DeleteKey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delete a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 -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7334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notes give example of reading registry informatio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gistry.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733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location for hardware and software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for tracing, but rather to store information, warnings, and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readable, wri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 are atomic, record 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in event-viewer can be used to view th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971640"/>
            <a:ext cx="7162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&amp;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 Logging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1371600"/>
            <a:ext cx="83818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u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upEventLog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EventLo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OldestEventLogRecord()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NumberOfEventLogRecords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EventLog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Event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imple 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733400"/>
            <a:ext cx="716292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pplication name for Event Source, events show up under Applications category; use array of merge strings to report the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etter 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990720"/>
            <a:ext cx="868680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language specific messages in a messag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these messages into a 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his DLL into the Registry under HKEY_LOCAL_MACHINE\ System\CurrentControlSet\     Services\EventLog\Application\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Even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insertion strings, specify message ID for string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the end notes (eventlog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193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different from Unix - concept of Security ID, and access control 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amed objects, some unnamed objects may have ACLs atta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 process attaches primary security token to process (see end notes for information in the tok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accesses incur security che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s are variable length, identify user or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IDs besides logon SID are u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end notes provide gory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Che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7280" y="1576440"/>
            <a:ext cx="8569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Programming Im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733400"/>
            <a:ext cx="7162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logon process creates primary security token, attaches to logged-i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ion of security from non-Windows domain is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tuid -- Impersonation is used to assume a different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re created with default ACLs - see endnotes for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using ACLs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733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mpty ACL (vs non-existent) denies all access to an object (see endnotes Security.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rant access,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explicitly get SID to add to objects ACL  (see endnotes Security.3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1350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Using Imperson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mpersonate from named pipe client, or from DDE Window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ccepts connection, does impersonate, accomplishes work, then doe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UserNam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ter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-100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Practical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a service that “owns” a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ACL on resource to only allow access by entities that qual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ervice, impersonation  to arbitrate who has access to the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valent to daemon i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way to survive logout by a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un under specific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Win32 binary or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dependencies can be 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cesses and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signed for SMP from begi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multiple threads is a good way to take advantage of S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process can have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cess hier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ior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066680"/>
            <a:ext cx="807732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belong to priority classes, threads are based on that priority clas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process.43-4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priorities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_PRIORITY_CLASS, NORMAL_PRIORITY_CLASS, HIGH_PRIORITY_CLASS, REALTIME_PRIORITY_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iorities: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_PRIORITY_IDLE, THREAD_PRIORITY_LOWEST, THREAD_PRIORITY_BELOW_NORMAL, THREAD_PRIORITY_NORMAL, THREAD_PRIORITY_ABOVE_NORMAL, THREAD_PRIORITY_HIGHEST, THREAD_PRIORITY_TIME_CRITI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ling 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tarts a new process and thread with provided environment, security descriptors, I/O handles, etc. (returns handles, IDs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3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 processes are not stopped when parent ex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Process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Used to stop current process gracefull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3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cess Hi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276200"/>
            <a:ext cx="716292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can inherit handles, priorities, control-c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ure you close all handles created b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open handles to an exited process consume a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do interesting things with other process’ memory, thread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3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ct when processes 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turing Child process I/O 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.16, Process.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st application unit of ex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ally a program counter and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for use on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ling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95360" y="1295280"/>
            <a:ext cx="8153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tarts thread with given address, security descriptor, etc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Remote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Creates thread in the context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me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used to pause and restart a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Terminates thread, performs cleanup, causes thread to become signall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838080"/>
            <a:ext cx="86868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tart address may point to any memory addr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events are queued on thread that created th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threads in a process may be executing in different user contex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 or exceptions are raised on threads that caused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ynchronization to control access to resources between threa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 Local Storage (TLS) to store thread-specific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ample in end notes - Process.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Thread Local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720" y="1733400"/>
            <a:ext cx="7162920" cy="39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provides mechanism for thread-specific value to be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strategy: dynamically allocate a block of memory for each thread, put this address in the TLS value s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om for up to 64 different values per thread guarant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LS functions in endnotes (process.56-6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multiple thread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read local storag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60) (DLL.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tarting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33400"/>
            <a:ext cx="71629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ed on demand, at boot time, or man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must be started through the Service Control Manager (S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required when multiple processes or threads need access to a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a process: memory objects, handles, files, pipes, code section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processes: any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ynchronization: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733400"/>
            <a:ext cx="71629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, mutexes, semaphores, processes, threads can be used for explicit interprocess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, pipes, standard handles can also be used when asynchronous I/O i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, mutexes, semaphores can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used for intra-process synchronization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880" y="1295280"/>
            <a:ext cx="8381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can be shared two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erited from parent - set inherit attribute on object, or specify inherit flag i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child may use passed value in handl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he handle value, as well as the creating process ID, must be communicated to the process/thre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endnotes (synchronization.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aiting fo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733400"/>
            <a:ext cx="7162920" cy="26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mechanism for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when object(s) signalled or timeout elap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waiting for multiple objects (synchronization.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ritical Se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114300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ntra-process synchronization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than mut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ust allocate storage for object using CRITICAL_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cket code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CriticalSectio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veCriticalSection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owing a critical section ma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CriticalSectio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many times as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tion.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ut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35252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coordinate access to resources between threads in different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general, surround access to resource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hMutex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imeouts to avoid dead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tion.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s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shot or auto-re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shot events: when signalled, any/all threads may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-reset: Only one thread is allowed to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events w/multiple threads and multiplexed w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tion.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mapho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synchronizatio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ion.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ynamic Link Libra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share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executab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icit loading, or explicit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families of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LLs With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ecutes in context of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allocated in address space of call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globals can be read/written by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Control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ly starts th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Registry information regarding installed services (HKEY_LOCAL_MACHINE\SYSTEM\CurrentControlSet\Servi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ies services for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s services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914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Library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load a DLL, the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ocAddress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the address (by name or ordi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EntryPoin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used, it’s called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ttaches a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attaches a DLL (thread create in a pro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detaches a DLL (excep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Process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detaches (except with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ndnotes (DLL.5, DLL.24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Library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(DLL.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majo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”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loc(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amp;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l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* mem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lloc()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re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2GB available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 addresses allocated by user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1/2 of 4GB space reserved for system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Hea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Creat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allocate a new heap in 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Alloc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Destroy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rid of he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ndnotes for details (heap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Heap Hi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 has a default he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emory not moveable- fragmentation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 are thread saf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is private to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Virtual* 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26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micro-managing pages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al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ttributes of pages in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icit basing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end notes (virtmem.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90720" y="1733400"/>
            <a:ext cx="71629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processes, use global DLL data (not secure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ndnotes: DLL.1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 can be allocated from system page file, or mapped from specifie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M may be read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 - Crea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733400"/>
            <a:ext cx="71629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file name, appropriate m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file handle to create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tually maps into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lean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 - Consum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90720" y="1733400"/>
            <a:ext cx="71629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handle to memory -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FileMappin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name of memory, or another method for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map into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lean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 -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notes: Sharemem.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990720"/>
            <a:ext cx="8077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Entry point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call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CtrlDispatch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ction to connect the main thread of the process to the Service Control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Main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he entry point for each service that can run in th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 control handler for each service that can run in the proc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ile I/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90720" y="1733400"/>
            <a:ext cx="7162920" cy="30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pe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los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printf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rk o.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 bit file posi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ecurity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blocking (overlapped)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on-blocking File I/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143000"/>
            <a:ext cx="81532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ust maintain file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open/creat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do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Ex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Ex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pecify a “callback” function on com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of completion occurs i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in endnotes: Files.13, Pipes.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endnotes: Pipes.17, Pipes.24, Files.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720" y="17334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s not covered include graphical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Programming with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1733400"/>
            <a:ext cx="71629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s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73340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of protocol and communications method determined by mix of client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OS and Windows clients are volume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mechanisms include IPX/SPX (Novell), SMB (Microsoft),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9072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clients: OS may seemingly block during network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lients: easiest communications method is 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: Sockets probably best for cross-domain (i.e. Unix)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B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ow level -- originally used in IBM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3.0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d for compatibility with man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1733400"/>
            <a:ext cx="716292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of underlying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uil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mode or message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way or two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pipe name may have multiple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 may be blocking or non-blo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 -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1200240"/>
            <a:ext cx="7162920" cy="54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nstantiate first pipe with instance 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ddition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s to get handles to other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push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ekNamedPip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nondestructive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shFileBuffer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pipe handle to make sure client gets all data befo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NamedPip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 -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n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0773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service dispatch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ControlDispatch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if service 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page Service.1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 - Cli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Name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open pipe, send data, receive data, and close pi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ly,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Named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file operations to read/write the pip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 - Miscellaneo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0720" y="1733400"/>
            <a:ext cx="7162920" cy="26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NamedPipeInfo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return information about buffers,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NamedPipeHandleStat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change modes, timeouts, and b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erver with multiple threads and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way, “unreliable” datagram oriented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or broadcast (broadcast:400 bytes ma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 - Crea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144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FAR PASCAL Makeslot(HWND hwnd, HDC hd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R lpszSlotName = "\\\\.\\mailslot\\sample_mailslot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The mailslot handle "hSlot1" is declared globally.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lot1 = CreateMailslot(lpszSlotNam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                         /* no maximum message size     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SLOT_WAIT_FOREVER,     /* no time-out for read operations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 NULL); /* no security attributes  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hSlot1 == INVALID_HANDLE_VALU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Handler(hwnd, "CreateMailslot"); /* local error handler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ut(hdc, 10, 10, "CreateMailslot successful.", 26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 - Sending 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\\*\mailslot\name to send to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end th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 - Read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information from mails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ailslotInfo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et information on number of messages and size of next 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733400"/>
            <a:ext cx="71629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inally “hot links” betwee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to network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to window communications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DDEML information in Windows 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Berkeley sockets, with extensions to accommodate Windows programming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by over 30 companies w/implementations on Windows,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85640" y="525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Sockets - Supported Protoc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90720" y="17334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-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TCP/IP, IPX/SPX, Appletalk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ifferences from Berkele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733400"/>
            <a:ext cx="7162920" cy="26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data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(),select(),clo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number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socket descrip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*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525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 -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Main()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752480"/>
            <a:ext cx="80773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(...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 status to SCM throug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rviceStatus(..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coordinate between threads of service -- suggest us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Event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do synchron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page Service.3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OCKET Data Typ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114300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not be used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however can be used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socke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socke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socket returned with INVALID_SO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* values are prefixed with WSA (e.g. EWOULDBLOCK =&gt; WSAEWOULDBLO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GetLastError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et socket error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served range of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990720" y="1276200"/>
            <a:ext cx="71629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depend on underlying format of fd_set - Use FD_* macro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combine socket descriptor and file handles in select() call - 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*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locking or non-blocking I/O work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ive sockets to chil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OCKET us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SA* ca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ith Windows programming model to generate messages for socket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GetXbyY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s return thread-specific information data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SAStartup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914400"/>
            <a:ext cx="8686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Startup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nitialize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279440"/>
            <a:ext cx="868680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wVersionRequested;      WSADATA wsaData;     int er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VersionRequested = MAKEWORD( 1, 1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 = WSAStartup( wVersionRequested, &amp;wsaData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 err != 0 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Tell the user that we couldn't find a useable winsock.dll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onfirm that the Windows Sockets DLL supports 1.1.  Note that if the 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versions greater than 1.1 in addition to 1.1, it will still return 1.1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Version since that is the version we requested.                                    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 LOBYTE( wsaData.wVersion ) != 1 |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BYTE( wsaData.wVersion ) != 1 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Tell the user that we couldn't find a useable winsock.dll.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Cleanup(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Sockets with IPX/SP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219320"/>
            <a:ext cx="8839080" cy="55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ing out SAP advertisements: Pseudo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local socket (IPX protoc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 socket to workstation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to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atagram socket (typically for datagrams you can choose to not us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stead use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to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; for further info see the MSJ article on Windows Sockets.).  This is more convenient when performing multiple sends to the same endpo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local node address so the SAP broadcast can use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SAP broadcast...these fields are defined in Novell's I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 Specification as well as the book: "Novell's Guide to NetWare LAN Analysis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the SAP every 60 sec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ore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notes - Novell SAP code: sockets.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notes - Multithreaded Windows Sockets application sockets.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405080" y="1130400"/>
            <a:ext cx="633564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l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ystem compon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interope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on all M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name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-orien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rans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0" y="5049720"/>
            <a:ext cx="211788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965160" indent="-4143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5160" indent="-4143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1080" y="228600"/>
            <a:ext cx="878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 RPC Server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0" y="2943360"/>
            <a:ext cx="61920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973680" y="2943360"/>
            <a:ext cx="25704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82640" y="2943360"/>
            <a:ext cx="2532240" cy="111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19800" y="2943360"/>
            <a:ext cx="152064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32440" y="2943360"/>
            <a:ext cx="255420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616120" y="2943360"/>
            <a:ext cx="118440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82520" y="4041720"/>
            <a:ext cx="144936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58960" y="4041720"/>
            <a:ext cx="139212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2840" y="4041720"/>
            <a:ext cx="135396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400" spc="-1" strike="noStrike" baseline="46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735440" y="4041720"/>
            <a:ext cx="132084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188040" y="4041720"/>
            <a:ext cx="132084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640640" y="4041720"/>
            <a:ext cx="132084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759040" y="1862280"/>
            <a:ext cx="3627360" cy="1258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r “Chicag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92160" y="228600"/>
            <a:ext cx="7701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un-Time Architecture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20760" y="2867040"/>
            <a:ext cx="1508040" cy="603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amed pip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815000" y="2867040"/>
            <a:ext cx="1447920" cy="603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ock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518160" y="2873520"/>
            <a:ext cx="1568520" cy="60336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&lt;transport 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5400" y="1925640"/>
            <a:ext cx="7037280" cy="65412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MS RPC run-time D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17440" y="4049640"/>
            <a:ext cx="1771560" cy="34920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AMPIPES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09760" y="4697280"/>
            <a:ext cx="1003320" cy="480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Redi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73080" y="5487840"/>
            <a:ext cx="722484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397160" y="5883120"/>
            <a:ext cx="1052640" cy="372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etBEU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165640" y="5907240"/>
            <a:ext cx="1028880" cy="372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PX/SPX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281400" y="5883120"/>
            <a:ext cx="884160" cy="372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000" y="4624560"/>
            <a:ext cx="0" cy="122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46080" y="3822840"/>
            <a:ext cx="719784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916280" y="4538520"/>
            <a:ext cx="0" cy="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16280" y="3554280"/>
            <a:ext cx="0" cy="39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05560" y="3639960"/>
            <a:ext cx="0" cy="363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54880" y="5896080"/>
            <a:ext cx="1592280" cy="37296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&lt;transport 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95400" y="5348160"/>
            <a:ext cx="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99360" y="3632040"/>
            <a:ext cx="0" cy="221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63680" y="5289480"/>
            <a:ext cx="1179720" cy="534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71880" y="2867040"/>
            <a:ext cx="1447920" cy="603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etB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85920" y="4049640"/>
            <a:ext cx="1436760" cy="34920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ETAPI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80080" y="4064040"/>
            <a:ext cx="1687680" cy="34920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WINSOCK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65600" y="3575160"/>
            <a:ext cx="0" cy="42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263680" y="4538520"/>
            <a:ext cx="1285920" cy="128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65600" y="4538520"/>
            <a:ext cx="0" cy="128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194000" y="4538520"/>
            <a:ext cx="1285920" cy="128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090440" y="228600"/>
            <a:ext cx="6964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un-Time Architecture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75120" y="4013280"/>
            <a:ext cx="1528920" cy="9604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r “Chicago” RPC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550880" y="4024440"/>
            <a:ext cx="127620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RPC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801800" y="2330280"/>
            <a:ext cx="172548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Locato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716280" y="2367000"/>
            <a:ext cx="1704960" cy="368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618160" y="2373480"/>
            <a:ext cx="197640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name 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16440" y="4024440"/>
            <a:ext cx="125748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324480" y="4024440"/>
            <a:ext cx="125748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146320" y="3009960"/>
            <a:ext cx="485640" cy="103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162160" y="2733840"/>
            <a:ext cx="2390760" cy="127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174760" y="3054240"/>
            <a:ext cx="4467240" cy="95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619360" y="2994120"/>
            <a:ext cx="1203480" cy="10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838680" y="2749680"/>
            <a:ext cx="685800" cy="127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807000" y="3054240"/>
            <a:ext cx="2787480" cy="99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552920" y="2765520"/>
            <a:ext cx="870120" cy="127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537080" y="2749680"/>
            <a:ext cx="24256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 -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Handler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y Service Control Dispatcher through command of S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handle defined control c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update SCM us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StatusToSCMg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page Service.8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63680" y="228600"/>
            <a:ext cx="82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un-Time Architecture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25480" y="2414520"/>
            <a:ext cx="7461360" cy="1387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S RPC run-time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83280" y="4270320"/>
            <a:ext cx="2224080" cy="82764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erb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460680" y="4270320"/>
            <a:ext cx="2224080" cy="82764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lt;other security mechanis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25480" y="4270320"/>
            <a:ext cx="2198520" cy="81612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ndows NT secu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346640" y="2257560"/>
            <a:ext cx="4705200" cy="167004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4b197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0" y="2257560"/>
            <a:ext cx="1733400" cy="165096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4b197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5880" y="2257560"/>
            <a:ext cx="2246400" cy="165888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4b197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5920" y="228600"/>
            <a:ext cx="837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 RPC Platform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" y="1728720"/>
            <a:ext cx="912816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 time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, NetBIOS, TCP/IP, SPX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x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, NetBIOS, TCP/IP, SPX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, NetBIOS, TCP/IP, SPX, LPC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</a:t>
            </a: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etBIOS, TCP/IP</a:t>
            </a: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PX, LPC</a:t>
            </a: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886040"/>
                <a:tab algn="l" pos="42861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in M6 release of “Chicago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 RPC Development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74640" y="1728720"/>
            <a:ext cx="77961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 Developer’s Kit (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nd 32-bit IDL comp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with distribution licen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Developer’s Guide and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49120" y="228600"/>
            <a:ext cx="8647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eveloping An RPC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92280" y="1506600"/>
            <a:ext cx="7761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IDL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lient and server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IDL file with MIDL comp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client, server, and MIDL stu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, including RPC run-time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855800" y="228600"/>
            <a:ext cx="54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DL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98400" y="1754280"/>
            <a:ext cx="7747200" cy="3368520"/>
            <a:chOff x="698400" y="1754280"/>
            <a:chExt cx="7747200" cy="3368520"/>
          </a:xfrm>
        </p:grpSpPr>
        <p:sp>
          <p:nvSpPr>
            <p:cNvPr id="288" name=""/>
            <p:cNvSpPr txBox="1"/>
            <p:nvPr/>
          </p:nvSpPr>
          <p:spPr>
            <a:xfrm>
              <a:off x="2598840" y="1787400"/>
              <a:ext cx="1087560" cy="620640"/>
            </a:xfrm>
            <a:prstGeom prst="rect">
              <a:avLst/>
            </a:prstGeom>
            <a:gradFill rotWithShape="0">
              <a:gsLst>
                <a:gs pos="0">
                  <a:srgbClr val="f95ab7"/>
                </a:gs>
                <a:gs pos="100000">
                  <a:srgbClr val="4a1b3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ID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5232240" y="1754280"/>
              <a:ext cx="1208160" cy="620640"/>
            </a:xfrm>
            <a:prstGeom prst="rect">
              <a:avLst/>
            </a:prstGeom>
            <a:gradFill rotWithShape="0">
              <a:gsLst>
                <a:gs pos="0">
                  <a:srgbClr val="f95ab7"/>
                </a:gs>
                <a:gs pos="100000">
                  <a:srgbClr val="4a1b3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AC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2440080" y="3056040"/>
              <a:ext cx="4278240" cy="569880"/>
            </a:xfrm>
            <a:prstGeom prst="rect">
              <a:avLst/>
            </a:prstGeom>
            <a:gradFill rotWithShape="0">
              <a:gsLst>
                <a:gs pos="0">
                  <a:srgbClr val="f95ab7"/>
                </a:gs>
                <a:gs pos="100000">
                  <a:srgbClr val="4a1b3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 RPC IDL Compil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698400" y="4541760"/>
              <a:ext cx="2533680" cy="4986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5174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2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client_stubs&gt;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4098960" y="4502160"/>
              <a:ext cx="654120" cy="62064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5174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5803920" y="4537080"/>
              <a:ext cx="2641680" cy="492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5174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server_stubs&gt;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24080" y="2570040"/>
              <a:ext cx="0" cy="365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506680" y="3822840"/>
              <a:ext cx="525600" cy="58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27640" y="3790800"/>
              <a:ext cx="0" cy="598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05640" y="3780000"/>
              <a:ext cx="760320" cy="58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6760" y="2527200"/>
              <a:ext cx="0" cy="449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827360" y="228600"/>
            <a:ext cx="548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ample IDL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96840" y="1962000"/>
            <a:ext cx="6575400" cy="40453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imple.i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uuid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9A50F380-8F36-1067-89D4-00DD010F2F1C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version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1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interface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si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impleCall(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handle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_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 h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long firs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out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long *secon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inding:  How Clients Choose Which Server To U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135080" y="1981080"/>
            <a:ext cx="68756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Auto-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By match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Like using yellow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using white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/machine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:  location-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afe if “phone number”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written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IDL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90720" y="1728720"/>
            <a:ext cx="7162920" cy="32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uuid(12345678-1234-1234-123456789ABC)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ersion (1.0)]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nterface aut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ypedef long time_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GetTime([out] time_t *tim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87440" y="228600"/>
            <a:ext cx="8169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ACF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92160" y="1728720"/>
            <a:ext cx="7159680" cy="158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auto_handle]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nterface aut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s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1560" y="1728720"/>
            <a:ext cx="79423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PIs to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stubs manage binding to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alls the function as if it were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