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91120" y="0"/>
            <a:ext cx="28684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nix Winter 1994 Brian Moran 1/94 </a:t>
            </a:r>
            <a:fld id="{FFF9BCF5-2495-4D6A-80A5-CBCEA599C687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662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Client/Server Program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2305080"/>
            <a:ext cx="71629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4991040"/>
            <a:ext cx="7715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1993, 1994 by Microsoft Cor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1733400"/>
            <a:ext cx="70866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X Application Pro &amp; C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028880"/>
            <a:ext cx="83059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Microsof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95280" y="557280"/>
            <a:ext cx="6553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14360" y="209556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343160" y="200160"/>
            <a:ext cx="638172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reas for Attention When Porting to Windows NT and Unix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0920" y="2209680"/>
            <a:ext cx="50418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orting Hints: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504800"/>
            <a:ext cx="71629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-time FIRST to determine if your functionality is supported!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similar;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“section 2” APIs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-line C run-time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048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ecurity based on SID and A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 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ocess Model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5048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 pause()&amp;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85880" y="1305000"/>
            <a:ext cx="5772240" cy="4651200"/>
          </a:xfrm>
          <a:prstGeom prst="rect">
            <a:avLst/>
          </a:prstGeom>
          <a:gradFill rotWithShape="0">
            <a:gsLst>
              <a:gs pos="0">
                <a:srgbClr val="380066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305000" y="7308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9040" y="1457280"/>
            <a:ext cx="8305920" cy="4981680"/>
          </a:xfrm>
          <a:prstGeom prst="rect">
            <a:avLst/>
          </a:prstGeom>
          <a:gradFill rotWithShape="0">
            <a:gsLst>
              <a:gs pos="0">
                <a:srgbClr val="380066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28680" y="7308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0600" y="1568520"/>
            <a:ext cx="8362800" cy="4513320"/>
          </a:xfrm>
          <a:prstGeom prst="rect">
            <a:avLst/>
          </a:prstGeom>
          <a:gradFill rotWithShape="0">
            <a:gsLst>
              <a:gs pos="0">
                <a:srgbClr val="380066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genda</a:t>
            </a: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238400"/>
            <a:ext cx="832500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Windows NT from a networking perspec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or the Unix famili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S resources for client/server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operations: NetBIOS, Named Pipes, Mailslots, Sockets, RPC, O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2240" y="1371600"/>
            <a:ext cx="87598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(e.g. SIGCHL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be used as IPC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5048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-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 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 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76240" y="10857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6280" y="1085760"/>
            <a:ext cx="81532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Use POSIX subsystem to perform ln(), if you need it -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5048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eneral, not the model for Windows NT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ecurity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73340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bout current network user, groups, etc. through Network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0160" y="876240"/>
            <a:ext cx="861048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Pipes, named pipes, named shared memory, semaphores, mutexes,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40" y="914400"/>
            <a:ext cx="8534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ties available via internet and Compuserve (source form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other TCP/IP services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 oriented RPC available in the box. ONC RPC available from third pa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nd No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5048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 relevant manpages and sample sourc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API32WH.HLP and other help files for mor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09680" y="914400"/>
            <a:ext cx="83250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heap alloc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rogramming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52600" y="1989000"/>
            <a:ext cx="80391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0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rt II - Programming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71468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shell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- FTP, Su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UC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d - buil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0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Languages/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5048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23960" y="1257480"/>
            <a:ext cx="75628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comp.os.ms-window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, ftp.cica.indiana.edu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5048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moving 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85960" y="1701720"/>
            <a:ext cx="737244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Programming for the UNIX</a:t>
            </a:r>
            <a:r>
              <a:rPr b="1" lang="en-US" sz="4800" spc="-1" strike="noStrike" baseline="30000">
                <a:solidFill>
                  <a:srgbClr val="e2b4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38240" y="228600"/>
            <a:ext cx="7067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rt I - 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7360" y="1276200"/>
            <a:ext cx="76392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81160" y="2952720"/>
            <a:ext cx="662940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0640" y="1733400"/>
            <a:ext cx="5562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o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GUI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38240" y="228600"/>
            <a:ext cx="7067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09760" y="1733400"/>
            <a:ext cx="63244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90520" y="1733400"/>
            <a:ext cx="67626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09760" y="2076480"/>
            <a:ext cx="6324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