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B2C8A8-452E-4DDF-8D68-CF54C7691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even distribute pieces to multiple machines - facilities for transparent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19000" y="716040"/>
            <a:ext cx="750564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:</a:t>
            </a:r>
            <a:br>
              <a:rPr sz="5400"/>
            </a:br>
            <a:r>
              <a:rPr b="1" lang="en-US" sz="5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 Facili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1920" y="1733400"/>
            <a:ext cx="721980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message notification for     non-block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Win32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for multiple transpor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47920" y="1676520"/>
            <a:ext cx="62485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3.0 adapted to Win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NetBIOS 3.0 in W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, TCP/IP (RFC 100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link control (D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B interface adapted to Win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terface in W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362240" y="228600"/>
            <a:ext cx="6419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24200" y="1600200"/>
            <a:ext cx="5295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kernel transport driver interface (TD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 libraries utilize T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95280" y="228600"/>
            <a:ext cx="6553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 Card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66960" y="158112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river interface specification (NDIS 3.0) C-call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ards,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, portable, MP-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ynamic Protocol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97240" y="1752480"/>
            <a:ext cx="5486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listen” on multiple networks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TCP/IP sockets, IPX/SPX, VINES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a single server platform for integrating multiple desktop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LANMan, UNIX, Windows NT, Windows for Workgou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58680" y="354168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3452760"/>
            <a:ext cx="0" cy="15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46280" y="3541680"/>
            <a:ext cx="0" cy="96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120" y="3276720"/>
            <a:ext cx="792360" cy="176400"/>
          </a:xfrm>
          <a:custGeom>
            <a:avLst/>
            <a:gdLst/>
            <a:ahLst/>
            <a:rect l="0" t="0" r="r" b="b"/>
            <a:pathLst>
              <a:path w="2201" h="490">
                <a:moveTo>
                  <a:pt x="0" y="490"/>
                </a:moveTo>
                <a:lnTo>
                  <a:pt x="488" y="0"/>
                </a:lnTo>
                <a:lnTo>
                  <a:pt x="2201" y="0"/>
                </a:lnTo>
                <a:lnTo>
                  <a:pt x="1712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35080" y="3276720"/>
            <a:ext cx="176400" cy="441720"/>
          </a:xfrm>
          <a:custGeom>
            <a:avLst/>
            <a:gdLst/>
            <a:ahLst/>
            <a:rect l="0" t="0" r="r" b="b"/>
            <a:pathLst>
              <a:path w="490" h="1227">
                <a:moveTo>
                  <a:pt x="0" y="1227"/>
                </a:moveTo>
                <a:lnTo>
                  <a:pt x="0" y="491"/>
                </a:lnTo>
                <a:lnTo>
                  <a:pt x="490" y="0"/>
                </a:lnTo>
                <a:lnTo>
                  <a:pt x="490" y="736"/>
                </a:lnTo>
                <a:lnTo>
                  <a:pt x="0" y="12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9120" y="3457440"/>
            <a:ext cx="615960" cy="26496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3276720"/>
            <a:ext cx="794160" cy="176400"/>
          </a:xfrm>
          <a:custGeom>
            <a:avLst/>
            <a:gdLst/>
            <a:ahLst/>
            <a:rect l="0" t="0" r="r" b="b"/>
            <a:pathLst>
              <a:path w="2206" h="490">
                <a:moveTo>
                  <a:pt x="0" y="490"/>
                </a:moveTo>
                <a:lnTo>
                  <a:pt x="489" y="0"/>
                </a:lnTo>
                <a:lnTo>
                  <a:pt x="2206" y="0"/>
                </a:lnTo>
                <a:lnTo>
                  <a:pt x="1716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8880" y="3276720"/>
            <a:ext cx="176400" cy="441720"/>
          </a:xfrm>
          <a:custGeom>
            <a:avLst/>
            <a:gdLst/>
            <a:ahLst/>
            <a:rect l="0" t="0" r="r" b="b"/>
            <a:pathLst>
              <a:path w="490" h="1227">
                <a:moveTo>
                  <a:pt x="0" y="1227"/>
                </a:moveTo>
                <a:lnTo>
                  <a:pt x="0" y="491"/>
                </a:lnTo>
                <a:lnTo>
                  <a:pt x="490" y="0"/>
                </a:lnTo>
                <a:lnTo>
                  <a:pt x="490" y="736"/>
                </a:lnTo>
                <a:lnTo>
                  <a:pt x="0" y="12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11120" y="3457440"/>
            <a:ext cx="617400" cy="26496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04920" y="3276720"/>
            <a:ext cx="794160" cy="176400"/>
          </a:xfrm>
          <a:custGeom>
            <a:avLst/>
            <a:gdLst/>
            <a:ahLst/>
            <a:rect l="0" t="0" r="r" b="b"/>
            <a:pathLst>
              <a:path w="2206" h="490">
                <a:moveTo>
                  <a:pt x="0" y="490"/>
                </a:moveTo>
                <a:lnTo>
                  <a:pt x="489" y="0"/>
                </a:lnTo>
                <a:lnTo>
                  <a:pt x="2206" y="0"/>
                </a:lnTo>
                <a:lnTo>
                  <a:pt x="1716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22680" y="3276720"/>
            <a:ext cx="176400" cy="441720"/>
          </a:xfrm>
          <a:custGeom>
            <a:avLst/>
            <a:gdLst/>
            <a:ahLst/>
            <a:rect l="0" t="0" r="r" b="b"/>
            <a:pathLst>
              <a:path w="490" h="1227">
                <a:moveTo>
                  <a:pt x="0" y="1227"/>
                </a:moveTo>
                <a:lnTo>
                  <a:pt x="0" y="491"/>
                </a:lnTo>
                <a:lnTo>
                  <a:pt x="490" y="0"/>
                </a:lnTo>
                <a:lnTo>
                  <a:pt x="490" y="736"/>
                </a:lnTo>
                <a:lnTo>
                  <a:pt x="0" y="12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04920" y="3457440"/>
            <a:ext cx="617400" cy="26496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58680" y="2747880"/>
            <a:ext cx="0" cy="61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747880"/>
            <a:ext cx="0" cy="61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46280" y="2747880"/>
            <a:ext cx="0" cy="61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9120" y="1866960"/>
            <a:ext cx="2379960" cy="176400"/>
          </a:xfrm>
          <a:custGeom>
            <a:avLst/>
            <a:gdLst/>
            <a:ahLst/>
            <a:rect l="0" t="0" r="r" b="b"/>
            <a:pathLst>
              <a:path w="6611" h="490">
                <a:moveTo>
                  <a:pt x="0" y="490"/>
                </a:moveTo>
                <a:lnTo>
                  <a:pt x="489" y="0"/>
                </a:lnTo>
                <a:lnTo>
                  <a:pt x="6611" y="0"/>
                </a:lnTo>
                <a:lnTo>
                  <a:pt x="6121" y="490"/>
                </a:lnTo>
                <a:lnTo>
                  <a:pt x="0" y="49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22680" y="1866960"/>
            <a:ext cx="176400" cy="1233720"/>
          </a:xfrm>
          <a:custGeom>
            <a:avLst/>
            <a:gdLst/>
            <a:ahLst/>
            <a:rect l="0" t="0" r="r" b="b"/>
            <a:pathLst>
              <a:path w="490" h="3427">
                <a:moveTo>
                  <a:pt x="0" y="3427"/>
                </a:moveTo>
                <a:lnTo>
                  <a:pt x="0" y="489"/>
                </a:lnTo>
                <a:lnTo>
                  <a:pt x="490" y="0"/>
                </a:lnTo>
                <a:lnTo>
                  <a:pt x="490" y="2937"/>
                </a:lnTo>
                <a:lnTo>
                  <a:pt x="0" y="3427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9120" y="2038320"/>
            <a:ext cx="2203560" cy="1057320"/>
          </a:xfrm>
          <a:prstGeom prst="rect">
            <a:avLst/>
          </a:prstGeom>
          <a:gradFill rotWithShape="0">
            <a:gsLst>
              <a:gs pos="0">
                <a:srgbClr val="0d3fc8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0360" y="4094280"/>
            <a:ext cx="863640" cy="649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41280" y="4799160"/>
            <a:ext cx="863640" cy="649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035080" y="4270320"/>
            <a:ext cx="863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DIS 3.0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5640" y="25146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75000" y="3286080"/>
            <a:ext cx="972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384880" y="2533680"/>
            <a:ext cx="0" cy="361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84880" y="330516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0960" y="4381560"/>
            <a:ext cx="936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84880" y="437184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384880" y="5229360"/>
            <a:ext cx="25200" cy="466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0960" y="5248440"/>
            <a:ext cx="9360" cy="333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55920" y="2876400"/>
            <a:ext cx="2414880" cy="2343600"/>
          </a:xfrm>
          <a:custGeom>
            <a:avLst/>
            <a:gdLst/>
            <a:ahLst/>
            <a:rect l="0" t="0" r="r" b="b"/>
            <a:pathLst>
              <a:path w="6708" h="6510">
                <a:moveTo>
                  <a:pt x="6708" y="0"/>
                </a:moveTo>
                <a:lnTo>
                  <a:pt x="0" y="0"/>
                </a:lnTo>
                <a:lnTo>
                  <a:pt x="0" y="6510"/>
                </a:lnTo>
                <a:lnTo>
                  <a:pt x="6708" y="6510"/>
                </a:lnTo>
                <a:lnTo>
                  <a:pt x="6708" y="5320"/>
                </a:lnTo>
                <a:lnTo>
                  <a:pt x="1190" y="5320"/>
                </a:lnTo>
                <a:lnTo>
                  <a:pt x="1190" y="1190"/>
                </a:lnTo>
                <a:lnTo>
                  <a:pt x="6708" y="1190"/>
                </a:lnTo>
                <a:lnTo>
                  <a:pt x="6708" y="0"/>
                </a:lnTo>
                <a:close/>
              </a:path>
            </a:pathLst>
          </a:custGeom>
          <a:gradFill rotWithShape="0">
            <a:gsLst>
              <a:gs pos="0">
                <a:srgbClr val="0d3fc8"/>
              </a:gs>
              <a:gs pos="5000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5920" y="1728720"/>
            <a:ext cx="2414520" cy="747720"/>
          </a:xfrm>
          <a:prstGeom prst="rect">
            <a:avLst/>
          </a:prstGeom>
          <a:gradFill rotWithShape="0">
            <a:gsLst>
              <a:gs pos="0">
                <a:srgbClr val="c74892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9280" y="3705120"/>
            <a:ext cx="1828800" cy="6858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924cc7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162320" y="3841920"/>
            <a:ext cx="14241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046400" y="2901960"/>
            <a:ext cx="12970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691080" y="1866960"/>
            <a:ext cx="18860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355920" y="5599080"/>
            <a:ext cx="2414520" cy="3492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DIS Wrapp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8400" y="1728720"/>
            <a:ext cx="77486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between protocols an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OS-independe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dynamic loading of cards and binding of protocols an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with macros an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rapper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90520" y="1728720"/>
            <a:ext cx="676260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 locks for MP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registry for configura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Ne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47720" y="1728720"/>
            <a:ext cx="7648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requestor (NW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 can “look like NLMs over the net” to th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PX via Windows Sockets to issue SAP broadcast period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PX via Windows Sockets for applicati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:  RPC over SPX from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42920" y="228600"/>
            <a:ext cx="8858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Ap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1800" y="1176480"/>
            <a:ext cx="78818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file and print server (Windows NT Advanced 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hase 2 AppleTalk transport stack (includes rou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to AppleTalk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SP - connection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P - 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 - printers (client or ser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P - naming, via socket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P - zone information, via socket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upport (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21040" y="4076640"/>
            <a:ext cx="2286360" cy="1810080"/>
          </a:xfrm>
          <a:custGeom>
            <a:avLst/>
            <a:gdLst/>
            <a:ahLst/>
            <a:rect l="0" t="0" r="r" b="b"/>
            <a:pathLst>
              <a:path w="6351" h="5028">
                <a:moveTo>
                  <a:pt x="6324" y="0"/>
                </a:moveTo>
                <a:lnTo>
                  <a:pt x="0" y="0"/>
                </a:lnTo>
                <a:lnTo>
                  <a:pt x="0" y="5028"/>
                </a:lnTo>
                <a:lnTo>
                  <a:pt x="6351" y="5028"/>
                </a:lnTo>
                <a:lnTo>
                  <a:pt x="6351" y="4181"/>
                </a:lnTo>
                <a:lnTo>
                  <a:pt x="1058" y="4181"/>
                </a:lnTo>
                <a:lnTo>
                  <a:pt x="1058" y="793"/>
                </a:lnTo>
                <a:lnTo>
                  <a:pt x="6351" y="793"/>
                </a:lnTo>
                <a:lnTo>
                  <a:pt x="6351" y="0"/>
                </a:lnTo>
                <a:lnTo>
                  <a:pt x="6324" y="0"/>
                </a:lnTo>
                <a:close/>
              </a:path>
            </a:pathLst>
          </a:cu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6680" y="5965920"/>
            <a:ext cx="4687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7200" y="3986280"/>
            <a:ext cx="46818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1359000"/>
            <a:ext cx="1752480" cy="77472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58003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3320" y="25574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53280" y="384804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21040" y="6059520"/>
            <a:ext cx="3772080" cy="4572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397320" y="6143760"/>
            <a:ext cx="282096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4160" y="4075200"/>
            <a:ext cx="1344600" cy="18111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4240" y="4822920"/>
            <a:ext cx="114444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43920" y="579924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49400" y="23986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0960" y="1357200"/>
            <a:ext cx="2732040" cy="776160"/>
          </a:xfrm>
          <a:prstGeom prst="rect">
            <a:avLst/>
          </a:pr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635200" y="1440000"/>
            <a:ext cx="2610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awa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495760" y="1425600"/>
            <a:ext cx="1631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0668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2630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429000" y="4724280"/>
            <a:ext cx="71136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940120" y="4233960"/>
            <a:ext cx="33480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6572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97400" y="4718160"/>
            <a:ext cx="7192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94200" y="2257560"/>
            <a:ext cx="969840" cy="6285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etwork D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684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41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65656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59440" y="2265480"/>
            <a:ext cx="1243080" cy="62064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70120" y="3052800"/>
            <a:ext cx="72720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3040" y="3236760"/>
            <a:ext cx="839880" cy="6112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27720" y="3236760"/>
            <a:ext cx="773280" cy="6127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06760" y="3241800"/>
            <a:ext cx="878040" cy="6066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487840" y="3386160"/>
            <a:ext cx="6508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396120" y="3384720"/>
            <a:ext cx="69372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86480" y="320040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405560" y="2647800"/>
            <a:ext cx="657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36720" y="3546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9000" y="371808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1280" y="3870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92400" y="4032360"/>
            <a:ext cx="7952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349880" y="3387600"/>
            <a:ext cx="9921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96760" y="4703760"/>
            <a:ext cx="1262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UN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62040" y="1728720"/>
            <a:ext cx="78199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utilities (ftp, telne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 (lpr, lpd 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clients and servers (third par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ccess to TCP/IP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name service, host file access via “getXbyY”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roperability:  D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90400" y="1724040"/>
            <a:ext cx="79628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interoperable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oviders (under develop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ccess CDS via Name Service Interface Daemon (NS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:  secure core DCE cl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DCE client on Windows NT, minus 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1H 1994 from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DCE API layer on Windows NT, for DCE source code 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560" y="1306440"/>
            <a:ext cx="7834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applications on Windows NT Advanced Server with optimal         client-server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32 API for cross platform compatibility and network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dvantage of Windows NT  servic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94400" y="4784760"/>
            <a:ext cx="307008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Manag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744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76200" y="438120"/>
            <a:ext cx="6591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grated Networ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43000" y="1562040"/>
            <a:ext cx="6858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/work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fault-tolerance support in base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324080" y="228600"/>
            <a:ext cx="6496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grated Networ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09600" y="1638360"/>
            <a:ext cx="6724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(ftp, telnet, rsh, rexec, r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SNMP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, TCP/IP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 network car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services (file replication, alerter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52360" y="228600"/>
            <a:ext cx="683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istributed Application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205740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emote procedure call (R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 (IPC, client, trans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vider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66840" y="228600"/>
            <a:ext cx="6610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mote Procedure C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19000" y="1733400"/>
            <a:ext cx="750564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IPC for heterogeneous distribut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:  loadabl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S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c IPC technology for Microsoft distributed applications and “Cai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13000" y="3871800"/>
            <a:ext cx="0" cy="39528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94480" y="3876840"/>
            <a:ext cx="0" cy="34272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PC:  Distribution of Application Fun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1566720"/>
            <a:ext cx="1920960" cy="130320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8520" y="2523960"/>
            <a:ext cx="549360" cy="685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55920" y="2523960"/>
            <a:ext cx="685800" cy="6858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0120" y="2523960"/>
            <a:ext cx="54936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6920" y="3270240"/>
            <a:ext cx="17827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2400" y="5156280"/>
            <a:ext cx="219384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5170320"/>
            <a:ext cx="233208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7760" y="4743360"/>
            <a:ext cx="549360" cy="6174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69200" y="4724280"/>
            <a:ext cx="61740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49280" y="4184640"/>
            <a:ext cx="18511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1600" y="4191120"/>
            <a:ext cx="219384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73600" y="1682640"/>
            <a:ext cx="15001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21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9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737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46600" y="33195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38400" y="3857760"/>
            <a:ext cx="672120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99000" y="3713040"/>
            <a:ext cx="0" cy="13680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44760" y="42339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640560" y="421812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33680" y="4732200"/>
            <a:ext cx="595440" cy="5904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406600" y="476568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91160" y="478152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44760" y="5468760"/>
            <a:ext cx="1746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21400" y="5502240"/>
            <a:ext cx="14288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266840" y="228600"/>
            <a:ext cx="6610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mote Procedure C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33600" y="1695600"/>
            <a:ext cx="6076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procedure c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writing distribute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 stub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RPC interoperable; IDL portable, API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 and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62040" y="1733400"/>
            <a:ext cx="6019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- named pipes, mail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 - resource connection, enum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NetBIOS, 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