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7006d"/>
              </a:gs>
              <a:gs pos="100000">
                <a:srgbClr val="e1ea4d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278000"/>
            <a:ext cx="7772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yperlinking and Document Integration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at Brow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Program Manageme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423200" y="5572080"/>
            <a:ext cx="17114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face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52360"/>
            <a:ext cx="1763640" cy="853920"/>
          </a:xfrm>
          <a:prstGeom prst="rect">
            <a:avLst/>
          </a:prstGeom>
          <a:gradFill rotWithShape="0">
            <a:gsLst>
              <a:gs pos="0">
                <a:srgbClr val="fafd00"/>
              </a:gs>
              <a:gs pos="100000">
                <a:srgbClr val="37006d"/>
              </a:gs>
            </a:gsLst>
            <a:path path="rect">
              <a:fillToRect l="100000" t="100000" r="0" b="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cbcbcb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tai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727680" y="2971800"/>
            <a:ext cx="1730520" cy="35812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37006d"/>
              </a:gs>
            </a:gsLst>
            <a:path path="rect">
              <a:fillToRect l="100000" t="100000" r="0" b="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cbcbcb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288120" y="3521160"/>
            <a:ext cx="426960" cy="122400"/>
            <a:chOff x="6288120" y="3521160"/>
            <a:chExt cx="426960" cy="122400"/>
          </a:xfrm>
        </p:grpSpPr>
        <p:sp>
          <p:nvSpPr>
            <p:cNvPr id="61" name=""/>
            <p:cNvSpPr/>
            <p:nvPr/>
          </p:nvSpPr>
          <p:spPr>
            <a:xfrm>
              <a:off x="6288120" y="3521160"/>
              <a:ext cx="122400" cy="122400"/>
            </a:xfrm>
            <a:prstGeom prst="ellipse">
              <a:avLst/>
            </a:prstGeom>
            <a:gradFill rotWithShape="0">
              <a:gsLst>
                <a:gs pos="0">
                  <a:srgbClr val="e1ea4d"/>
                </a:gs>
                <a:gs pos="100000">
                  <a:srgbClr val="37006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10160" y="35830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288120" y="3216240"/>
            <a:ext cx="425520" cy="122400"/>
            <a:chOff x="6288120" y="3216240"/>
            <a:chExt cx="425520" cy="122400"/>
          </a:xfrm>
        </p:grpSpPr>
        <p:sp>
          <p:nvSpPr>
            <p:cNvPr id="64" name=""/>
            <p:cNvSpPr/>
            <p:nvPr/>
          </p:nvSpPr>
          <p:spPr>
            <a:xfrm>
              <a:off x="6288120" y="3216240"/>
              <a:ext cx="120600" cy="122400"/>
            </a:xfrm>
            <a:prstGeom prst="ellipse">
              <a:avLst/>
            </a:prstGeom>
            <a:gradFill rotWithShape="0">
              <a:gsLst>
                <a:gs pos="0">
                  <a:srgbClr val="e1ea4d"/>
                </a:gs>
                <a:gs pos="100000">
                  <a:srgbClr val="37006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8720" y="327816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288120" y="3787920"/>
            <a:ext cx="425520" cy="122400"/>
            <a:chOff x="6288120" y="3787920"/>
            <a:chExt cx="425520" cy="122400"/>
          </a:xfrm>
        </p:grpSpPr>
        <p:sp>
          <p:nvSpPr>
            <p:cNvPr id="67" name=""/>
            <p:cNvSpPr/>
            <p:nvPr/>
          </p:nvSpPr>
          <p:spPr>
            <a:xfrm>
              <a:off x="6288120" y="3787920"/>
              <a:ext cx="120600" cy="122400"/>
            </a:xfrm>
            <a:prstGeom prst="ellipse">
              <a:avLst/>
            </a:prstGeom>
            <a:gradFill rotWithShape="0">
              <a:gsLst>
                <a:gs pos="0">
                  <a:srgbClr val="e1ea4d"/>
                </a:gs>
                <a:gs pos="100000">
                  <a:srgbClr val="37006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08720" y="384984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 txBox="1"/>
          <p:nvPr/>
        </p:nvSpPr>
        <p:spPr>
          <a:xfrm>
            <a:off x="609480" y="2184480"/>
            <a:ext cx="1521000" cy="863640"/>
          </a:xfrm>
          <a:prstGeom prst="rect">
            <a:avLst/>
          </a:prstGeom>
          <a:gradFill rotWithShape="0">
            <a:gsLst>
              <a:gs pos="0">
                <a:srgbClr val="5dfd66"/>
              </a:gs>
              <a:gs pos="100000">
                <a:srgbClr val="37006d"/>
              </a:gs>
            </a:gsLst>
            <a:path path="rect">
              <a:fillToRect l="100000" t="100000" r="0" b="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cbcbcb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tai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4560" y="3281400"/>
            <a:ext cx="1673280" cy="28274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7006d"/>
              </a:gs>
            </a:gsLst>
            <a:path path="rect">
              <a:fillToRect l="100000" t="100000" r="0" b="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cbcbcb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25560" y="3632040"/>
            <a:ext cx="122400" cy="122400"/>
          </a:xfrm>
          <a:prstGeom prst="ellipse">
            <a:avLst/>
          </a:prstGeom>
          <a:gradFill rotWithShape="0">
            <a:gsLst>
              <a:gs pos="0">
                <a:srgbClr val="e1ea4d"/>
              </a:gs>
              <a:gs pos="100000">
                <a:srgbClr val="3700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38480" y="3692520"/>
            <a:ext cx="487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33840" y="3879720"/>
            <a:ext cx="122400" cy="122400"/>
          </a:xfrm>
          <a:prstGeom prst="ellipse">
            <a:avLst/>
          </a:prstGeom>
          <a:gradFill rotWithShape="0">
            <a:gsLst>
              <a:gs pos="0">
                <a:srgbClr val="e1ea4d"/>
              </a:gs>
              <a:gs pos="100000">
                <a:srgbClr val="3700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259000" y="3940200"/>
            <a:ext cx="474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924280" y="3586320"/>
            <a:ext cx="10000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OleClientS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924280" y="3833640"/>
            <a:ext cx="8762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AdviseSin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3440" y="4989600"/>
            <a:ext cx="122400" cy="122400"/>
          </a:xfrm>
          <a:prstGeom prst="ellipse">
            <a:avLst/>
          </a:prstGeom>
          <a:gradFill rotWithShape="0">
            <a:gsLst>
              <a:gs pos="0">
                <a:srgbClr val="e1ea4d"/>
              </a:gs>
              <a:gs pos="100000">
                <a:srgbClr val="3700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036880" y="5051520"/>
            <a:ext cx="466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639880" y="4944960"/>
            <a:ext cx="110952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OleInPlaceS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1417680"/>
            <a:ext cx="122400" cy="122400"/>
          </a:xfrm>
          <a:prstGeom prst="ellipse">
            <a:avLst/>
          </a:prstGeom>
          <a:gradFill rotWithShape="0">
            <a:gsLst>
              <a:gs pos="0">
                <a:srgbClr val="e1ea4d"/>
              </a:gs>
              <a:gs pos="100000">
                <a:srgbClr val="3700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35240" y="1479600"/>
            <a:ext cx="203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65360" y="1373040"/>
            <a:ext cx="127152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OleInPlaceFra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87520" y="2705040"/>
            <a:ext cx="122400" cy="122400"/>
          </a:xfrm>
          <a:prstGeom prst="ellipse">
            <a:avLst/>
          </a:prstGeom>
          <a:gradFill rotWithShape="0">
            <a:gsLst>
              <a:gs pos="0">
                <a:srgbClr val="e1ea4d"/>
              </a:gs>
              <a:gs pos="100000">
                <a:srgbClr val="3700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128680" y="2765520"/>
            <a:ext cx="271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11360" y="2658960"/>
            <a:ext cx="10080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OleContain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40080" y="1635120"/>
            <a:ext cx="122400" cy="122400"/>
          </a:xfrm>
          <a:prstGeom prst="ellipse">
            <a:avLst/>
          </a:prstGeom>
          <a:gradFill rotWithShape="0">
            <a:gsLst>
              <a:gs pos="0">
                <a:srgbClr val="e1ea4d"/>
              </a:gs>
              <a:gs pos="100000">
                <a:srgbClr val="3700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236680" y="1695600"/>
            <a:ext cx="203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65360" y="1589040"/>
            <a:ext cx="15192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OleCommandTarg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87520" y="2425680"/>
            <a:ext cx="122400" cy="122400"/>
          </a:xfrm>
          <a:prstGeom prst="ellipse">
            <a:avLst/>
          </a:prstGeom>
          <a:gradFill rotWithShape="0">
            <a:gsLst>
              <a:gs pos="0">
                <a:srgbClr val="e1ea4d"/>
              </a:gs>
              <a:gs pos="100000">
                <a:srgbClr val="3700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128680" y="2486160"/>
            <a:ext cx="271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11360" y="2379600"/>
            <a:ext cx="15048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OleInPlaceUIWind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41320" y="4691160"/>
            <a:ext cx="1177920" cy="10112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41320" y="4691160"/>
            <a:ext cx="117792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ite (can 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ultip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33840" y="4121280"/>
            <a:ext cx="122400" cy="122400"/>
          </a:xfrm>
          <a:prstGeom prst="ellipse">
            <a:avLst/>
          </a:prstGeom>
          <a:gradFill rotWithShape="0">
            <a:gsLst>
              <a:gs pos="0">
                <a:srgbClr val="e1ea4d"/>
              </a:gs>
              <a:gs pos="100000">
                <a:srgbClr val="3700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259000" y="4181400"/>
            <a:ext cx="474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924280" y="4075200"/>
            <a:ext cx="13492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OleDocumentS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3440" y="5243400"/>
            <a:ext cx="122400" cy="122400"/>
          </a:xfrm>
          <a:prstGeom prst="ellipse">
            <a:avLst/>
          </a:prstGeom>
          <a:gradFill rotWithShape="0">
            <a:gsLst>
              <a:gs pos="0">
                <a:srgbClr val="e1ea4d"/>
              </a:gs>
              <a:gs pos="100000">
                <a:srgbClr val="3700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036880" y="5305320"/>
            <a:ext cx="466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39880" y="5199120"/>
            <a:ext cx="136512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ContinueCallba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78440" y="3162240"/>
            <a:ext cx="13334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978440" y="3467160"/>
            <a:ext cx="13334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78440" y="3733920"/>
            <a:ext cx="13334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PersistSto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288120" y="4334040"/>
            <a:ext cx="425520" cy="122400"/>
            <a:chOff x="6288120" y="4334040"/>
            <a:chExt cx="425520" cy="122400"/>
          </a:xfrm>
        </p:grpSpPr>
        <p:sp>
          <p:nvSpPr>
            <p:cNvPr id="104" name=""/>
            <p:cNvSpPr/>
            <p:nvPr/>
          </p:nvSpPr>
          <p:spPr>
            <a:xfrm>
              <a:off x="6288120" y="4334040"/>
              <a:ext cx="120600" cy="122400"/>
            </a:xfrm>
            <a:prstGeom prst="ellipse">
              <a:avLst/>
            </a:prstGeom>
            <a:gradFill rotWithShape="0">
              <a:gsLst>
                <a:gs pos="0">
                  <a:srgbClr val="e1ea4d"/>
                </a:gs>
                <a:gs pos="100000">
                  <a:srgbClr val="37006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8720" y="439596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 txBox="1"/>
          <p:nvPr/>
        </p:nvSpPr>
        <p:spPr>
          <a:xfrm>
            <a:off x="4978440" y="4280040"/>
            <a:ext cx="13334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OleDocu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11760" y="4732200"/>
            <a:ext cx="3270240" cy="1566720"/>
            <a:chOff x="4811760" y="4732200"/>
            <a:chExt cx="3270240" cy="1566720"/>
          </a:xfrm>
        </p:grpSpPr>
        <p:sp>
          <p:nvSpPr>
            <p:cNvPr id="108" name=""/>
            <p:cNvSpPr/>
            <p:nvPr/>
          </p:nvSpPr>
          <p:spPr>
            <a:xfrm>
              <a:off x="6923160" y="4732200"/>
              <a:ext cx="1158840" cy="156672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6923160" y="4732200"/>
              <a:ext cx="1158840" cy="156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-Ob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an 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ultip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491160" y="4944960"/>
              <a:ext cx="427320" cy="122400"/>
              <a:chOff x="6491160" y="4944960"/>
              <a:chExt cx="427320" cy="122400"/>
            </a:xfrm>
          </p:grpSpPr>
          <p:sp>
            <p:nvSpPr>
              <p:cNvPr id="111" name=""/>
              <p:cNvSpPr/>
              <p:nvPr/>
            </p:nvSpPr>
            <p:spPr>
              <a:xfrm>
                <a:off x="6491160" y="4944960"/>
                <a:ext cx="122400" cy="122400"/>
              </a:xfrm>
              <a:prstGeom prst="ellipse">
                <a:avLst/>
              </a:prstGeom>
              <a:gradFill rotWithShape="0">
                <a:gsLst>
                  <a:gs pos="0">
                    <a:srgbClr val="e1ea4d"/>
                  </a:gs>
                  <a:gs pos="100000">
                    <a:srgbClr val="37006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13560" y="500544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491160" y="5189400"/>
              <a:ext cx="427320" cy="120600"/>
              <a:chOff x="6491160" y="5189400"/>
              <a:chExt cx="427320" cy="120600"/>
            </a:xfrm>
          </p:grpSpPr>
          <p:sp>
            <p:nvSpPr>
              <p:cNvPr id="114" name=""/>
              <p:cNvSpPr/>
              <p:nvPr/>
            </p:nvSpPr>
            <p:spPr>
              <a:xfrm>
                <a:off x="6491160" y="5189400"/>
                <a:ext cx="122400" cy="120600"/>
              </a:xfrm>
              <a:prstGeom prst="ellipse">
                <a:avLst/>
              </a:prstGeom>
              <a:gradFill rotWithShape="0">
                <a:gsLst>
                  <a:gs pos="0">
                    <a:srgbClr val="e1ea4d"/>
                  </a:gs>
                  <a:gs pos="100000">
                    <a:srgbClr val="37006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613560" y="524988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 txBox="1"/>
            <p:nvPr/>
          </p:nvSpPr>
          <p:spPr>
            <a:xfrm>
              <a:off x="5192640" y="4896000"/>
              <a:ext cx="12715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leInPlaceObje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4811760" y="5140440"/>
              <a:ext cx="16527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leInPlaceActiveObje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491160" y="5452920"/>
              <a:ext cx="427320" cy="122400"/>
              <a:chOff x="6491160" y="5452920"/>
              <a:chExt cx="427320" cy="122400"/>
            </a:xfrm>
          </p:grpSpPr>
          <p:sp>
            <p:nvSpPr>
              <p:cNvPr id="119" name=""/>
              <p:cNvSpPr/>
              <p:nvPr/>
            </p:nvSpPr>
            <p:spPr>
              <a:xfrm>
                <a:off x="6491160" y="5452920"/>
                <a:ext cx="122400" cy="122400"/>
              </a:xfrm>
              <a:prstGeom prst="ellipse">
                <a:avLst/>
              </a:prstGeom>
              <a:gradFill rotWithShape="0">
                <a:gsLst>
                  <a:gs pos="0">
                    <a:srgbClr val="e1ea4d"/>
                  </a:gs>
                  <a:gs pos="100000">
                    <a:srgbClr val="37006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613560" y="551340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491160" y="5697360"/>
              <a:ext cx="427320" cy="120600"/>
              <a:chOff x="6491160" y="5697360"/>
              <a:chExt cx="427320" cy="120600"/>
            </a:xfrm>
          </p:grpSpPr>
          <p:sp>
            <p:nvSpPr>
              <p:cNvPr id="122" name=""/>
              <p:cNvSpPr/>
              <p:nvPr/>
            </p:nvSpPr>
            <p:spPr>
              <a:xfrm>
                <a:off x="6491160" y="5697360"/>
                <a:ext cx="122400" cy="120600"/>
              </a:xfrm>
              <a:prstGeom prst="ellipse">
                <a:avLst/>
              </a:prstGeom>
              <a:gradFill rotWithShape="0">
                <a:gsLst>
                  <a:gs pos="0">
                    <a:srgbClr val="e1ea4d"/>
                  </a:gs>
                  <a:gs pos="100000">
                    <a:srgbClr val="37006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613560" y="575784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6491160" y="5938920"/>
              <a:ext cx="427320" cy="120600"/>
              <a:chOff x="6491160" y="5938920"/>
              <a:chExt cx="427320" cy="120600"/>
            </a:xfrm>
          </p:grpSpPr>
          <p:sp>
            <p:nvSpPr>
              <p:cNvPr id="125" name=""/>
              <p:cNvSpPr/>
              <p:nvPr/>
            </p:nvSpPr>
            <p:spPr>
              <a:xfrm>
                <a:off x="6491160" y="5938920"/>
                <a:ext cx="122400" cy="120600"/>
              </a:xfrm>
              <a:prstGeom prst="ellipse">
                <a:avLst/>
              </a:prstGeom>
              <a:gradFill rotWithShape="0">
                <a:gsLst>
                  <a:gs pos="0">
                    <a:srgbClr val="e1ea4d"/>
                  </a:gs>
                  <a:gs pos="100000">
                    <a:srgbClr val="37006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13560" y="599904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 txBox="1"/>
            <p:nvPr/>
          </p:nvSpPr>
          <p:spPr>
            <a:xfrm>
              <a:off x="5052960" y="5394240"/>
              <a:ext cx="14112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leDocumentVie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5961240" y="5635800"/>
              <a:ext cx="503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ri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4944960" y="5889600"/>
              <a:ext cx="15192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leCommandTarge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730920" y="4394160"/>
            <a:ext cx="711720" cy="343440"/>
          </a:xfrm>
          <a:custGeom>
            <a:avLst/>
            <a:gdLst/>
            <a:ahLst/>
            <a:rect l="0" t="0" r="r" b="b"/>
            <a:pathLst>
              <a:path fill="none" w="1977" h="954">
                <a:moveTo>
                  <a:pt x="1977" y="954"/>
                </a:moveTo>
                <a:lnTo>
                  <a:pt x="1977" y="954"/>
                </a:lnTo>
                <a:lnTo>
                  <a:pt x="1977" y="954"/>
                </a:lnTo>
                <a:cubicBezTo>
                  <a:pt x="1977" y="787"/>
                  <a:pt x="1886" y="622"/>
                  <a:pt x="1712" y="477"/>
                </a:cubicBezTo>
                <a:cubicBezTo>
                  <a:pt x="1539" y="332"/>
                  <a:pt x="1289" y="212"/>
                  <a:pt x="988" y="128"/>
                </a:cubicBezTo>
                <a:cubicBezTo>
                  <a:pt x="688" y="44"/>
                  <a:pt x="34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98800" y="5054760"/>
            <a:ext cx="965160" cy="0"/>
          </a:xfrm>
          <a:prstGeom prst="line">
            <a:avLst/>
          </a:prstGeom>
          <a:ln w="381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65560" y="3911760"/>
            <a:ext cx="965160" cy="0"/>
          </a:xfrm>
          <a:prstGeom prst="line">
            <a:avLst/>
          </a:prstGeom>
          <a:ln w="381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288120" y="4049640"/>
            <a:ext cx="425520" cy="122400"/>
            <a:chOff x="6288120" y="4049640"/>
            <a:chExt cx="425520" cy="122400"/>
          </a:xfrm>
        </p:grpSpPr>
        <p:sp>
          <p:nvSpPr>
            <p:cNvPr id="134" name=""/>
            <p:cNvSpPr/>
            <p:nvPr/>
          </p:nvSpPr>
          <p:spPr>
            <a:xfrm>
              <a:off x="6288120" y="4049640"/>
              <a:ext cx="120600" cy="122400"/>
            </a:xfrm>
            <a:prstGeom prst="ellipse">
              <a:avLst/>
            </a:prstGeom>
            <a:gradFill rotWithShape="0">
              <a:gsLst>
                <a:gs pos="0">
                  <a:srgbClr val="e1ea4d"/>
                </a:gs>
                <a:gs pos="100000">
                  <a:srgbClr val="37006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08720" y="411156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 txBox="1"/>
          <p:nvPr/>
        </p:nvSpPr>
        <p:spPr>
          <a:xfrm>
            <a:off x="4978440" y="3995640"/>
            <a:ext cx="13334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IPersist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80fff0"/>
                </a:solidFill>
                <a:latin typeface="Times New Roman"/>
                <a:ea typeface="Times New Roman"/>
              </a:rPr>
              <a:t>Document Object Contain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38480" y="1647720"/>
            <a:ext cx="464832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New OLE Document Object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8584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IOleDocument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i="1" lang="en-US" sz="24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8584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i="1" lang="en-US" sz="24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IOleDocument</a:t>
            </a:r>
            <a:br>
              <a:rPr sz="2400"/>
            </a:br>
            <a:r>
              <a:rPr b="1" i="1" lang="en-US" sz="24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Command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8584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i="1" lang="en-US" sz="24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IContinue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1647720"/>
            <a:ext cx="35053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y’s embedding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InPlace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80fff0"/>
                </a:solidFill>
                <a:latin typeface="Times New Roman"/>
                <a:ea typeface="Times New Roman"/>
              </a:rPr>
              <a:t>Document Object Ser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95680" y="1739880"/>
            <a:ext cx="434340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New DocObj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8584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IOle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8584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IOleDocument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i="1" lang="en-US" sz="24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8584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i="1" lang="en-US" sz="24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IOleDocument</a:t>
            </a:r>
            <a:br>
              <a:rPr sz="2400"/>
            </a:br>
            <a:r>
              <a:rPr b="1" i="1" lang="en-US" sz="24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Command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8584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i="1" lang="en-US" sz="24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I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739880"/>
            <a:ext cx="4495680" cy="34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y’s embedding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ersist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ersist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InPlace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80fff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InPlaceActive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4200" y="474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339"/>
                </a:solidFill>
                <a:latin typeface="Times New Roman"/>
                <a:ea typeface="Times New Roman"/>
              </a:rPr>
              <a:t>What are Hyperlink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16160" y="1336680"/>
            <a:ext cx="651024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to other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 references to objects, although they may contai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06520" y="3038400"/>
            <a:ext cx="6488280" cy="3505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33520" y="3276720"/>
            <a:ext cx="1447560" cy="457200"/>
          </a:xfrm>
          <a:prstGeom prst="line">
            <a:avLst/>
          </a:prstGeom>
          <a:ln w="38160">
            <a:solidFill>
              <a:srgbClr val="ef497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648320"/>
            <a:ext cx="1447560" cy="457200"/>
          </a:xfrm>
          <a:prstGeom prst="line">
            <a:avLst/>
          </a:prstGeom>
          <a:ln w="38160">
            <a:solidFill>
              <a:srgbClr val="ef497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334120"/>
            <a:ext cx="1447920" cy="457200"/>
          </a:xfrm>
          <a:prstGeom prst="line">
            <a:avLst/>
          </a:prstGeom>
          <a:ln w="38160">
            <a:solidFill>
              <a:srgbClr val="ef497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85640" y="457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Hyperlinking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87480" y="141912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unch into product update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mp-To-PSS-Chat-Forum button in a Help/About di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-Automation/Forms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85640" y="3808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OLE Hyperl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90720" y="14191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OLE interfaces and service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history, favorite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-Reuse” browse metaph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 existing in-place containers/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non-OLE Document Object window “reuse” for more seamless us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322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339"/>
                </a:solidFill>
                <a:latin typeface="Times New Roman"/>
                <a:ea typeface="Times New Roman"/>
              </a:rPr>
              <a:t>Interface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5360" y="2046240"/>
            <a:ext cx="86184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474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339"/>
                </a:solidFill>
                <a:latin typeface="Times New Roman"/>
                <a:ea typeface="Times New Roman"/>
              </a:rPr>
              <a:t>Hyperlink Fr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16160" y="1641600"/>
            <a:ext cx="65102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Hlink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interface receives notification about navi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an OLE Document Objec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controls the navigation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s glob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Forwar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Back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Hom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Favorit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474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339"/>
                </a:solidFill>
                <a:latin typeface="Times New Roman"/>
                <a:ea typeface="Times New Roman"/>
              </a:rPr>
              <a:t>Hyperlink Sour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4360" y="1641600"/>
            <a:ext cx="777096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HlinkSourc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t the document-level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ontain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 bind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its documents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ersistFi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ersistMonik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erlink binds to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 context gives window location to non-OLE Documen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HlinkSource::Naviga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ed to bring application “location” into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5640" y="474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339"/>
                </a:solidFill>
                <a:latin typeface="Times New Roman"/>
                <a:ea typeface="Times New Roman"/>
              </a:rPr>
              <a:t>Hyperlink Contain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4360" y="1414440"/>
            <a:ext cx="777096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HlinkSi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hyper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use same site for multiple hyperlinks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SiteDat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ible for visual representation of hyper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representation is up to the contai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User Interface Style Guide will reflect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frame if it’s an OLE Document Object (recommended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obl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961920"/>
            <a:ext cx="716292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don’t integrate well with brow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e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browser extensibility archit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using context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integrated navigation, history, favo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 Today’s Desktop Applications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 New Applications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85640" y="474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339"/>
                </a:solidFill>
                <a:latin typeface="Times New Roman"/>
                <a:ea typeface="Times New Roman"/>
              </a:rPr>
              <a:t>Hyperli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3120" y="1339920"/>
            <a:ext cx="85266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es a navigabl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moni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 withi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iendly name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implementation provided b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hrough clipboard, drag-drop, or API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inkQueryCreateFrom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inkCreateFrom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CreateInstance(CLSID_StdHlink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85640" y="474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339"/>
                </a:solidFill>
                <a:latin typeface="Times New Roman"/>
                <a:ea typeface="Times New Roman"/>
              </a:rPr>
              <a:t>Browse Con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520" y="1641600"/>
            <a:ext cx="807228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s navigation stack and window placeme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implementation provided b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hrough API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inkCreateBrowse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ffd339"/>
              </a:buClr>
              <a:buSzPct val="75000"/>
              <a:buFont typeface="Wingding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CreateInstance(CLSID_StdHlinkBrowseContext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-176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xample</a:t>
            </a:r>
            <a:br>
              <a:rPr sz="4800"/>
            </a:br>
            <a:r>
              <a:rPr b="1" lang="en-US" sz="3600" spc="-1" strike="noStrike">
                <a:solidFill>
                  <a:srgbClr val="e1ea4d"/>
                </a:solidFill>
                <a:latin typeface="Times New Roman"/>
                <a:ea typeface="Times New Roman"/>
              </a:rPr>
              <a:t>Navigating A Hyperl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hat to 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90720" y="1114560"/>
            <a:ext cx="7162920" cy="55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Documen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- expose documents as OLE Document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- host OLE Document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- support OLE Document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Hyper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- expose positions within documents as hyper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- use OLE Hyperlinks to navigate, support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Question &amp; Ans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87480" y="1039680"/>
            <a:ext cx="716292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rther OLE interfaces for document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apps in web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s appear in line in browser’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ull featured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8584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, collaboration, scrip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OLE interfaces for na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erlinking, global navigation stack, history, and favo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OLE Document Ob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419120"/>
            <a:ext cx="71629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of additional OLE interfaces to support document-leve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st and incremental effort over OLE Linking and Embe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eas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transform existing in-place container/serv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, documentation,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0+ shipping OLE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ipping to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419120"/>
            <a:ext cx="71629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grafx PicturePubl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grafx Desig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o com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OLE Embed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88920" y="1419120"/>
            <a:ext cx="7162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control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 within a larger container (document) that own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tells object how big it is on page and in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d to be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ed as metafile when inactive and 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active initially until explicit use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131760"/>
            <a:ext cx="8172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80fff0"/>
                </a:solidFill>
                <a:latin typeface="Times New Roman"/>
                <a:ea typeface="Times New Roman"/>
              </a:rPr>
              <a:t>OLE Embed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820800"/>
            <a:ext cx="641340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OLE Document Ob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419120"/>
            <a:ext cx="71629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scale document “embedded” as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cupies entire editing area of 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only conveys viewport size to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wns printe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s, foot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method rather than meta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ways in-plac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09680" y="55440"/>
            <a:ext cx="8172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80fff0"/>
                </a:solidFill>
                <a:latin typeface="Times New Roman"/>
                <a:ea typeface="Times New Roman"/>
              </a:rPr>
              <a:t>OLE Documents: Office Bi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6920" y="649440"/>
            <a:ext cx="86425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 Brown</dc:creator>
  <dc:description/>
  <dc:language>en-US</dc:language>
  <cp:lastModifiedBy>Nat Brown</cp:lastModifiedBy>
  <cp:revision>0</cp:revision>
  <dc:subject/>
  <dc:title>URL Monikers   Nat Brown OLE Program Management Microsoft Corporation</dc:title>
</cp:coreProperties>
</file>