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7604280" y="6605640"/>
            <a:ext cx="1432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© Microsoft Corporation 19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8709120" y="0"/>
            <a:ext cx="285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891AFE81-024A-4552-BABE-F963D25D8702}" type="slidenum">
              <a:rPr b="0" lang="en-US" sz="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e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228600" y="15228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lobal Full Text Retriev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68580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file contains 5 addtional Slides from the presentation that were not printed in the seminar hand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match the presentation layout print as Handouts 2 slides per page and select black and wh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e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28600" y="15228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st of Valid Charact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9907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SystemLoc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rtoul to convert from hex string to UL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SystemCodeP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Local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Pages in a Loc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CP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Char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Ch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 Byte R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B_ERR_INVALID_CHAR to find inval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e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28600" y="15228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Character Proper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tringType Qu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T_TYPE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nctuation, Space, Digit, Alp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T_TYPE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e Number, Europe Sepa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abic Number, Common Sepa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T_TYPE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3_Lexical -- Letter Imbeds/Tra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e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28600" y="15228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rt Key 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80880" y="106668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Weights -- Words (Script, Ch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critic Weights -- By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e Weights -- By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 Weights -- DWords (Position, Ba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 Weights (Ka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o on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or (0x0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or (0x0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ll Weight (0x0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e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15228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rt Key Ord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, Diacritic, Case, Special, Extra,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Base Weight Or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 5.6: Truncated on Le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 6.1: Truncated on 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critic Or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ually Left to 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ght to Left for French Loc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nce , Belgium , Canada, Luxemburg, Swi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e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600" y="15228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entifying the Operating 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GetVersion() &gt;&gt; 30) &amp; 0x0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OS_N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OS_WIN32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OS_WIN9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n Murray and Richard Katz</dc:creator>
  <dc:description>Additional Slides for this presentation</dc:description>
  <dc:language>en-US</dc:language>
  <cp:lastModifiedBy>Asmus Freytag</cp:lastModifiedBy>
  <cp:revision>0</cp:revision>
  <dc:subject/>
  <dc:title>Global Full Text Retrieval</dc:title>
</cp:coreProperties>
</file>