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146376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News Server Demo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eff Coffl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News Server (NN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30400" y="1571760"/>
            <a:ext cx="6883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ten to take advantage of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d from Windows NT on Intel to Windows NT RISC in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System Cap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97160" y="1571760"/>
            <a:ext cx="63514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is a robust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file links significantly reduce disk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sk cache for speed, can be bypassed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Administration Cap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2035080"/>
            <a:ext cx="65530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as a system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ndows NT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Event Logging (with message 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threaded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6640" y="1571760"/>
            <a:ext cx="8010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threads are very low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client uses insignificant amount of additional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automatically preemptive and schedu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munications Cap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1160" y="1571760"/>
            <a:ext cx="6781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TCP/IP implementation for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 services allow use of Frame Relay, ISDN, or mod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allow authenticated security for remot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offler</dc:creator>
  <dc:description/>
  <dc:language>en-US</dc:language>
  <cp:lastModifiedBy>shannon wheeler</cp:lastModifiedBy>
  <cp:revision>0</cp:revision>
  <dc:subject/>
  <dc:title>Network News Server Demo   Jeff Coffler Software Design Engineer Microsoft Corporation</dc:title>
</cp:coreProperties>
</file>