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428760" y="1276200"/>
            <a:ext cx="82868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Visual C++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To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 Servers And Service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cott Randell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DE/Development Manag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isual C++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#pragma Optim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3160" y="1413000"/>
            <a:ext cx="6997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to tune optimizations for individ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, you want to compile for speed, but you know certain functions are rarely executed and you want to minimize their size.  Precede the function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pragma optimize(“t”, 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ollow it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pragma optimize(“”,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ips For Better Co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15920" y="1413000"/>
            <a:ext cx="71121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 aliasing gets in the optmizer’s way quite often.  The optimizer can do nothing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3920" indent="-3762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 = 8; *q =  9; x = 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3920" indent="-3762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it ca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3920" indent="-3762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q = 9; *p = 8; x = 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3920" indent="-3762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3920" indent="-3762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q = 9; *p = 8; x = 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76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Oa and /Ow can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r code heavily uses something that is easily aliased such as a pointer dereference or a global, but does not modify it, then copy it to a local variable and use that local variable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1413000"/>
            <a:ext cx="71629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aking the addresses of l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the definitions of variables and pointer dereferences as close to their uses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the likelihood that the value is kept in a register because the live range is sho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s the likelihood that the optimizer thinks that the value may have changed for such things as pointer dereferences or glob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ips For Better Co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bugg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1480" y="1413000"/>
            <a:ext cx="80438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 built-in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, EH, Visual C++ aware, tight Visual C++ integration, docking windows, and GUI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 tons of othe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 debuggers (WinDbg, NTS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, WOW, and multiprocess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general cross-platform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and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ote Debug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7680" y="1413000"/>
            <a:ext cx="68500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three machine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, server, an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 on server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mended since it’s easier to do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lo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ebugging of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, bu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 on client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f debugging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 1.5x for 16-bit client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66880" y="2117880"/>
            <a:ext cx="2984400" cy="11113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429160" y="2117880"/>
            <a:ext cx="2984400" cy="11113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69880" y="4165560"/>
            <a:ext cx="2768760" cy="68904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lient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30840" y="4146480"/>
            <a:ext cx="2854440" cy="68904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er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682720"/>
            <a:ext cx="1571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25560" y="3216240"/>
            <a:ext cx="501840" cy="9018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00640" y="3216240"/>
            <a:ext cx="501840" cy="9018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Just-In-Time Debug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92320" y="1413000"/>
            <a:ext cx="67579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T replaces “Dr Watson” with Visual C++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for finding crashes and pre-mortem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way to break into debugge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server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Break or ASSERT(FA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 when using JIT under Windows NT 3.5 (debugging Windows NT serv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ther Tri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33640" y="1413000"/>
            <a:ext cx="686592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E - debugging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OutputDebug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RT(FALSE) - break into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Debug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debugger with given 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MSVC /P &lt;pid#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pid#&gt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PVIEW or Spy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F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41300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 role of M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FC makes it easy to build server applications,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WinThread for M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Servers mad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s and services a little mo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Windows NT Service: CNt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 - Simple Ser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85640" y="1413000"/>
            <a:ext cx="815508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Wizard to get sk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to start to learn about Visual C++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a true serve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ne of the many forms of client-serve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C runtime and MFC usage for performance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ood option to think about and preparation for distributed 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Kinds Of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033560" y="1413000"/>
            <a:ext cx="70786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about any old application that runs on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outines callable by RPC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erver callable by OL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or OLE custom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add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store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i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17413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 - RPC Ser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139760" y="1413000"/>
            <a:ext cx="686592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IDL compiler to write st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he RPC programming talk for mor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t of your program is pretty much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ing:  Using Visual C++ just like debugging any other 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 - SQL Server “xp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8240" y="1413000"/>
            <a:ext cx="706104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Store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-in routines to SQ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function packaged as a stored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he extended stored procedures and Open Data Services talk for mor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”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” example provided with P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written in M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01600" y="1413000"/>
            <a:ext cx="693108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in SQL Serve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BIN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_addextendedproc to add (once per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Re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bcc &lt;dllname&gt; (f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/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 using i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using Visual C++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cmdline: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“SQLSRV -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 - SQL Server “xp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7413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 - Windows 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47720" y="1920960"/>
            <a:ext cx="76500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WINNT.EXE that talks to the service control manager (SCM.EX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he writing and debugging Win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ices talk for mor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and remote start/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red with Windows NT 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12800" y="1920960"/>
            <a:ext cx="771984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IMP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ice in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\MSVC20\SAMPLES\WIN32\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OP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written in M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NtServi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ase class makes it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 your own class from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NtServi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mplement constructor and override a few membe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WinMain for 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a worker thread to do the re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 - Windows 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90440" y="1920960"/>
            <a:ext cx="69642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with Visual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y other Win32 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 normal entry point to ease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Visual C++ Tools menu and th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NSTSR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Visual C++ Debugger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running first and set break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JIT in Windows NT 3.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 - Windows 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7413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ap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19000" y="1413000"/>
            <a:ext cx="750564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 and MFCs make it easy to build great Win32-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are important - even though not as polis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re powerful and with a few tricks can save a lo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more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</a:t>
            </a:r>
            <a:r>
              <a:rPr b="1" lang="en-US" sz="4800" spc="-1" strike="noStrike" baseline="16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’95 (with Microsoft BackOff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annual MFC Conference (May 31 - &gt; June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Visual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44480" y="1413000"/>
            <a:ext cx="765504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C, Visual C++ developmen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y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, file formats, and M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and very cool development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system development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-edge tracking latest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latfor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11080" y="1413000"/>
            <a:ext cx="75232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 for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or 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or RISC (MIPS, ALPHA, and PowerP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c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C++ for client as well as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 (16-bit or 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isual C++ 2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71400" y="1413000"/>
            <a:ext cx="780264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cription release of Visual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unannounced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updated 16-bit stuff and CDK - but mostly focused on 32-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 controls and simple MAPI (for client ap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nd new ODBC drivers (for client and middle-ware ser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g fixes, new samples, and technot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eneral Techniques For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isual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4800" y="1887480"/>
            <a:ext cx="7932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and C++ comp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Visual C++ instead of lower-level debu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ebugging and Windows 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T = Just-In-Time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RPC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Break, TRACE, and other trick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FC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370160" y="1871640"/>
            <a:ext cx="640548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O1 == /Ogsyb1/Gf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vors small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pointer o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lining of explicit inlin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p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ck check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unctions are com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ptimization Switches 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inimizing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352520" y="1741320"/>
            <a:ext cx="643896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O2 == /Ogityb1/Gf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intrinsics i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vors faster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pointer o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lining of explicit inlin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p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ck check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unctions are com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6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ptimization Switches 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aximizing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192096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GB - optimize for all x86 processors (defau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G5 - optimize for the Pentiu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Gr - fastcall calling 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Op - floating point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Oa - assume no ali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Ow - assume no aliasing across func call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56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ptimization Switches 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Other useful swi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Randell</dc:creator>
  <dc:description/>
  <dc:language>en-US</dc:language>
  <cp:lastModifiedBy>shannon wheeler</cp:lastModifiedBy>
  <cp:revision>0</cp:revision>
  <dc:subject/>
  <dc:title>Using Visual C++™ To Develop Servers And Services  Scott Randell SDE/Development Manager Visual C++ Microsoft Corporation</dc:title>
</cp:coreProperties>
</file>