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4D67BBC-F2A5-4700-AD4E-FCA4C95E91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725400" y="1487520"/>
            <a:ext cx="7772400" cy="37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erformance Analysis Tools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Reza Baghai</a:t>
            </a:r>
            <a:br>
              <a:rPr sz="36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oftware Design Engineer</a:t>
            </a:r>
            <a:br>
              <a:rPr sz="36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dows NT Performance</a:t>
            </a:r>
            <a:br>
              <a:rPr sz="36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33240" y="1928880"/>
            <a:ext cx="79567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32 API Profiler (WAP)</a:t>
            </a:r>
            <a:br>
              <a:rPr sz="4800"/>
            </a:b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 Dem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525600" y="23004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erformance Tuning Tools</a:t>
            </a:r>
            <a:br>
              <a:rPr sz="1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Call Attributed Profiler (CA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800" y="1685880"/>
            <a:ext cx="844560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a sampling profi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te picture of how time is spent in your application at the function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parate call tree for each th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asures functions within one or more EXEs and/or D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s recompile of C /C++ code (manual changes needed for ASM func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s symbolic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22200" y="230040"/>
            <a:ext cx="85788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Call Attributed Profiler (CAP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87960" y="1554120"/>
            <a:ext cx="1019160" cy="8254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287960" y="1554120"/>
            <a:ext cx="101916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81560" y="4900680"/>
            <a:ext cx="1017720" cy="82692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481560" y="4900680"/>
            <a:ext cx="101772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d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674800" y="3014640"/>
            <a:ext cx="1017720" cy="82692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674800" y="3014640"/>
            <a:ext cx="101772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b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09800" y="4879800"/>
            <a:ext cx="1019160" cy="82692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909800" y="4879800"/>
            <a:ext cx="101916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c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05520" y="3059280"/>
            <a:ext cx="1019160" cy="8240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05520" y="3059280"/>
            <a:ext cx="101916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215120" y="4879800"/>
            <a:ext cx="1019160" cy="82692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215120" y="4879800"/>
            <a:ext cx="101916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f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481560" y="2273400"/>
            <a:ext cx="933120" cy="8478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484360" y="3800520"/>
            <a:ext cx="403200" cy="1100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333600" y="3821040"/>
            <a:ext cx="528840" cy="10796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37200" y="2316240"/>
            <a:ext cx="1060560" cy="8478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4760" y="3800520"/>
            <a:ext cx="701640" cy="11206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13320" y="5027760"/>
            <a:ext cx="100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22160" indent="-722160">
              <a:lnSpc>
                <a:spcPct val="90000"/>
              </a:lnSpc>
              <a:spcBef>
                <a:spcPts val="720"/>
              </a:spcBef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%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965160" y="5027760"/>
            <a:ext cx="99864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22160" indent="-722160">
              <a:lnSpc>
                <a:spcPct val="90000"/>
              </a:lnSpc>
              <a:spcBef>
                <a:spcPts val="720"/>
              </a:spcBef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4%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684600" y="1158840"/>
            <a:ext cx="107172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22160" indent="-722160">
              <a:lnSpc>
                <a:spcPct val="90000"/>
              </a:lnSpc>
              <a:spcBef>
                <a:spcPts val="720"/>
              </a:spcBef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,225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013520" y="3184560"/>
            <a:ext cx="10000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22160" indent="-722160">
              <a:lnSpc>
                <a:spcPct val="90000"/>
              </a:lnSpc>
              <a:spcBef>
                <a:spcPts val="720"/>
              </a:spcBef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%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975040" y="2300400"/>
            <a:ext cx="120816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22160" indent="-722160">
              <a:lnSpc>
                <a:spcPct val="90000"/>
              </a:lnSpc>
              <a:spcBef>
                <a:spcPts val="720"/>
              </a:spcBef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257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256520" y="3946680"/>
            <a:ext cx="100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22160" indent="-722160">
              <a:lnSpc>
                <a:spcPct val="90000"/>
              </a:lnSpc>
              <a:spcBef>
                <a:spcPts val="720"/>
              </a:spcBef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67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606840" y="3989520"/>
            <a:ext cx="100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22160" indent="-722160">
              <a:lnSpc>
                <a:spcPct val="90000"/>
              </a:lnSpc>
              <a:spcBef>
                <a:spcPts val="720"/>
              </a:spcBef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32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580000" y="2216160"/>
            <a:ext cx="100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22160" indent="-722160">
              <a:lnSpc>
                <a:spcPct val="90000"/>
              </a:lnSpc>
              <a:spcBef>
                <a:spcPts val="720"/>
              </a:spcBef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34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035080" y="4011480"/>
            <a:ext cx="100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22160" indent="-722160">
              <a:lnSpc>
                <a:spcPct val="90000"/>
              </a:lnSpc>
              <a:spcBef>
                <a:spcPts val="720"/>
              </a:spcBef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69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097600" y="1293840"/>
            <a:ext cx="71928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2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19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111640" y="3367080"/>
            <a:ext cx="81288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2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12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7410600" y="5732640"/>
            <a:ext cx="71928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2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12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746520" y="3240000"/>
            <a:ext cx="57960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2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3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031840" y="5756400"/>
            <a:ext cx="88884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2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35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654360" y="5729400"/>
            <a:ext cx="71928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2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19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81280" y="2995560"/>
            <a:ext cx="942840" cy="54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0%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289080" y="230040"/>
            <a:ext cx="86454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Call Attributed Profiler (CAP)</a:t>
            </a:r>
            <a:br>
              <a:rPr sz="1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How does it wor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92120" y="1638360"/>
            <a:ext cx="823896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mpile your application with -Gh, -Z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 with </a:t>
            </a:r>
            <a:r>
              <a:rPr b="1" i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P.LI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Gh inserts a call to </a:t>
            </a:r>
            <a:r>
              <a:rPr b="1" i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_penter() 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beginning of each function ca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P patches calls into DLLs to go through </a:t>
            </a:r>
            <a:r>
              <a:rPr b="1" i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_penter() 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_penter() 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defined in CAP.LIB to handle function timin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all to </a:t>
            </a:r>
            <a:r>
              <a:rPr b="1" i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_penter() 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s to be manually inserted for ASM fun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53880" y="230040"/>
            <a:ext cx="85154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Call Attributed Profiler (CAP)</a:t>
            </a:r>
            <a:br>
              <a:rPr sz="1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CAP.I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260440" y="1754280"/>
            <a:ext cx="470232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EXES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APP.EX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PATCH IMPORTS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APP.EX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YAPP.D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PATCH CALLERS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NAME LENGTH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78000" y="230040"/>
            <a:ext cx="84675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Call Attributed Profiler (CAP)</a:t>
            </a:r>
            <a:br>
              <a:rPr sz="1800"/>
            </a:br>
            <a:r>
              <a:rPr b="1" i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capdump </a:t>
            </a: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ut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50800" y="1928880"/>
            <a:ext cx="8121600" cy="35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7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profiler dump fac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p profi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ear profiling data and restart profi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p profiling and dump the data to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CAP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ear/dump can also be done from your applic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30120" y="230040"/>
            <a:ext cx="85629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Call Attributed Profiler (CAP)</a:t>
            </a:r>
            <a:br>
              <a:rPr sz="1800"/>
            </a:br>
            <a:r>
              <a:rPr b="1" i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CAP </a:t>
            </a: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427040" y="1749600"/>
            <a:ext cx="636912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dep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/DLL name:  routine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mber of c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outine + callees)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tal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/ca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outine - callees)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tal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/c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74600" y="230040"/>
            <a:ext cx="88740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Call Attributed Profiler (CAP)</a:t>
            </a:r>
            <a:br>
              <a:rPr sz="1800"/>
            </a:br>
            <a:r>
              <a:rPr b="1" i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CapView </a:t>
            </a: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ut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32040" y="1928880"/>
            <a:ext cx="7359480" cy="24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7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visual form of C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eat for viewing data specially when there are 100s-1000s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function time data summary and percentage of total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39560" y="1928880"/>
            <a:ext cx="83440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Call Attributed Profiler (CAP)</a:t>
            </a:r>
            <a:br>
              <a:rPr sz="4800"/>
            </a:b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 Dem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525600" y="23004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erformance Tuning Tools</a:t>
            </a:r>
            <a:br>
              <a:rPr sz="1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Win32 API log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42880" y="1928880"/>
            <a:ext cx="813744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s every single Win32 API and its parameters/return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WAP technology (Same Win32 DLLs except CRTDLL.DLL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f32cv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used to install logger D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is collected as API calls are made (very disk intensi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52560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erformance Tuning Too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230480" y="1289160"/>
            <a:ext cx="676260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 beyond understanding static structure of your application; learn about its dynamic behavi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Mon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I Profiler (W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Attributed Profiler (C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I Lo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I/O and Synchronization Win32 API Prof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ugger’s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m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Mon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t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525600" y="23004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erformance Tuning Tools</a:t>
            </a:r>
            <a:br>
              <a:rPr sz="1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File I/O and Synchronization Profi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12920" y="1976400"/>
            <a:ext cx="839772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iles File I/O and Synchronization APIs in KERNEL32.DLL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via FERNEL32.DL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d on WAP technology; application gets converted to call FERNEL32.D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s API calls and collects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, mutex, and semaphore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f32cv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fernel32 MYAPP.EX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955800" y="1928880"/>
            <a:ext cx="731196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File I/O And Synchronization Profiler </a:t>
            </a:r>
            <a:br>
              <a:rPr sz="4800"/>
            </a:b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 Dem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525600" y="23004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erformance Tuning Tools</a:t>
            </a:r>
            <a:br>
              <a:rPr sz="1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Debugger</a:t>
            </a:r>
            <a:r>
              <a:rPr b="1" i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 wt</a:t>
            </a: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 Comm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803160" y="1928880"/>
            <a:ext cx="7616880" cy="19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ces calls in your program; shows number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ves call trace similar to CAP without timing info; slower but no recomp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85640" y="23004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erformance Tuning Tools</a:t>
            </a:r>
            <a:br>
              <a:rPr sz="1800"/>
            </a:br>
            <a:r>
              <a:rPr b="1" i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PMon</a:t>
            </a: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 ut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0440" y="1976400"/>
            <a:ext cx="830268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 to use console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ws % CPU, CPU time, and memory information on each running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shows memory usage for the file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dated every five sec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525600" y="23004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erformance Tuning Tools</a:t>
            </a:r>
            <a:br>
              <a:rPr sz="4800"/>
            </a:br>
            <a:r>
              <a:rPr b="1" i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PMon</a:t>
            </a: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 ut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539640" y="1574640"/>
            <a:ext cx="814392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44600" indent="-444600">
              <a:lnSpc>
                <a:spcPct val="8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e1e64f"/>
                </a:solidFill>
                <a:latin typeface="Times New Roman"/>
                <a:ea typeface="Times New Roman"/>
              </a:rPr>
              <a:t>Mem Usage:</a:t>
            </a:r>
            <a:r>
              <a:rPr b="1" lang="en-US" sz="2800" spc="-1" strike="noStrike">
                <a:solidFill>
                  <a:srgbClr val="f5b553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ing set of your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8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e1e64f"/>
                </a:solidFill>
                <a:latin typeface="Times New Roman"/>
                <a:ea typeface="Times New Roman"/>
              </a:rPr>
              <a:t>Mem Diff: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e to your working set (+/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8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e1e64f"/>
                </a:solidFill>
                <a:latin typeface="Times New Roman"/>
                <a:ea typeface="Times New Roman"/>
              </a:rPr>
              <a:t>Page Faults: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tal page faults taken by your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8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e1e64f"/>
                </a:solidFill>
                <a:latin typeface="Times New Roman"/>
                <a:ea typeface="Times New Roman"/>
              </a:rPr>
              <a:t>Flts Diff: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mber of faults taken during the last sampling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8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e1e64f"/>
                </a:solidFill>
                <a:latin typeface="Times New Roman"/>
                <a:ea typeface="Times New Roman"/>
              </a:rPr>
              <a:t>Commit Charge: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ze of committed memory used by your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8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e1e64f"/>
                </a:solidFill>
                <a:latin typeface="Times New Roman"/>
                <a:ea typeface="Times New Roman"/>
              </a:rPr>
              <a:t>Usage NonP/Page: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ount of kernel memory your application being charge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8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e1e64f"/>
                </a:solidFill>
                <a:latin typeface="Times New Roman"/>
                <a:ea typeface="Times New Roman"/>
              </a:rPr>
              <a:t>Pri: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 priority of your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8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e1e64f"/>
                </a:solidFill>
                <a:latin typeface="Times New Roman"/>
                <a:ea typeface="Times New Roman"/>
              </a:rPr>
              <a:t>Thd Cnt: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mber of threads in your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33240" y="1976400"/>
            <a:ext cx="79567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Mon Utility</a:t>
            </a:r>
            <a:br>
              <a:rPr sz="4800"/>
            </a:b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 Dem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525600" y="23004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orking Set Tuning Tools</a:t>
            </a:r>
            <a:br>
              <a:rPr sz="1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Working Set Tuner (WS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66640" y="1976400"/>
            <a:ext cx="8089920" cy="33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lps linker rearrange functions’ 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s number of code pages in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%-50% savings on code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very good/realistic scen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works similar to CAP; requires recompile of your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25600" y="23004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orking Set Tuner (WST)</a:t>
            </a:r>
            <a:br>
              <a:rPr sz="1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How does it wor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24000" y="1733400"/>
            <a:ext cx="857556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ST DLL called every time a function is call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bit is set for every function called during the specified time interval (1000 ms defaul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eps a history of function references over scenario 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rmines which functions are used concurrently in 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 packing list for the linker to pack functions optimally into pa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525600" y="23004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orking Set Tuner (WST)</a:t>
            </a:r>
            <a:br>
              <a:rPr sz="1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Function Reference Patte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16160" y="1749600"/>
            <a:ext cx="6591240" cy="46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Untun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1:  00111110000000111000000000011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2:  000000000000000000000000000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3:  00011100001100000000000000110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4:  00001100001100000000000000000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5:  000000000000000000111111111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Tun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1:  00111110000000111000000000011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3:  00011100001100001100000000110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4:  00001100001100000000000000000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5:  000000000000000000111111111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2:  000000000000000000000000000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1609560" y="1976400"/>
            <a:ext cx="6004080" cy="35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7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st exist in c:\wst direc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EXES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APP.EX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PATCH IMPORTS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used - leave bl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TIME INTERVAL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25600" y="23004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orking Set Tuner (WST) </a:t>
            </a: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WST.I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52560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orking Set Tuning Too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00040" y="1542960"/>
            <a:ext cx="8223120" cy="25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 RAM requirement; improve application load time; even improve spe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ing Set Tuner (WST) ut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tual Address Dump (vadump) ut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er dump fac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90680" y="1976400"/>
            <a:ext cx="824220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mpile your application with -Gh, -Z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 with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ST.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Gh inserts a call to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_penter()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beginning of each function c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up WST.INI in c:\w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 your scen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stdump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clear/dump WST data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33440" y="230040"/>
            <a:ext cx="83566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orking Set Tuner (WST) </a:t>
            </a: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Using 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525600" y="23004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orking Set Tuner (WST) </a:t>
            </a: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Using 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70000" y="1793880"/>
            <a:ext cx="868356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stca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utility to concatenate multiple data files (if multiple scenarios are ru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stcat  Module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stun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tility to create the packing list (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uleName.prf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stune  /o  ModuleName.w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build your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mpile with -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 with -order@ModuleName.pr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633240" y="1976400"/>
            <a:ext cx="79567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orking Set Tuner (WST)</a:t>
            </a:r>
            <a:br>
              <a:rPr sz="4800"/>
            </a:b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 Dem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525600" y="23004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orking Set Tuning Tools</a:t>
            </a:r>
            <a:br>
              <a:rPr sz="1800"/>
            </a:br>
            <a:r>
              <a:rPr b="1" i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vadump</a:t>
            </a: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 ut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876240" y="1976400"/>
            <a:ext cx="747072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rmines the nature of each page inside your working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ws working set of your application as it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86 tool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s symb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525600" y="23004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orking Set Tuning Tools</a:t>
            </a:r>
            <a:br>
              <a:rPr sz="1800"/>
            </a:br>
            <a:r>
              <a:rPr b="1" i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vadump</a:t>
            </a: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 ut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69960" y="1976400"/>
            <a:ext cx="788364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e1e64f"/>
                </a:solidFill>
                <a:latin typeface="Times New Roman"/>
                <a:ea typeface="Times New Roman"/>
              </a:rPr>
              <a:t>vadump -p pid -wo -m</a:t>
            </a:r>
            <a:r>
              <a:rPr b="1" i="1" lang="en-US" sz="3200" spc="-1" strike="noStrike">
                <a:solidFill>
                  <a:srgbClr val="f5b553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statically watch the working set of your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 pid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your application process 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wo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watch working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m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display symbols within the p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ge by page dump of the contents of your working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525600" y="23004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orking Set Tuning Tools</a:t>
            </a:r>
            <a:br>
              <a:rPr sz="1800"/>
            </a:br>
            <a:r>
              <a:rPr b="1" i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vadump</a:t>
            </a: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 ut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525680" y="1771560"/>
            <a:ext cx="6172200" cy="47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x021c1000 WINFILE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119) WinMain@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119) ResizeControls@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53c) InitPopupMenus@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bf9) FrameWndProc@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x021c2000 WINFILE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bf9) FrameWndProc@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38c) InitMenus@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16c) LoadBitmaps@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50000"/>
              </a:lnSpc>
              <a:spcBef>
                <a:spcPts val="241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50000"/>
              </a:lnSpc>
              <a:spcBef>
                <a:spcPts val="241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tal StaticCode And Data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405      1620k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tal Dynamic Data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72        288k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tal Page Table Pages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11          44k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tal Working Set                    488      1952k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25600" y="23004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orking Set Tuning Tools</a:t>
            </a:r>
            <a:br>
              <a:rPr sz="1800"/>
            </a:br>
            <a:r>
              <a:rPr b="1" i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vadump</a:t>
            </a: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 ut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87520" y="1797120"/>
            <a:ext cx="804852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e1e64f"/>
                </a:solidFill>
                <a:latin typeface="Times New Roman"/>
                <a:ea typeface="Times New Roman"/>
              </a:rPr>
              <a:t>vadump -p pid -w -c -r</a:t>
            </a:r>
            <a:r>
              <a:rPr b="1" i="1" lang="en-US" sz="3200" spc="-1" strike="noStrike">
                <a:solidFill>
                  <a:srgbClr val="f5b553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dynamically watch the working set of your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 pid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your application process 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w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watch working set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show code faults faulting in new code (static code/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r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show working set (silent otherwi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ctrl&gt;c terminates vadump and creates a histogram showing most page fa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525600" y="23004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orking Set Tuning Tools</a:t>
            </a:r>
            <a:br>
              <a:rPr sz="1800"/>
            </a:br>
            <a:r>
              <a:rPr b="1" i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vadump</a:t>
            </a: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 ut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411200" y="1695600"/>
            <a:ext cx="6400800" cy="48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65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dump -p 142 -w -c -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50000"/>
              </a:lnSpc>
              <a:spcBef>
                <a:spcPts val="24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65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emToCharA@8+16 : 0x02205b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65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emToCharA@8+16 : 0x77d845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65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e1e64f"/>
                </a:solidFill>
                <a:latin typeface="Times New Roman"/>
                <a:ea typeface="Times New Roman"/>
              </a:rPr>
              <a:t>Shell_NotifyIcon@8+6 : Shell_NotifyIcon@8+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65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e1e64f"/>
                </a:solidFill>
                <a:latin typeface="Times New Roman"/>
                <a:ea typeface="Times New Roman"/>
              </a:rPr>
              <a:t>_forcdecpt+45 : _forcdecpt+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65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e1e64f"/>
                </a:solidFill>
                <a:latin typeface="Times New Roman"/>
                <a:ea typeface="Times New Roman"/>
              </a:rPr>
              <a:t>GetDateFormatW@24 : GetDateFormatW@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65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lInitUnicodeString@8+1b : 0x002634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65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Calendar@8+66 : 0x0026d3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50000"/>
              </a:lnSpc>
              <a:spcBef>
                <a:spcPts val="24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65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, OemToCharA@8+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65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 _forcdecpt+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65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 GetCalendar@8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65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 GetDateFormatW@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65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 Shell_NotifyIcon@8+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65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 GetCalendar@8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525600" y="23004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orking Set Tuning Tools</a:t>
            </a:r>
            <a:br>
              <a:rPr sz="1800"/>
            </a:br>
            <a:r>
              <a:rPr b="1" i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link -du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06520" y="1976400"/>
            <a:ext cx="8210520" cy="38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e1e64f"/>
                </a:solidFill>
                <a:latin typeface="Times New Roman"/>
                <a:ea typeface="Times New Roman"/>
              </a:rPr>
              <a:t>link -dump -sum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get a summary of the sizes of different pieces of your EXE/D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.text</a:t>
            </a:r>
            <a:r>
              <a:rPr b="1" i="1" lang="en-U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code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.bs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ize of zero initialized static data                  ( int MyArray[512]  ;  adds 2048 bytes to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bs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.dat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ize of initialized static data                        ( int i = 10  ;  adds 4 bytes to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dat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e1e64f"/>
                </a:solidFill>
                <a:latin typeface="Times New Roman"/>
                <a:ea typeface="Times New Roman"/>
              </a:rPr>
              <a:t>link -dump -map</a:t>
            </a:r>
            <a:r>
              <a:rPr b="1" i="1" lang="en-US" sz="3200" spc="-1" strike="noStrike">
                <a:solidFill>
                  <a:srgbClr val="f5b553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get more detailed inf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2560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erformance Analysis Too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63680" y="1533600"/>
            <a:ext cx="82962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Performance Monitor for bottleneck detection and monitoring of your own application cou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Profilers/Logger to better understand dynamic behavior of your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Working Set Tuner to reduce your RAM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vadump to better understand nature of each page in your application working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525600" y="23004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erformance Tuning Tools</a:t>
            </a:r>
            <a:br>
              <a:rPr sz="1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Performance Moni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12920" y="1711440"/>
            <a:ext cx="839772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5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eat bottleneck detection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monitor your own application counters (more detailed information in tomorrow’s Performance Monitoring presen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y it before using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25600" y="23004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erformance Tuning Tools</a:t>
            </a:r>
            <a:br>
              <a:rPr sz="1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Performance Moni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165320" y="1928880"/>
            <a:ext cx="689292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 by getting the broad pict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% total processor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% user, % kernel, and % idl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 queue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ges/sec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% physical disk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% Server total bytes/sec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525600" y="23004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erformance Tuning Tools</a:t>
            </a:r>
            <a:br>
              <a:rPr sz="1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Win32 API Profiler (WA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36680" y="1670040"/>
            <a:ext cx="835020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cepts the calls from the application to th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recompil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iles the six main Win32 DL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32.DLL (ZERNEL32.DL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32.DLL (ZSER32.DL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32.DLL (ZDI32.DL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PI32.DLL (ZDVAPI32.DL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TDLL.DLL (ZRTDLL.DL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32.DLL (ZLE32.DL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st disable chksum checking to run W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52560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32 API Profiler (WAP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1927080"/>
            <a:ext cx="6080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343240" y="2287440"/>
            <a:ext cx="1646280" cy="4939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09680" y="3328920"/>
            <a:ext cx="54000" cy="354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714840" y="2278080"/>
            <a:ext cx="523800" cy="6555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33920" y="3489480"/>
            <a:ext cx="0" cy="282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14920" y="2297160"/>
            <a:ext cx="485640" cy="560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91280" y="3476520"/>
            <a:ext cx="4680" cy="3333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24600" y="2286000"/>
            <a:ext cx="1104840" cy="476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447920" y="2116080"/>
            <a:ext cx="2458800" cy="246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61800" y="3289320"/>
            <a:ext cx="919080" cy="565200"/>
          </a:xfrm>
          <a:prstGeom prst="rect">
            <a:avLst/>
          </a:prstGeom>
          <a:gradFill rotWithShape="0">
            <a:gsLst>
              <a:gs pos="0">
                <a:srgbClr val="ae3f80"/>
              </a:gs>
              <a:gs pos="100000">
                <a:srgbClr val="f95ab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td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126120" y="3668760"/>
            <a:ext cx="1419120" cy="560520"/>
          </a:xfrm>
          <a:prstGeom prst="rect">
            <a:avLst/>
          </a:prstGeom>
          <a:gradFill rotWithShape="0">
            <a:gsLst>
              <a:gs pos="0">
                <a:srgbClr val="ae3f80"/>
              </a:gs>
              <a:gs pos="100000">
                <a:srgbClr val="f95ab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pi3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895320" y="2890800"/>
            <a:ext cx="34920" cy="3859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05440" y="3281400"/>
            <a:ext cx="14400" cy="3762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787400" y="3740040"/>
            <a:ext cx="919080" cy="648360"/>
          </a:xfrm>
          <a:prstGeom prst="rect">
            <a:avLst/>
          </a:prstGeom>
          <a:gradFill rotWithShape="0">
            <a:gsLst>
              <a:gs pos="0">
                <a:srgbClr val="ae3f80"/>
              </a:gs>
              <a:gs pos="100000">
                <a:srgbClr val="f95ab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3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11600" y="3778200"/>
            <a:ext cx="1181160" cy="648360"/>
          </a:xfrm>
          <a:prstGeom prst="rect">
            <a:avLst/>
          </a:prstGeom>
          <a:gradFill rotWithShape="0">
            <a:gsLst>
              <a:gs pos="0">
                <a:srgbClr val="ae3f80"/>
              </a:gs>
              <a:gs pos="100000">
                <a:srgbClr val="f95ab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3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225960" y="3790800"/>
            <a:ext cx="920880" cy="565200"/>
          </a:xfrm>
          <a:prstGeom prst="rect">
            <a:avLst/>
          </a:prstGeom>
          <a:gradFill rotWithShape="0">
            <a:gsLst>
              <a:gs pos="0">
                <a:srgbClr val="ae3f80"/>
              </a:gs>
              <a:gs pos="100000">
                <a:srgbClr val="f95ab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3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93760" y="2313000"/>
            <a:ext cx="1292400" cy="547560"/>
          </a:xfrm>
          <a:prstGeom prst="rect">
            <a:avLst/>
          </a:prstGeom>
          <a:gradFill rotWithShape="0">
            <a:gsLst>
              <a:gs pos="0">
                <a:srgbClr val="3a5597"/>
              </a:gs>
              <a:gs pos="100000">
                <a:srgbClr val="618ff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rtd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639800" y="2782800"/>
            <a:ext cx="1292400" cy="546120"/>
          </a:xfrm>
          <a:prstGeom prst="rect">
            <a:avLst/>
          </a:prstGeom>
          <a:gradFill rotWithShape="0">
            <a:gsLst>
              <a:gs pos="0">
                <a:srgbClr val="3a5597"/>
              </a:gs>
              <a:gs pos="100000">
                <a:srgbClr val="618ff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ser3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044880" y="2943360"/>
            <a:ext cx="1292400" cy="547560"/>
          </a:xfrm>
          <a:prstGeom prst="rect">
            <a:avLst/>
          </a:prstGeom>
          <a:gradFill rotWithShape="0">
            <a:gsLst>
              <a:gs pos="0">
                <a:srgbClr val="3a5597"/>
              </a:gs>
              <a:gs pos="100000">
                <a:srgbClr val="618ff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di3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11600" y="2901960"/>
            <a:ext cx="1292400" cy="547560"/>
          </a:xfrm>
          <a:prstGeom prst="rect">
            <a:avLst/>
          </a:prstGeom>
          <a:gradFill rotWithShape="0">
            <a:gsLst>
              <a:gs pos="0">
                <a:srgbClr val="3a5597"/>
              </a:gs>
              <a:gs pos="100000">
                <a:srgbClr val="618ff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ernel3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046920" y="2725560"/>
            <a:ext cx="1290600" cy="546120"/>
          </a:xfrm>
          <a:prstGeom prst="rect">
            <a:avLst/>
          </a:prstGeom>
          <a:gradFill rotWithShape="0">
            <a:gsLst>
              <a:gs pos="0">
                <a:srgbClr val="3a5597"/>
              </a:gs>
              <a:gs pos="100000">
                <a:srgbClr val="618ff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dvapi3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710160" y="1771560"/>
            <a:ext cx="1542960" cy="648360"/>
          </a:xfrm>
          <a:prstGeom prst="rect">
            <a:avLst/>
          </a:prstGeom>
          <a:gradFill rotWithShape="0">
            <a:gsLst>
              <a:gs pos="0">
                <a:srgbClr val="0b37af"/>
              </a:gs>
              <a:gs pos="100000">
                <a:srgbClr val="114ff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7696080" y="3021120"/>
            <a:ext cx="1104840" cy="541440"/>
          </a:xfrm>
          <a:prstGeom prst="rect">
            <a:avLst/>
          </a:prstGeom>
          <a:gradFill rotWithShape="0">
            <a:gsLst>
              <a:gs pos="0">
                <a:srgbClr val="ae3f80"/>
              </a:gs>
              <a:gs pos="100000">
                <a:srgbClr val="f95ab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3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76880" y="2190600"/>
            <a:ext cx="2095560" cy="1335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361280" y="2154240"/>
            <a:ext cx="1290600" cy="546120"/>
          </a:xfrm>
          <a:prstGeom prst="rect">
            <a:avLst/>
          </a:prstGeom>
          <a:gradFill rotWithShape="0">
            <a:gsLst>
              <a:gs pos="0">
                <a:srgbClr val="3a5597"/>
              </a:gs>
              <a:gs pos="100000">
                <a:srgbClr val="618ff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le3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077320" y="2685960"/>
            <a:ext cx="0" cy="343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25600" y="23004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32 API Profiler (WAP)</a:t>
            </a:r>
            <a:br>
              <a:rPr sz="1800"/>
            </a:br>
            <a:r>
              <a:rPr b="1" lang="en-US" sz="3600" spc="-1" strike="noStrike">
                <a:solidFill>
                  <a:srgbClr val="f95ab7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Profiling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403280" y="1928880"/>
            <a:ext cx="6416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parate ASCII data files for each DLL profi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mber of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tal API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time per c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st call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ximum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mum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s reported in microsec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525600" y="23004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32 API Profiler (WAP)</a:t>
            </a:r>
            <a:br>
              <a:rPr sz="1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Ut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008000" y="1546200"/>
            <a:ext cx="7207200" cy="50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f32cv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pares applications for profiling ru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f32cv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win32  MYAPP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f32cvt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ernel32  MYAPP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f32cv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undo  MYAPP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f32cv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MYAPP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f32d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ear and/or dump data at any time           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WAP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is dumped upon application exit         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END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eza Baghai</dc:creator>
  <dc:description/>
  <dc:language>en-US</dc:language>
  <cp:lastModifiedBy>Tomi Poutanen</cp:lastModifiedBy>
  <cp:revision>0</cp:revision>
  <dc:subject/>
  <dc:title>Performance Analysis Tools   Reza Baghai Software Design Engineer Windows NT Performance Microsoft Corporation</dc:title>
</cp:coreProperties>
</file>