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593640" y="728640"/>
            <a:ext cx="795672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ransport-Specific Programming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avid Treadwell 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Jameel Hyd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oftware Design Engineers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Networking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BIOS And Winso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52440" y="1260360"/>
            <a:ext cx="663876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compatibility with ol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use of a single transport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suggested for new application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any protocol that supports NetBIOS seman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BT:  NetBIOS over TCP/IP (RFC 1001/1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over I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776160" y="1414440"/>
            <a:ext cx="75913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only SOCK_SEQPACKET and SOCK_D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only in Windows 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resolution is implicit in NetB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wsnetbs.h header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BIOS And Winso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pening NetBIOS Socke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00160" y="1414440"/>
            <a:ext cx="6945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exported NetBIOS protocol has a Lan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“protocol” parameter of socket() API is -1 * L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should loop opening sockets and attempting connec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 should listen() on all L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example:  slide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ppleTalk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And Winso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0200" y="1414440"/>
            <a:ext cx="6485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s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P:  unreliable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:  reliable and message-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ented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SP:  reliable and message o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-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lookup/registration (NB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one lookup/browsing (Z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ppleTalk Address Stru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20760" y="1414440"/>
            <a:ext cx="49021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struct sockaddr_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HORT    sat_fami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HORT    sat_n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CHAR     sat_no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CHAR     sat_sock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SOCKADDR_AT, *PSOCKADDR_A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49120" y="230040"/>
            <a:ext cx="864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ame Resolution/Lookup (NBP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76480" y="1414440"/>
            <a:ext cx="679284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d via getsockopt/setsock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registration/de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_REGISTER_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_DEREGISTER_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_LOOKUP_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_CONFIRM_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work with Rn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Browsing Zones (ZIP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90800" y="1414440"/>
            <a:ext cx="5162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d via getsock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_GETMY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_GETZONELIST (for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ire appletalk inter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_GETLOCALZONE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or a specific net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work with Rn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otocol Detai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06400" y="1414440"/>
            <a:ext cx="573084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OCK_DRAM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se both dynamic as well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static s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S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both SOCK_RDM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OCK_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276200" y="1414440"/>
            <a:ext cx="659304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supports SOCK_R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 blocking recieves handled via setsockopt(SO_PAPPRIME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ockopt/setsockopt used for PAP status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otocol Detai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CP/IP And Winso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22280" y="1414440"/>
            <a:ext cx="650088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transport protocol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 Wins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s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:  reliable and stream-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P:  unreliable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CP/IP Name Resol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28640" y="1414440"/>
            <a:ext cx="58863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both getXbyY()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RNR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resolu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cache and ho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s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/NetBIOS broad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CP/IP Performance Issu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414440"/>
            <a:ext cx="716292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gling:  coalesces s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reducing network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 performance hit for applications which do small s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ble with TCP_NODELAY socko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 PUSH 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on last packet of a send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lds on to receive buffers for 0.5 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example:  slides 4a, 4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CP/IP Multicast:  IGM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52360" y="1414440"/>
            <a:ext cx="683892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in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5 and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same interface as BSD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ing multi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y send to multicast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ing multi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P_ADD_MEMBERSHIP socket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example:  slides 5a, 5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PX/SPX And Winso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33440" y="1398600"/>
            <a:ext cx="647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in both Windows NT and Windows 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s supported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:  reliable, message or stream- 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:  unreliable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wsipx.h and wsnwlink.h header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PX/SPX Name Resol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84320" y="1414440"/>
            <a:ext cx="697716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work with getXbyY()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with RNR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GetAddressByName()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space = NS_S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 containing SAP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svcguid.h heade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PX Mess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22360" y="1414440"/>
            <a:ext cx="63007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 uses “EOM” 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ected on receive with SOCK_SEQPACKET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nored with SOCK_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RecvEx()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pecial IPX/SPX Socko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54200" y="1368360"/>
            <a:ext cx="583740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ious extension sockopts for special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wsnwlink.h for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e full IPX/SPX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local address with getsockname()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ble broadcast re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/get IPX pack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meel Hyder, David Treadwell</dc:creator>
  <dc:description/>
  <dc:language>en-US</dc:language>
  <cp:lastModifiedBy>shannon wheeler</cp:lastModifiedBy>
  <cp:revision>0</cp:revision>
  <dc:subject/>
  <dc:title>Programming Winsock for Different Transports</dc:title>
</cp:coreProperties>
</file>