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838080" y="852480"/>
            <a:ext cx="750564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Programming: Windows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ockets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avid Treadwell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Network Development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ckets And C Run-time Ca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33480" y="1420920"/>
            <a:ext cx="7257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ou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_open_osfhandl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low-level C run-time I/O calls like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_read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_fdopen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obtain a FIL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igh-level C run-time calls like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printf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mended for compatibilit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nd() And recv() Timeou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42092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_SNDTIMEO, SO_RCVTIMEO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fails with WSAETIMEDOUT if not complete in timeout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ential for data loss if timeout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faster than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 And Socke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1420920"/>
            <a:ext cx="729612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provides no inherent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 is the Security Support Provider Interface (SS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SSPI returns security “blobs” for client and server to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d i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3.5 (server and cli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5 and Windows 3.1 (client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00280" y="14209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 is highly opti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100 Kps on Ethernet with 45% of 486/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 card can impact performance significa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lent performance requi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 of underlying system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ing, iterative refi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t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hreading Mode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060640" y="1420920"/>
            <a:ext cx="5024520" cy="40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thread and multipl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per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er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ion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example: slides 14a, 14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/O Buffer S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420920"/>
            <a:ext cx="7162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as large as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64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 PUSH bit and nagling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empt to match expected receiv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 on the size of larg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nimizing Buffer Copies: S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90560" y="1600200"/>
            <a:ext cx="756288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buffering occur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overlap of multiple sends with synchronous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 amount of buffered send data with SO_SNDB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bling send bu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SO_SNDBUF 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verlapped APIs to keep pipe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d at least two send buffers at al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example: slide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nimizing Buffer Copies: Receiv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438200" y="1916280"/>
            <a:ext cx="626760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 buffering occurs when no preposted buffer from c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 by keeping buffer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verlapped APIs to pend multiple receive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use MSG_P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st Of Overlapped AP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00240" y="1420920"/>
            <a:ext cx="6705720" cy="25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use “fast path” in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 path costs extra CPU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 for larger amounts of dat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&gt; 2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work with connected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nnection Establish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57480" y="1420920"/>
            <a:ext cx="666756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expensive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s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network packets ex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designing application  protoc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empt to reus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multiple operations on each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esentation Go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743040" y="1420920"/>
            <a:ext cx="765828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network transport (Winsock)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ming working knowledg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swer common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 </a:t>
            </a:r>
            <a:br>
              <a:rPr sz="3200"/>
            </a:b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Winsock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ockets “tric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ing fast services: 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registration and resolutio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NR)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nimizing Unnecessary System Ca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52360" y="1920960"/>
            <a:ext cx="68389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call into sockets costs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information whereever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performance hot spots free of unnecessary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is very expensive.  Replace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ed I/O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nd(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cv(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ransmitFile()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7360" y="1420920"/>
            <a:ext cx="835668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appear in Windows NT for PowerPC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s file data directly from system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data to transport without buffer c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efficient mechanism for sending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File()/send(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80% of 486/33 to max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mitFile(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example: slide 21, Chart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he “RNR” AP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66720" y="1420920"/>
            <a:ext cx="779148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registration and name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ed in Windows NT 3.5 and Windows 9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 (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protocol-independent and name-service-independent registration and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nd services need not know details of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numProtocols()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76200" y="1420920"/>
            <a:ext cx="65912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information on available transport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or application selects appropriate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example: slide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GetAddressByName()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81040" y="1420920"/>
            <a:ext cx="79819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s in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type (GU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ptable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socket addresses (SOCKADD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uses to determine what to pa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d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uses for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de example: slide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tService() And GetService() AP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42840" y="1920960"/>
            <a:ext cx="725796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install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s system of the GUID for you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s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 starts adverti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Servic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thi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he Future:  Winsock 2.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420920"/>
            <a:ext cx="716292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Winsock 1.1, an open standards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ves remaining Win32-based integrati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overlapped send and receive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ed I/O on unconnected datagram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sh out RNR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enum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se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or More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305000" y="1420920"/>
            <a:ext cx="652464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 2.0 mailing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domo@mailbag.inte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3.5 S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ember 1994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TE Maga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iting Great Network Server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76280" y="1916280"/>
            <a:ext cx="819144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dows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network-independent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protocol-specific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NR APIs for name-service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 optimization is a good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er-based application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ight thread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small packet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 data cop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 Is Winsock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62080" y="1420920"/>
            <a:ext cx="676260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standard designed by multiple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idation to a single, binary-compatible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transport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alter what goes on the w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high level of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, interoperability, and performan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sock Versus Other Network AP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33320" y="1916280"/>
            <a:ext cx="76676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:  control, interoperability, an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:  backward compatibilit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:  adds security; not highly intero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:  network protocol abstraction; excellent security including 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Protocol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28880" y="1420920"/>
            <a:ext cx="70484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in Windows 3.1: 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in 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box:  TCP/IP, IPX/SPX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al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NetB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ies:  XNS, DECne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I TP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in Windows 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box:  TCP/IP, IPX/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ies: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Blocking In Windows NT Socke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14360" y="1916280"/>
            <a:ext cx="651528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fully preem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ing calls really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efault blocking h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et up blocking hook if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ing hooks no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ocket Hand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81160" y="1420920"/>
            <a:ext cx="676260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ocket handles are native ha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sockets with 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File(), WriteFil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uplicateHandl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ion port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oseHandle(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example: slides 7a, 7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ynchronous Socket Hand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81160" y="1420920"/>
            <a:ext cx="67816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handles are overlapped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handles needed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-time library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in/stdout/stderr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_OPENTYPE socket o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before calling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cket(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p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ed socket can be 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haring Socket Hand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58720" y="1420920"/>
            <a:ext cx="80136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hare sockets between processes and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ly, it is best to use threads -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handle du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uplicateHandle(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handle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synchronous handle to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eProces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annon wheeler</dc:creator>
  <dc:description/>
  <dc:language>en-US</dc:language>
  <cp:lastModifiedBy>shannon wheeler</cp:lastModifiedBy>
  <cp:revision>0</cp:revision>
  <dc:subject/>
  <dc:title>Network Programming: Windows® Sockets    David Treadwell Software Design Engineer Windows NT Network Development Microsoft Corporation</dc:title>
</cp:coreProperties>
</file>