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2097000" cy="2786040"/>
          </a:xfrm>
          <a:prstGeom prst="rect">
            <a:avLst/>
          </a:prstGeom>
          <a:ln w="0">
            <a:noFill/>
          </a:ln>
        </p:spPr>
      </p:pic>
      <p:sp>
        <p:nvSpPr>
          <p:cNvPr id="39" name=""/>
          <p:cNvSpPr txBox="1"/>
          <p:nvPr/>
        </p:nvSpPr>
        <p:spPr>
          <a:xfrm>
            <a:off x="1770120" y="2306520"/>
            <a:ext cx="5603760" cy="35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’</a:t>
            </a: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95 MobileWare Work Environ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Jack B. Blou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resident And CE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obile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693720" y="228600"/>
            <a:ext cx="77580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3600" spc="-1" strike="noStrike" baseline="50000">
                <a:solidFill>
                  <a:srgbClr val="f6bf69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-Based Benefits For MobileWa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177920" y="1563840"/>
            <a:ext cx="6789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42800" indent="-4428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5568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application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5568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network operating systems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5568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s - IPX, and T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5568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h Windows NT and MobileWare can grow with the cust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5568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processor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5568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932600" y="5827680"/>
            <a:ext cx="7779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056120" y="5675400"/>
            <a:ext cx="775080" cy="402120"/>
          </a:xfrm>
          <a:custGeom>
            <a:avLst/>
            <a:gdLst/>
            <a:ahLst/>
            <a:rect l="0" t="0" r="r" b="b"/>
            <a:pathLst>
              <a:path w="2153" h="1117">
                <a:moveTo>
                  <a:pt x="2153" y="869"/>
                </a:moveTo>
                <a:lnTo>
                  <a:pt x="2153" y="869"/>
                </a:lnTo>
                <a:lnTo>
                  <a:pt x="2125" y="878"/>
                </a:lnTo>
                <a:lnTo>
                  <a:pt x="2081" y="887"/>
                </a:lnTo>
                <a:lnTo>
                  <a:pt x="2041" y="900"/>
                </a:lnTo>
                <a:lnTo>
                  <a:pt x="2001" y="905"/>
                </a:lnTo>
                <a:lnTo>
                  <a:pt x="1953" y="914"/>
                </a:lnTo>
                <a:lnTo>
                  <a:pt x="1921" y="927"/>
                </a:lnTo>
                <a:lnTo>
                  <a:pt x="1876" y="932"/>
                </a:lnTo>
                <a:lnTo>
                  <a:pt x="1820" y="932"/>
                </a:lnTo>
                <a:lnTo>
                  <a:pt x="1768" y="946"/>
                </a:lnTo>
                <a:lnTo>
                  <a:pt x="1724" y="946"/>
                </a:lnTo>
                <a:lnTo>
                  <a:pt x="1672" y="946"/>
                </a:lnTo>
                <a:lnTo>
                  <a:pt x="1614" y="959"/>
                </a:lnTo>
                <a:lnTo>
                  <a:pt x="1558" y="955"/>
                </a:lnTo>
                <a:lnTo>
                  <a:pt x="1510" y="955"/>
                </a:lnTo>
                <a:lnTo>
                  <a:pt x="1454" y="950"/>
                </a:lnTo>
                <a:lnTo>
                  <a:pt x="1398" y="955"/>
                </a:lnTo>
                <a:lnTo>
                  <a:pt x="1345" y="946"/>
                </a:lnTo>
                <a:lnTo>
                  <a:pt x="1289" y="950"/>
                </a:lnTo>
                <a:lnTo>
                  <a:pt x="1241" y="946"/>
                </a:lnTo>
                <a:lnTo>
                  <a:pt x="1181" y="950"/>
                </a:lnTo>
                <a:lnTo>
                  <a:pt x="1125" y="941"/>
                </a:lnTo>
                <a:lnTo>
                  <a:pt x="1068" y="941"/>
                </a:lnTo>
                <a:lnTo>
                  <a:pt x="1020" y="932"/>
                </a:lnTo>
                <a:lnTo>
                  <a:pt x="968" y="927"/>
                </a:lnTo>
                <a:lnTo>
                  <a:pt x="908" y="914"/>
                </a:lnTo>
                <a:lnTo>
                  <a:pt x="856" y="905"/>
                </a:lnTo>
                <a:lnTo>
                  <a:pt x="811" y="896"/>
                </a:lnTo>
                <a:lnTo>
                  <a:pt x="747" y="882"/>
                </a:lnTo>
                <a:lnTo>
                  <a:pt x="699" y="873"/>
                </a:lnTo>
                <a:lnTo>
                  <a:pt x="647" y="860"/>
                </a:lnTo>
                <a:lnTo>
                  <a:pt x="603" y="846"/>
                </a:lnTo>
                <a:lnTo>
                  <a:pt x="559" y="832"/>
                </a:lnTo>
                <a:lnTo>
                  <a:pt x="525" y="1117"/>
                </a:lnTo>
                <a:lnTo>
                  <a:pt x="0" y="294"/>
                </a:lnTo>
                <a:lnTo>
                  <a:pt x="836" y="0"/>
                </a:lnTo>
                <a:lnTo>
                  <a:pt x="723" y="275"/>
                </a:lnTo>
                <a:lnTo>
                  <a:pt x="771" y="290"/>
                </a:lnTo>
                <a:lnTo>
                  <a:pt x="824" y="303"/>
                </a:lnTo>
                <a:lnTo>
                  <a:pt x="868" y="303"/>
                </a:lnTo>
                <a:lnTo>
                  <a:pt x="920" y="317"/>
                </a:lnTo>
                <a:lnTo>
                  <a:pt x="968" y="321"/>
                </a:lnTo>
                <a:lnTo>
                  <a:pt x="1012" y="326"/>
                </a:lnTo>
                <a:lnTo>
                  <a:pt x="1064" y="339"/>
                </a:lnTo>
                <a:lnTo>
                  <a:pt x="1105" y="339"/>
                </a:lnTo>
                <a:lnTo>
                  <a:pt x="1149" y="344"/>
                </a:lnTo>
                <a:lnTo>
                  <a:pt x="1197" y="348"/>
                </a:lnTo>
                <a:lnTo>
                  <a:pt x="1245" y="357"/>
                </a:lnTo>
                <a:lnTo>
                  <a:pt x="1297" y="357"/>
                </a:lnTo>
                <a:lnTo>
                  <a:pt x="1333" y="362"/>
                </a:lnTo>
                <a:lnTo>
                  <a:pt x="1382" y="353"/>
                </a:lnTo>
                <a:lnTo>
                  <a:pt x="1422" y="371"/>
                </a:lnTo>
                <a:lnTo>
                  <a:pt x="1462" y="362"/>
                </a:lnTo>
                <a:lnTo>
                  <a:pt x="1510" y="362"/>
                </a:lnTo>
                <a:lnTo>
                  <a:pt x="1550" y="357"/>
                </a:lnTo>
                <a:lnTo>
                  <a:pt x="1594" y="366"/>
                </a:lnTo>
                <a:lnTo>
                  <a:pt x="1640" y="362"/>
                </a:lnTo>
                <a:lnTo>
                  <a:pt x="1676" y="353"/>
                </a:lnTo>
                <a:lnTo>
                  <a:pt x="1716" y="339"/>
                </a:lnTo>
                <a:lnTo>
                  <a:pt x="1760" y="339"/>
                </a:lnTo>
                <a:lnTo>
                  <a:pt x="1788" y="344"/>
                </a:lnTo>
                <a:lnTo>
                  <a:pt x="1820" y="335"/>
                </a:lnTo>
                <a:lnTo>
                  <a:pt x="1864" y="326"/>
                </a:lnTo>
                <a:lnTo>
                  <a:pt x="1896" y="326"/>
                </a:lnTo>
                <a:lnTo>
                  <a:pt x="1925" y="317"/>
                </a:lnTo>
                <a:lnTo>
                  <a:pt x="1957" y="308"/>
                </a:lnTo>
                <a:lnTo>
                  <a:pt x="1985" y="294"/>
                </a:lnTo>
                <a:lnTo>
                  <a:pt x="2021" y="299"/>
                </a:lnTo>
                <a:lnTo>
                  <a:pt x="2041" y="281"/>
                </a:lnTo>
                <a:lnTo>
                  <a:pt x="2153" y="869"/>
                </a:lnTo>
                <a:close/>
              </a:path>
            </a:pathLst>
          </a:custGeom>
          <a:solidFill>
            <a:srgbClr val="00dfc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70280" y="1625760"/>
            <a:ext cx="749520" cy="586080"/>
          </a:xfrm>
          <a:custGeom>
            <a:avLst/>
            <a:gdLst/>
            <a:ahLst/>
            <a:rect l="0" t="0" r="r" b="b"/>
            <a:pathLst>
              <a:path w="2082" h="1628">
                <a:moveTo>
                  <a:pt x="0" y="1207"/>
                </a:moveTo>
                <a:lnTo>
                  <a:pt x="0" y="1207"/>
                </a:lnTo>
                <a:lnTo>
                  <a:pt x="25" y="1176"/>
                </a:lnTo>
                <a:lnTo>
                  <a:pt x="51" y="1145"/>
                </a:lnTo>
                <a:lnTo>
                  <a:pt x="77" y="1111"/>
                </a:lnTo>
                <a:lnTo>
                  <a:pt x="109" y="1080"/>
                </a:lnTo>
                <a:lnTo>
                  <a:pt x="141" y="1047"/>
                </a:lnTo>
                <a:lnTo>
                  <a:pt x="172" y="1013"/>
                </a:lnTo>
                <a:lnTo>
                  <a:pt x="208" y="979"/>
                </a:lnTo>
                <a:lnTo>
                  <a:pt x="246" y="946"/>
                </a:lnTo>
                <a:lnTo>
                  <a:pt x="284" y="910"/>
                </a:lnTo>
                <a:lnTo>
                  <a:pt x="323" y="877"/>
                </a:lnTo>
                <a:lnTo>
                  <a:pt x="363" y="843"/>
                </a:lnTo>
                <a:lnTo>
                  <a:pt x="405" y="806"/>
                </a:lnTo>
                <a:lnTo>
                  <a:pt x="448" y="773"/>
                </a:lnTo>
                <a:lnTo>
                  <a:pt x="492" y="739"/>
                </a:lnTo>
                <a:lnTo>
                  <a:pt x="538" y="706"/>
                </a:lnTo>
                <a:lnTo>
                  <a:pt x="583" y="670"/>
                </a:lnTo>
                <a:lnTo>
                  <a:pt x="631" y="639"/>
                </a:lnTo>
                <a:lnTo>
                  <a:pt x="677" y="605"/>
                </a:lnTo>
                <a:lnTo>
                  <a:pt x="724" y="574"/>
                </a:lnTo>
                <a:lnTo>
                  <a:pt x="774" y="543"/>
                </a:lnTo>
                <a:lnTo>
                  <a:pt x="822" y="514"/>
                </a:lnTo>
                <a:lnTo>
                  <a:pt x="871" y="485"/>
                </a:lnTo>
                <a:lnTo>
                  <a:pt x="919" y="455"/>
                </a:lnTo>
                <a:lnTo>
                  <a:pt x="969" y="429"/>
                </a:lnTo>
                <a:lnTo>
                  <a:pt x="1016" y="402"/>
                </a:lnTo>
                <a:lnTo>
                  <a:pt x="1067" y="377"/>
                </a:lnTo>
                <a:lnTo>
                  <a:pt x="1115" y="353"/>
                </a:lnTo>
                <a:lnTo>
                  <a:pt x="1164" y="333"/>
                </a:lnTo>
                <a:lnTo>
                  <a:pt x="1212" y="310"/>
                </a:lnTo>
                <a:lnTo>
                  <a:pt x="1260" y="290"/>
                </a:lnTo>
                <a:lnTo>
                  <a:pt x="1305" y="274"/>
                </a:lnTo>
                <a:lnTo>
                  <a:pt x="1351" y="257"/>
                </a:lnTo>
                <a:lnTo>
                  <a:pt x="1238" y="0"/>
                </a:lnTo>
                <a:lnTo>
                  <a:pt x="2082" y="362"/>
                </a:lnTo>
                <a:lnTo>
                  <a:pt x="1514" y="1120"/>
                </a:lnTo>
                <a:lnTo>
                  <a:pt x="1476" y="834"/>
                </a:lnTo>
                <a:lnTo>
                  <a:pt x="1432" y="852"/>
                </a:lnTo>
                <a:lnTo>
                  <a:pt x="1389" y="872"/>
                </a:lnTo>
                <a:lnTo>
                  <a:pt x="1343" y="892"/>
                </a:lnTo>
                <a:lnTo>
                  <a:pt x="1299" y="915"/>
                </a:lnTo>
                <a:lnTo>
                  <a:pt x="1258" y="937"/>
                </a:lnTo>
                <a:lnTo>
                  <a:pt x="1214" y="957"/>
                </a:lnTo>
                <a:lnTo>
                  <a:pt x="1172" y="982"/>
                </a:lnTo>
                <a:lnTo>
                  <a:pt x="1131" y="1006"/>
                </a:lnTo>
                <a:lnTo>
                  <a:pt x="1089" y="1029"/>
                </a:lnTo>
                <a:lnTo>
                  <a:pt x="1047" y="1053"/>
                </a:lnTo>
                <a:lnTo>
                  <a:pt x="1006" y="1080"/>
                </a:lnTo>
                <a:lnTo>
                  <a:pt x="967" y="1105"/>
                </a:lnTo>
                <a:lnTo>
                  <a:pt x="927" y="1131"/>
                </a:lnTo>
                <a:lnTo>
                  <a:pt x="889" y="1158"/>
                </a:lnTo>
                <a:lnTo>
                  <a:pt x="852" y="1183"/>
                </a:lnTo>
                <a:lnTo>
                  <a:pt x="816" y="1210"/>
                </a:lnTo>
                <a:lnTo>
                  <a:pt x="778" y="1237"/>
                </a:lnTo>
                <a:lnTo>
                  <a:pt x="744" y="1263"/>
                </a:lnTo>
                <a:lnTo>
                  <a:pt x="711" y="1290"/>
                </a:lnTo>
                <a:lnTo>
                  <a:pt x="677" y="1317"/>
                </a:lnTo>
                <a:lnTo>
                  <a:pt x="645" y="1344"/>
                </a:lnTo>
                <a:lnTo>
                  <a:pt x="615" y="1373"/>
                </a:lnTo>
                <a:lnTo>
                  <a:pt x="583" y="1400"/>
                </a:lnTo>
                <a:lnTo>
                  <a:pt x="556" y="1424"/>
                </a:lnTo>
                <a:lnTo>
                  <a:pt x="528" y="1451"/>
                </a:lnTo>
                <a:lnTo>
                  <a:pt x="502" y="1478"/>
                </a:lnTo>
                <a:lnTo>
                  <a:pt x="478" y="1505"/>
                </a:lnTo>
                <a:lnTo>
                  <a:pt x="454" y="1529"/>
                </a:lnTo>
                <a:lnTo>
                  <a:pt x="432" y="1554"/>
                </a:lnTo>
                <a:lnTo>
                  <a:pt x="411" y="1579"/>
                </a:lnTo>
                <a:lnTo>
                  <a:pt x="393" y="1603"/>
                </a:lnTo>
                <a:lnTo>
                  <a:pt x="375" y="1628"/>
                </a:lnTo>
                <a:lnTo>
                  <a:pt x="0" y="1207"/>
                </a:lnTo>
                <a:close/>
              </a:path>
            </a:pathLst>
          </a:custGeom>
          <a:solidFill>
            <a:srgbClr val="00dfc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446640" y="2455920"/>
            <a:ext cx="2376360" cy="2381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792000" y="228600"/>
            <a:ext cx="7559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obile Networking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803840" y="5127480"/>
            <a:ext cx="1539720" cy="860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909960" y="966960"/>
            <a:ext cx="1351080" cy="1285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596960" y="2006640"/>
            <a:ext cx="2220840" cy="1308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434960" y="5999040"/>
            <a:ext cx="62737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Today And Tomorr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2232000" y="4075200"/>
            <a:ext cx="1722600" cy="1865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5951520" y="1158840"/>
            <a:ext cx="779400" cy="1471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6066000" y="3319560"/>
            <a:ext cx="2084400" cy="1136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446800" y="1590840"/>
            <a:ext cx="690840" cy="492480"/>
          </a:xfrm>
          <a:custGeom>
            <a:avLst/>
            <a:gdLst/>
            <a:ahLst/>
            <a:rect l="0" t="0" r="r" b="b"/>
            <a:pathLst>
              <a:path w="1919" h="1368">
                <a:moveTo>
                  <a:pt x="72" y="0"/>
                </a:moveTo>
                <a:lnTo>
                  <a:pt x="72" y="0"/>
                </a:lnTo>
                <a:lnTo>
                  <a:pt x="108" y="4"/>
                </a:lnTo>
                <a:lnTo>
                  <a:pt x="148" y="13"/>
                </a:lnTo>
                <a:lnTo>
                  <a:pt x="184" y="13"/>
                </a:lnTo>
                <a:lnTo>
                  <a:pt x="224" y="27"/>
                </a:lnTo>
                <a:lnTo>
                  <a:pt x="268" y="31"/>
                </a:lnTo>
                <a:lnTo>
                  <a:pt x="312" y="40"/>
                </a:lnTo>
                <a:lnTo>
                  <a:pt x="352" y="54"/>
                </a:lnTo>
                <a:lnTo>
                  <a:pt x="404" y="63"/>
                </a:lnTo>
                <a:lnTo>
                  <a:pt x="452" y="81"/>
                </a:lnTo>
                <a:lnTo>
                  <a:pt x="500" y="94"/>
                </a:lnTo>
                <a:lnTo>
                  <a:pt x="548" y="112"/>
                </a:lnTo>
                <a:lnTo>
                  <a:pt x="596" y="126"/>
                </a:lnTo>
                <a:lnTo>
                  <a:pt x="648" y="148"/>
                </a:lnTo>
                <a:lnTo>
                  <a:pt x="696" y="162"/>
                </a:lnTo>
                <a:lnTo>
                  <a:pt x="748" y="184"/>
                </a:lnTo>
                <a:lnTo>
                  <a:pt x="804" y="207"/>
                </a:lnTo>
                <a:lnTo>
                  <a:pt x="852" y="230"/>
                </a:lnTo>
                <a:lnTo>
                  <a:pt x="905" y="248"/>
                </a:lnTo>
                <a:lnTo>
                  <a:pt x="953" y="275"/>
                </a:lnTo>
                <a:lnTo>
                  <a:pt x="1006" y="297"/>
                </a:lnTo>
                <a:lnTo>
                  <a:pt x="1058" y="324"/>
                </a:lnTo>
                <a:lnTo>
                  <a:pt x="1106" y="347"/>
                </a:lnTo>
                <a:lnTo>
                  <a:pt x="1154" y="374"/>
                </a:lnTo>
                <a:lnTo>
                  <a:pt x="1206" y="406"/>
                </a:lnTo>
                <a:lnTo>
                  <a:pt x="1254" y="433"/>
                </a:lnTo>
                <a:lnTo>
                  <a:pt x="1298" y="464"/>
                </a:lnTo>
                <a:lnTo>
                  <a:pt x="1342" y="491"/>
                </a:lnTo>
                <a:lnTo>
                  <a:pt x="1390" y="523"/>
                </a:lnTo>
                <a:lnTo>
                  <a:pt x="1434" y="550"/>
                </a:lnTo>
                <a:lnTo>
                  <a:pt x="1478" y="581"/>
                </a:lnTo>
                <a:lnTo>
                  <a:pt x="1514" y="613"/>
                </a:lnTo>
                <a:lnTo>
                  <a:pt x="1554" y="645"/>
                </a:lnTo>
                <a:lnTo>
                  <a:pt x="1670" y="392"/>
                </a:lnTo>
                <a:lnTo>
                  <a:pt x="1919" y="1368"/>
                </a:lnTo>
                <a:lnTo>
                  <a:pt x="1042" y="1309"/>
                </a:lnTo>
                <a:lnTo>
                  <a:pt x="1226" y="1101"/>
                </a:lnTo>
                <a:lnTo>
                  <a:pt x="1186" y="1074"/>
                </a:lnTo>
                <a:lnTo>
                  <a:pt x="1142" y="1047"/>
                </a:lnTo>
                <a:lnTo>
                  <a:pt x="1102" y="1020"/>
                </a:lnTo>
                <a:lnTo>
                  <a:pt x="1058" y="993"/>
                </a:lnTo>
                <a:lnTo>
                  <a:pt x="1014" y="966"/>
                </a:lnTo>
                <a:lnTo>
                  <a:pt x="974" y="943"/>
                </a:lnTo>
                <a:lnTo>
                  <a:pt x="933" y="916"/>
                </a:lnTo>
                <a:lnTo>
                  <a:pt x="893" y="898"/>
                </a:lnTo>
                <a:lnTo>
                  <a:pt x="848" y="871"/>
                </a:lnTo>
                <a:lnTo>
                  <a:pt x="808" y="853"/>
                </a:lnTo>
                <a:lnTo>
                  <a:pt x="764" y="835"/>
                </a:lnTo>
                <a:lnTo>
                  <a:pt x="724" y="813"/>
                </a:lnTo>
                <a:lnTo>
                  <a:pt x="680" y="790"/>
                </a:lnTo>
                <a:lnTo>
                  <a:pt x="640" y="772"/>
                </a:lnTo>
                <a:lnTo>
                  <a:pt x="600" y="749"/>
                </a:lnTo>
                <a:lnTo>
                  <a:pt x="560" y="740"/>
                </a:lnTo>
                <a:lnTo>
                  <a:pt x="520" y="718"/>
                </a:lnTo>
                <a:lnTo>
                  <a:pt x="480" y="709"/>
                </a:lnTo>
                <a:lnTo>
                  <a:pt x="440" y="691"/>
                </a:lnTo>
                <a:lnTo>
                  <a:pt x="400" y="676"/>
                </a:lnTo>
                <a:lnTo>
                  <a:pt x="364" y="663"/>
                </a:lnTo>
                <a:lnTo>
                  <a:pt x="324" y="658"/>
                </a:lnTo>
                <a:lnTo>
                  <a:pt x="284" y="645"/>
                </a:lnTo>
                <a:lnTo>
                  <a:pt x="252" y="631"/>
                </a:lnTo>
                <a:lnTo>
                  <a:pt x="216" y="627"/>
                </a:lnTo>
                <a:lnTo>
                  <a:pt x="180" y="613"/>
                </a:lnTo>
                <a:lnTo>
                  <a:pt x="148" y="609"/>
                </a:lnTo>
                <a:lnTo>
                  <a:pt x="116" y="600"/>
                </a:lnTo>
                <a:lnTo>
                  <a:pt x="84" y="600"/>
                </a:lnTo>
                <a:lnTo>
                  <a:pt x="56" y="595"/>
                </a:lnTo>
                <a:lnTo>
                  <a:pt x="24" y="591"/>
                </a:lnTo>
                <a:lnTo>
                  <a:pt x="0" y="591"/>
                </a:lnTo>
                <a:lnTo>
                  <a:pt x="72" y="0"/>
                </a:lnTo>
                <a:close/>
              </a:path>
            </a:pathLst>
          </a:custGeom>
          <a:solidFill>
            <a:srgbClr val="00dfc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41920" y="2529000"/>
            <a:ext cx="483120" cy="871920"/>
          </a:xfrm>
          <a:custGeom>
            <a:avLst/>
            <a:gdLst/>
            <a:ahLst/>
            <a:rect l="0" t="0" r="r" b="b"/>
            <a:pathLst>
              <a:path w="1342" h="2422">
                <a:moveTo>
                  <a:pt x="409" y="0"/>
                </a:moveTo>
                <a:lnTo>
                  <a:pt x="409" y="0"/>
                </a:lnTo>
                <a:lnTo>
                  <a:pt x="433" y="27"/>
                </a:lnTo>
                <a:lnTo>
                  <a:pt x="457" y="67"/>
                </a:lnTo>
                <a:lnTo>
                  <a:pt x="485" y="94"/>
                </a:lnTo>
                <a:lnTo>
                  <a:pt x="505" y="135"/>
                </a:lnTo>
                <a:lnTo>
                  <a:pt x="533" y="176"/>
                </a:lnTo>
                <a:lnTo>
                  <a:pt x="561" y="212"/>
                </a:lnTo>
                <a:lnTo>
                  <a:pt x="585" y="252"/>
                </a:lnTo>
                <a:lnTo>
                  <a:pt x="613" y="302"/>
                </a:lnTo>
                <a:lnTo>
                  <a:pt x="641" y="352"/>
                </a:lnTo>
                <a:lnTo>
                  <a:pt x="669" y="397"/>
                </a:lnTo>
                <a:lnTo>
                  <a:pt x="689" y="447"/>
                </a:lnTo>
                <a:lnTo>
                  <a:pt x="717" y="496"/>
                </a:lnTo>
                <a:lnTo>
                  <a:pt x="741" y="551"/>
                </a:lnTo>
                <a:lnTo>
                  <a:pt x="765" y="600"/>
                </a:lnTo>
                <a:lnTo>
                  <a:pt x="793" y="660"/>
                </a:lnTo>
                <a:lnTo>
                  <a:pt x="821" y="714"/>
                </a:lnTo>
                <a:lnTo>
                  <a:pt x="841" y="768"/>
                </a:lnTo>
                <a:lnTo>
                  <a:pt x="865" y="823"/>
                </a:lnTo>
                <a:lnTo>
                  <a:pt x="885" y="877"/>
                </a:lnTo>
                <a:lnTo>
                  <a:pt x="913" y="935"/>
                </a:lnTo>
                <a:lnTo>
                  <a:pt x="933" y="994"/>
                </a:lnTo>
                <a:lnTo>
                  <a:pt x="953" y="1048"/>
                </a:lnTo>
                <a:lnTo>
                  <a:pt x="973" y="1103"/>
                </a:lnTo>
                <a:lnTo>
                  <a:pt x="993" y="1166"/>
                </a:lnTo>
                <a:lnTo>
                  <a:pt x="1014" y="1225"/>
                </a:lnTo>
                <a:lnTo>
                  <a:pt x="1026" y="1283"/>
                </a:lnTo>
                <a:lnTo>
                  <a:pt x="1042" y="1333"/>
                </a:lnTo>
                <a:lnTo>
                  <a:pt x="1058" y="1396"/>
                </a:lnTo>
                <a:lnTo>
                  <a:pt x="1074" y="1450"/>
                </a:lnTo>
                <a:lnTo>
                  <a:pt x="1086" y="1509"/>
                </a:lnTo>
                <a:lnTo>
                  <a:pt x="1094" y="1559"/>
                </a:lnTo>
                <a:lnTo>
                  <a:pt x="1102" y="1613"/>
                </a:lnTo>
                <a:lnTo>
                  <a:pt x="1342" y="1514"/>
                </a:lnTo>
                <a:lnTo>
                  <a:pt x="933" y="2422"/>
                </a:lnTo>
                <a:lnTo>
                  <a:pt x="324" y="1703"/>
                </a:lnTo>
                <a:lnTo>
                  <a:pt x="589" y="1694"/>
                </a:lnTo>
                <a:lnTo>
                  <a:pt x="577" y="1645"/>
                </a:lnTo>
                <a:lnTo>
                  <a:pt x="561" y="1586"/>
                </a:lnTo>
                <a:lnTo>
                  <a:pt x="545" y="1541"/>
                </a:lnTo>
                <a:lnTo>
                  <a:pt x="529" y="1482"/>
                </a:lnTo>
                <a:lnTo>
                  <a:pt x="513" y="1432"/>
                </a:lnTo>
                <a:lnTo>
                  <a:pt x="497" y="1383"/>
                </a:lnTo>
                <a:lnTo>
                  <a:pt x="489" y="1333"/>
                </a:lnTo>
                <a:lnTo>
                  <a:pt x="465" y="1288"/>
                </a:lnTo>
                <a:lnTo>
                  <a:pt x="449" y="1238"/>
                </a:lnTo>
                <a:lnTo>
                  <a:pt x="433" y="1193"/>
                </a:lnTo>
                <a:lnTo>
                  <a:pt x="413" y="1143"/>
                </a:lnTo>
                <a:lnTo>
                  <a:pt x="397" y="1094"/>
                </a:lnTo>
                <a:lnTo>
                  <a:pt x="381" y="1048"/>
                </a:lnTo>
                <a:lnTo>
                  <a:pt x="357" y="1003"/>
                </a:lnTo>
                <a:lnTo>
                  <a:pt x="345" y="954"/>
                </a:lnTo>
                <a:lnTo>
                  <a:pt x="320" y="917"/>
                </a:lnTo>
                <a:lnTo>
                  <a:pt x="304" y="872"/>
                </a:lnTo>
                <a:lnTo>
                  <a:pt x="280" y="832"/>
                </a:lnTo>
                <a:lnTo>
                  <a:pt x="264" y="786"/>
                </a:lnTo>
                <a:lnTo>
                  <a:pt x="240" y="746"/>
                </a:lnTo>
                <a:lnTo>
                  <a:pt x="224" y="710"/>
                </a:lnTo>
                <a:lnTo>
                  <a:pt x="192" y="673"/>
                </a:lnTo>
                <a:lnTo>
                  <a:pt x="172" y="633"/>
                </a:lnTo>
                <a:lnTo>
                  <a:pt x="160" y="600"/>
                </a:lnTo>
                <a:lnTo>
                  <a:pt x="136" y="569"/>
                </a:lnTo>
                <a:lnTo>
                  <a:pt x="116" y="532"/>
                </a:lnTo>
                <a:lnTo>
                  <a:pt x="96" y="501"/>
                </a:lnTo>
                <a:lnTo>
                  <a:pt x="76" y="474"/>
                </a:lnTo>
                <a:lnTo>
                  <a:pt x="56" y="447"/>
                </a:lnTo>
                <a:lnTo>
                  <a:pt x="36" y="424"/>
                </a:lnTo>
                <a:lnTo>
                  <a:pt x="20" y="392"/>
                </a:lnTo>
                <a:lnTo>
                  <a:pt x="0" y="374"/>
                </a:lnTo>
                <a:lnTo>
                  <a:pt x="409" y="0"/>
                </a:lnTo>
                <a:close/>
              </a:path>
            </a:pathLst>
          </a:custGeom>
          <a:solidFill>
            <a:srgbClr val="00dfc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58040" y="4672080"/>
            <a:ext cx="493920" cy="749520"/>
          </a:xfrm>
          <a:custGeom>
            <a:avLst/>
            <a:gdLst/>
            <a:ahLst/>
            <a:rect l="0" t="0" r="r" b="b"/>
            <a:pathLst>
              <a:path w="1372" h="2082">
                <a:moveTo>
                  <a:pt x="1372" y="130"/>
                </a:moveTo>
                <a:lnTo>
                  <a:pt x="1372" y="130"/>
                </a:lnTo>
                <a:lnTo>
                  <a:pt x="1368" y="166"/>
                </a:lnTo>
                <a:lnTo>
                  <a:pt x="1356" y="216"/>
                </a:lnTo>
                <a:lnTo>
                  <a:pt x="1352" y="261"/>
                </a:lnTo>
                <a:lnTo>
                  <a:pt x="1336" y="301"/>
                </a:lnTo>
                <a:lnTo>
                  <a:pt x="1324" y="355"/>
                </a:lnTo>
                <a:lnTo>
                  <a:pt x="1320" y="396"/>
                </a:lnTo>
                <a:lnTo>
                  <a:pt x="1304" y="441"/>
                </a:lnTo>
                <a:lnTo>
                  <a:pt x="1284" y="500"/>
                </a:lnTo>
                <a:lnTo>
                  <a:pt x="1272" y="558"/>
                </a:lnTo>
                <a:lnTo>
                  <a:pt x="1252" y="603"/>
                </a:lnTo>
                <a:lnTo>
                  <a:pt x="1232" y="653"/>
                </a:lnTo>
                <a:lnTo>
                  <a:pt x="1216" y="716"/>
                </a:lnTo>
                <a:lnTo>
                  <a:pt x="1191" y="770"/>
                </a:lnTo>
                <a:lnTo>
                  <a:pt x="1171" y="819"/>
                </a:lnTo>
                <a:lnTo>
                  <a:pt x="1143" y="878"/>
                </a:lnTo>
                <a:lnTo>
                  <a:pt x="1123" y="937"/>
                </a:lnTo>
                <a:lnTo>
                  <a:pt x="1095" y="986"/>
                </a:lnTo>
                <a:lnTo>
                  <a:pt x="1075" y="1046"/>
                </a:lnTo>
                <a:lnTo>
                  <a:pt x="1051" y="1091"/>
                </a:lnTo>
                <a:lnTo>
                  <a:pt x="1027" y="1154"/>
                </a:lnTo>
                <a:lnTo>
                  <a:pt x="995" y="1208"/>
                </a:lnTo>
                <a:lnTo>
                  <a:pt x="975" y="1266"/>
                </a:lnTo>
                <a:lnTo>
                  <a:pt x="947" y="1312"/>
                </a:lnTo>
                <a:lnTo>
                  <a:pt x="919" y="1366"/>
                </a:lnTo>
                <a:lnTo>
                  <a:pt x="887" y="1420"/>
                </a:lnTo>
                <a:lnTo>
                  <a:pt x="855" y="1469"/>
                </a:lnTo>
                <a:lnTo>
                  <a:pt x="827" y="1510"/>
                </a:lnTo>
                <a:lnTo>
                  <a:pt x="790" y="1568"/>
                </a:lnTo>
                <a:lnTo>
                  <a:pt x="762" y="1613"/>
                </a:lnTo>
                <a:lnTo>
                  <a:pt x="730" y="1663"/>
                </a:lnTo>
                <a:lnTo>
                  <a:pt x="698" y="1699"/>
                </a:lnTo>
                <a:lnTo>
                  <a:pt x="669" y="1739"/>
                </a:lnTo>
                <a:lnTo>
                  <a:pt x="887" y="1893"/>
                </a:lnTo>
                <a:lnTo>
                  <a:pt x="0" y="2082"/>
                </a:lnTo>
                <a:lnTo>
                  <a:pt x="120" y="1104"/>
                </a:lnTo>
                <a:lnTo>
                  <a:pt x="292" y="1339"/>
                </a:lnTo>
                <a:lnTo>
                  <a:pt x="324" y="1293"/>
                </a:lnTo>
                <a:lnTo>
                  <a:pt x="356" y="1244"/>
                </a:lnTo>
                <a:lnTo>
                  <a:pt x="376" y="1199"/>
                </a:lnTo>
                <a:lnTo>
                  <a:pt x="409" y="1154"/>
                </a:lnTo>
                <a:lnTo>
                  <a:pt x="433" y="1104"/>
                </a:lnTo>
                <a:lnTo>
                  <a:pt x="457" y="1064"/>
                </a:lnTo>
                <a:lnTo>
                  <a:pt x="485" y="1018"/>
                </a:lnTo>
                <a:lnTo>
                  <a:pt x="505" y="977"/>
                </a:lnTo>
                <a:lnTo>
                  <a:pt x="525" y="932"/>
                </a:lnTo>
                <a:lnTo>
                  <a:pt x="549" y="887"/>
                </a:lnTo>
                <a:lnTo>
                  <a:pt x="577" y="842"/>
                </a:lnTo>
                <a:lnTo>
                  <a:pt x="601" y="788"/>
                </a:lnTo>
                <a:lnTo>
                  <a:pt x="621" y="752"/>
                </a:lnTo>
                <a:lnTo>
                  <a:pt x="633" y="702"/>
                </a:lnTo>
                <a:lnTo>
                  <a:pt x="661" y="662"/>
                </a:lnTo>
                <a:lnTo>
                  <a:pt x="673" y="621"/>
                </a:lnTo>
                <a:lnTo>
                  <a:pt x="694" y="572"/>
                </a:lnTo>
                <a:lnTo>
                  <a:pt x="710" y="531"/>
                </a:lnTo>
                <a:lnTo>
                  <a:pt x="734" y="486"/>
                </a:lnTo>
                <a:lnTo>
                  <a:pt x="746" y="441"/>
                </a:lnTo>
                <a:lnTo>
                  <a:pt x="758" y="405"/>
                </a:lnTo>
                <a:lnTo>
                  <a:pt x="762" y="355"/>
                </a:lnTo>
                <a:lnTo>
                  <a:pt x="778" y="310"/>
                </a:lnTo>
                <a:lnTo>
                  <a:pt x="798" y="283"/>
                </a:lnTo>
                <a:lnTo>
                  <a:pt x="803" y="247"/>
                </a:lnTo>
                <a:lnTo>
                  <a:pt x="815" y="202"/>
                </a:lnTo>
                <a:lnTo>
                  <a:pt x="827" y="166"/>
                </a:lnTo>
                <a:lnTo>
                  <a:pt x="831" y="130"/>
                </a:lnTo>
                <a:lnTo>
                  <a:pt x="843" y="94"/>
                </a:lnTo>
                <a:lnTo>
                  <a:pt x="843" y="63"/>
                </a:lnTo>
                <a:lnTo>
                  <a:pt x="859" y="27"/>
                </a:lnTo>
                <a:lnTo>
                  <a:pt x="855" y="0"/>
                </a:lnTo>
                <a:lnTo>
                  <a:pt x="1372" y="130"/>
                </a:lnTo>
                <a:close/>
              </a:path>
            </a:pathLst>
          </a:custGeom>
          <a:solidFill>
            <a:srgbClr val="00dfc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17600" y="3386160"/>
            <a:ext cx="371880" cy="895680"/>
          </a:xfrm>
          <a:custGeom>
            <a:avLst/>
            <a:gdLst/>
            <a:ahLst/>
            <a:rect l="0" t="0" r="r" b="b"/>
            <a:pathLst>
              <a:path w="1033" h="2488">
                <a:moveTo>
                  <a:pt x="502" y="2488"/>
                </a:moveTo>
                <a:lnTo>
                  <a:pt x="502" y="2488"/>
                </a:lnTo>
                <a:lnTo>
                  <a:pt x="486" y="2447"/>
                </a:lnTo>
                <a:lnTo>
                  <a:pt x="470" y="2406"/>
                </a:lnTo>
                <a:lnTo>
                  <a:pt x="450" y="2375"/>
                </a:lnTo>
                <a:lnTo>
                  <a:pt x="442" y="2321"/>
                </a:lnTo>
                <a:lnTo>
                  <a:pt x="418" y="2271"/>
                </a:lnTo>
                <a:lnTo>
                  <a:pt x="410" y="2235"/>
                </a:lnTo>
                <a:lnTo>
                  <a:pt x="390" y="2190"/>
                </a:lnTo>
                <a:lnTo>
                  <a:pt x="386" y="2122"/>
                </a:lnTo>
                <a:lnTo>
                  <a:pt x="366" y="2068"/>
                </a:lnTo>
                <a:lnTo>
                  <a:pt x="358" y="2018"/>
                </a:lnTo>
                <a:lnTo>
                  <a:pt x="338" y="1959"/>
                </a:lnTo>
                <a:lnTo>
                  <a:pt x="318" y="1910"/>
                </a:lnTo>
                <a:lnTo>
                  <a:pt x="314" y="1842"/>
                </a:lnTo>
                <a:lnTo>
                  <a:pt x="310" y="1788"/>
                </a:lnTo>
                <a:lnTo>
                  <a:pt x="302" y="1729"/>
                </a:lnTo>
                <a:lnTo>
                  <a:pt x="290" y="1662"/>
                </a:lnTo>
                <a:lnTo>
                  <a:pt x="282" y="1603"/>
                </a:lnTo>
                <a:lnTo>
                  <a:pt x="278" y="1540"/>
                </a:lnTo>
                <a:lnTo>
                  <a:pt x="274" y="1481"/>
                </a:lnTo>
                <a:lnTo>
                  <a:pt x="256" y="1431"/>
                </a:lnTo>
                <a:lnTo>
                  <a:pt x="256" y="1364"/>
                </a:lnTo>
                <a:lnTo>
                  <a:pt x="244" y="1300"/>
                </a:lnTo>
                <a:lnTo>
                  <a:pt x="244" y="1246"/>
                </a:lnTo>
                <a:lnTo>
                  <a:pt x="240" y="1187"/>
                </a:lnTo>
                <a:lnTo>
                  <a:pt x="240" y="1110"/>
                </a:lnTo>
                <a:lnTo>
                  <a:pt x="240" y="1047"/>
                </a:lnTo>
                <a:lnTo>
                  <a:pt x="240" y="1002"/>
                </a:lnTo>
                <a:lnTo>
                  <a:pt x="236" y="929"/>
                </a:lnTo>
                <a:lnTo>
                  <a:pt x="240" y="875"/>
                </a:lnTo>
                <a:lnTo>
                  <a:pt x="248" y="816"/>
                </a:lnTo>
                <a:lnTo>
                  <a:pt x="248" y="767"/>
                </a:lnTo>
                <a:lnTo>
                  <a:pt x="252" y="708"/>
                </a:lnTo>
                <a:lnTo>
                  <a:pt x="0" y="726"/>
                </a:lnTo>
                <a:lnTo>
                  <a:pt x="623" y="0"/>
                </a:lnTo>
                <a:lnTo>
                  <a:pt x="1033" y="875"/>
                </a:lnTo>
                <a:lnTo>
                  <a:pt x="767" y="798"/>
                </a:lnTo>
                <a:lnTo>
                  <a:pt x="759" y="853"/>
                </a:lnTo>
                <a:lnTo>
                  <a:pt x="755" y="916"/>
                </a:lnTo>
                <a:lnTo>
                  <a:pt x="767" y="965"/>
                </a:lnTo>
                <a:lnTo>
                  <a:pt x="767" y="1024"/>
                </a:lnTo>
                <a:lnTo>
                  <a:pt x="767" y="1078"/>
                </a:lnTo>
                <a:lnTo>
                  <a:pt x="771" y="1123"/>
                </a:lnTo>
                <a:lnTo>
                  <a:pt x="771" y="1182"/>
                </a:lnTo>
                <a:lnTo>
                  <a:pt x="776" y="1227"/>
                </a:lnTo>
                <a:lnTo>
                  <a:pt x="776" y="1278"/>
                </a:lnTo>
                <a:lnTo>
                  <a:pt x="788" y="1337"/>
                </a:lnTo>
                <a:lnTo>
                  <a:pt x="788" y="1395"/>
                </a:lnTo>
                <a:lnTo>
                  <a:pt x="796" y="1454"/>
                </a:lnTo>
                <a:lnTo>
                  <a:pt x="801" y="1490"/>
                </a:lnTo>
                <a:lnTo>
                  <a:pt x="817" y="1544"/>
                </a:lnTo>
                <a:lnTo>
                  <a:pt x="805" y="1589"/>
                </a:lnTo>
                <a:lnTo>
                  <a:pt x="821" y="1634"/>
                </a:lnTo>
                <a:lnTo>
                  <a:pt x="833" y="1693"/>
                </a:lnTo>
                <a:lnTo>
                  <a:pt x="845" y="1729"/>
                </a:lnTo>
                <a:lnTo>
                  <a:pt x="845" y="1783"/>
                </a:lnTo>
                <a:lnTo>
                  <a:pt x="853" y="1838"/>
                </a:lnTo>
                <a:lnTo>
                  <a:pt x="869" y="1865"/>
                </a:lnTo>
                <a:lnTo>
                  <a:pt x="885" y="1905"/>
                </a:lnTo>
                <a:lnTo>
                  <a:pt x="897" y="1955"/>
                </a:lnTo>
                <a:lnTo>
                  <a:pt x="897" y="1987"/>
                </a:lnTo>
                <a:lnTo>
                  <a:pt x="909" y="2018"/>
                </a:lnTo>
                <a:lnTo>
                  <a:pt x="925" y="2068"/>
                </a:lnTo>
                <a:lnTo>
                  <a:pt x="929" y="2104"/>
                </a:lnTo>
                <a:lnTo>
                  <a:pt x="945" y="2136"/>
                </a:lnTo>
                <a:lnTo>
                  <a:pt x="957" y="2167"/>
                </a:lnTo>
                <a:lnTo>
                  <a:pt x="973" y="2203"/>
                </a:lnTo>
                <a:lnTo>
                  <a:pt x="973" y="2239"/>
                </a:lnTo>
                <a:lnTo>
                  <a:pt x="997" y="2257"/>
                </a:lnTo>
                <a:lnTo>
                  <a:pt x="502" y="2488"/>
                </a:lnTo>
                <a:close/>
              </a:path>
            </a:pathLst>
          </a:custGeom>
          <a:solidFill>
            <a:srgbClr val="00dfc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ck Blount</dc:creator>
  <dc:description/>
  <dc:language>en-US</dc:language>
  <cp:lastModifiedBy>shannon wheeler</cp:lastModifiedBy>
  <cp:revision>0</cp:revision>
  <dc:subject/>
  <dc:title>95 MobileWare Work Environment</dc:title>
</cp:coreProperties>
</file>