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DAD84A-57A4-4C9A-861E-7E57935D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4828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m Payn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API - Advantages Over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01720" y="2063880"/>
            <a:ext cx="75405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of data not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rotected from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 can be buil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irect - changes can be reflect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for large amoun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Versi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7520" y="1762200"/>
            <a:ext cx="85089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dd info to API without changing prototype.  Makes updat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nd downlevel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evel admin tool continues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dmin tool can be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YourSvcGetInfo( CHAR *Server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Level, VOID *Buffer, USHORT Buf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952640"/>
            <a:ext cx="842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parameters of a single object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handy use of info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objects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, adding members to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pen-Get-Set-Clo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uch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9200" y="1984320"/>
            <a:ext cx="79056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info levels with appropriate amount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-side sorting (store s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need to detect slow links and modify UPI (reduce information flow).  For example, A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04800" y="228600"/>
            <a:ext cx="613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Administration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6320" y="1968480"/>
            <a:ext cx="48513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1482840"/>
            <a:ext cx="77090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 data in the Registry, both locally and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tatic service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Edito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useful adjunct for your administration tool for seldom used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g Even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68440" y="1482840"/>
            <a:ext cx="620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 called b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for unatte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tool for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ext friendly for users/administrators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text can be loc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4160" y="1482840"/>
            <a:ext cx="86360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iece of overall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ment costs heavily weighted toward managem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dministration is not just a goo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ful product will prompt ISVs and corporate developers to develop their own GUI.  It is difficult to foresee al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46280" y="1482840"/>
            <a:ext cx="7651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administration of Windows 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,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s Applet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87520" y="1482840"/>
            <a:ext cx="79693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 service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account in which service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SetServiceObjectSecuri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who can control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ChangeServiceConfig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configur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920" y="1482840"/>
            <a:ext cx="705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,Control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 own control codes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tatus of service as reported to Servic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ControlService() to get latest info for runn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87280" y="228600"/>
            <a:ext cx="676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:  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3360" y="1905120"/>
            <a:ext cx="793764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your service if not already start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if it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in parameters in StartService() - could (should - parameters passed are not persisted) use Registry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55520" y="1482840"/>
            <a:ext cx="70326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and group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User*, NetGroup*, NetLocalGroup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Net APIs for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ed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Add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Remove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QueryDisplayInformatio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GetDisplayInformationInd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22520" y="1482840"/>
            <a:ext cx="58993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user and local group and add user to lo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11280" y="1482840"/>
            <a:ext cx="61214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ystem secu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03400" y="1482840"/>
            <a:ext cx="69372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OpenPolicy() - Open the LSA locally or 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Query/SetInformationPolicy() - Sets information such as domain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store user/password information f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CreateSecret(), LsaOpenSecret(), LsaSetSecret(), LsaQuerySecr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482840"/>
            <a:ext cx="857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LookupNames/Sids() - translates between account names and security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the actions a user account can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sWithUser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Add/Remov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01720" y="1482840"/>
            <a:ext cx="754056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a great administrative programm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si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programming interfac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ing your service also means administering the environment in which it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47600" y="1482840"/>
            <a:ext cx="704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I set up my service to run in an account and give the account the right to run as a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Administration Interf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9680" y="1952640"/>
            <a:ext cx="70642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, DCOM platform-independent interfaces for commonly used directory servic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- scripting from Visual Basi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e A Great Remotely Manageable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15920" y="1920960"/>
            <a:ext cx="711216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dmin API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PC for platform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abou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 NT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, Service Control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82840"/>
            <a:ext cx="80643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a remote administr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ministration APIs (Service Controller, Net, LSA, Event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hoosing A Remote Administration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90840" y="2000160"/>
            <a:ext cx="5962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own IPC (over Winsock or named pi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6240" y="1482840"/>
            <a:ext cx="68515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- No API interface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store static data in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known goo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gNotifyChangeKey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Your Own (Non-RPC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0480" y="1482840"/>
            <a:ext cx="776304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o your own security, mars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worry about transport specif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e RPC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6480" y="1177920"/>
            <a:ext cx="73310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/multipl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other OSF DC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it’s (almost free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RpcBindingSet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RpcServerRegister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ublish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len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Payne</dc:creator>
  <dc:description/>
  <dc:language>en-US</dc:language>
  <cp:lastModifiedBy>Tomi Poutanen</cp:lastModifiedBy>
  <cp:revision>0</cp:revision>
  <dc:subject/>
  <dc:title>Service Administration</dc:title>
</cp:coreProperties>
</file>