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B95EA8-A626-44D4-9050-F24C56E24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and record locking: support PC productivity ap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ching, batching, file change notification: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negotiation: evolv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replicated virtual volumes: scalability, fault tolerance, adminsterability (relocate resources transparent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ode: internationalizabi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file names: administrability, ease of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the priority order for getting specifications published that would enable third parties to implement each capability. The priorities are based on complexity and utility: More complex things takes longer to document. The more generally useful a capability is, the earlier it should be documented. Some protocols may be obsolete before they could be fully documented -- such as the WINS server-to-server protoc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slide tells where to get the latest information on CIF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IFS motto is “share and share alike” -- the vision that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ystems on the Internet will share a rich, pervasive, ubiquitous file system. I hope that by the time this workshop is finished, you’ll agree that this is more than just a slog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627200" y="1447920"/>
            <a:ext cx="66787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y CIF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believe that a rich file sharing protocol for use on the Internet is a good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should it look like? It should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en &amp; leverage installed base (to speed deploy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le to run existing apps (PC, MAC, and Uni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t (especially over slow lin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able and fault tole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olv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e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iz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60000"/>
              </a:lnSpc>
              <a:spcBef>
                <a:spcPts val="961"/>
              </a:spcBef>
              <a:spcAft>
                <a:spcPts val="1151"/>
              </a:spcAft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and printer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61"/>
              </a:spcBef>
              <a:spcAft>
                <a:spcPts val="1151"/>
              </a:spcAft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and record lo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61"/>
              </a:spcBef>
              <a:spcAft>
                <a:spcPts val="1151"/>
              </a:spcAft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fe caching, read-ahead, and write-beh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61"/>
              </a:spcBef>
              <a:spcAft>
                <a:spcPts val="1151"/>
              </a:spcAft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tched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61"/>
              </a:spcBef>
              <a:spcAft>
                <a:spcPts val="1151"/>
              </a:spcAft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change no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spcAft>
                <a:spcPts val="1151"/>
              </a:spcAft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replicated virtual 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spcAft>
                <a:spcPts val="1151"/>
              </a:spcAft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 name resolution using D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Capabiliti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  <a:spcBef>
                <a:spcPts val="961"/>
              </a:spcBef>
              <a:spcAft>
                <a:spcPts val="1151"/>
              </a:spcAft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 version negoti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spcAft>
                <a:spcPts val="1151"/>
              </a:spcAft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file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spcAft>
                <a:spcPts val="1151"/>
              </a:spcAft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ode file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y did we publis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ng public specification up to date with latest implem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 other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ate improving the spec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other implementations ea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interoperability, at latest re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feedback on Internet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ere do we want to g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redundancy, trim cru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minate vestiges of NetB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spec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e needed info, better organ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interop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Internet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and the Intra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a file system, the CIFS spec is nearly functionally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s work to clarify, fill in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a few missing pieces (we thin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mentary services for LAN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S, Brow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clients and servers will also want to be LAN clients and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and the Intranet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edback: want LAN environment spec’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, today we will discuss many aspects of the LAN environment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se will be kept separate from CIFS pr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vide and conquer the complexity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ck and choose; low cost of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are going to be superse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., some replaced by Internet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riorities for Intranet sp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MS clients accessing MS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er, WINS, NetShareEnum client-server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MS server that supports MS client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iority: WFW, Win95,  Win NT Workstation, other cli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ve plus pass-through 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group 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95 lo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w draft today, final by Q4/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riorities for Intranet spec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er/WINS server-to-server protoc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 protoc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/server to DC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 to DC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 station to DC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ll be superseded by standard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chedule -- Day 1, Mo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:3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lcome / CIFS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ing CIFS on UNIX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:4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-- Break 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in Corporate Intrane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S/DH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-through 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chedule -- Day 1, Mo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:3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lcome / CIFS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ing CIFS on UNIX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:4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-- Break 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in Corporate Intrane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S/DH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-through 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chedule - Day 1, Aftern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ing CIFS on UNIX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:4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ing CIFS for Ma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:3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-- Break 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:4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monst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:1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’s new in CIF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:4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in Windows: Technology Road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:1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on the Internet: Working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-- Dinner 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chedule - Da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ental Break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:3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 Technical Working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:1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-- Break 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:3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 Technical Working Session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-- Lunch 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:3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 Technical Working Session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:00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l Day: Informal Interoperability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ere is CI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35000" y="1676520"/>
            <a:ext cx="8032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L for the spe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://ds.internic.net/internet-drafts/draft-heizer-cifs-v1-spec-00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microsoft.com/intdev/cifs/cifs.zip (Word .doc, zipp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ing li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fs@listserv.msn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cribe CIFS your@email.addre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”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serv@listserv.msn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 p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microsoft.com/intdev/c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762120" y="53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62120" y="28954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Question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chedule - Day 1, Aftern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ing CIFS on UNIX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:4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ing CIFS for Ma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:3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-- Break 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:4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monst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:1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’s new in CIF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:4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in Windows: Technology Road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:1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on the Internet: Working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-- Dinner 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chedule - Da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ental Break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:3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 Technical Working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:1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-- Break 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:3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 Technical Working Session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-- Lunch 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:3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 Technical Working Session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:00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l Day: Informal Interoperability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762120" y="9907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FS: Welcome &amp;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62120" y="2895480"/>
            <a:ext cx="6400800" cy="19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ul J. L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tect, Distribute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ulle@microsof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762120" y="53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62120" y="2362320"/>
            <a:ext cx="75438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IFS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hare and share alik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FS progra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shop 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mes for the worksh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&amp; Intr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lose, Discuss,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ay &amp; 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is CIF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ile sharing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s for many platfo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, Windows, OS/2, VMS, Ne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nOS Linux SOLARIS SVR4 ULTRIX OSF1 AIX BSDI NetBSD SEQUENT HP-UX IRIX FreeBSD NeXT A/UX SCO DGUX Ap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X/Open standard “SMB”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lled on a few machines :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extensions for Internet; needs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J. Leach</dc:creator>
  <dc:description/>
  <dc:language>en-US</dc:language>
  <cp:lastModifiedBy>Paul J. Leach</cp:lastModifiedBy>
  <cp:revision>0</cp:revision>
  <dc:subject/>
  <dc:title>CIFS</dc:title>
</cp:coreProperties>
</file>