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52280" y="17524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00b7a5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an now use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NS Nam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489640" y="3200400"/>
            <a:ext cx="2282760" cy="1523880"/>
          </a:xfrm>
          <a:prstGeom prst="rect">
            <a:avLst/>
          </a:prstGeom>
          <a:solidFill>
            <a:srgbClr val="5a079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90ff"/>
                </a:solidFill>
                <a:latin typeface="Arial"/>
                <a:ea typeface="Arial"/>
              </a:rPr>
              <a:t>myco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90ff"/>
                </a:solidFill>
                <a:latin typeface="Arial"/>
                <a:ea typeface="Arial"/>
              </a:rPr>
              <a:t>WINS Ad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indows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ien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DNS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03360" y="2881440"/>
            <a:ext cx="1390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7920" y="3457440"/>
            <a:ext cx="1541520" cy="1266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0" y="4789440"/>
            <a:ext cx="448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 use \\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rv1.myco.c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publ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2895480"/>
            <a:ext cx="1676880" cy="2134080"/>
          </a:xfrm>
          <a:custGeom>
            <a:avLst/>
            <a:gdLst/>
            <a:ahLst/>
            <a:rect l="0" t="0" r="r" b="b"/>
            <a:pathLst>
              <a:path fill="none" w="4658" h="5928">
                <a:moveTo>
                  <a:pt x="0" y="5928"/>
                </a:moveTo>
                <a:lnTo>
                  <a:pt x="846" y="5928"/>
                </a:lnTo>
                <a:lnTo>
                  <a:pt x="846" y="0"/>
                </a:lnTo>
                <a:lnTo>
                  <a:pt x="4658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8440" y="4572000"/>
            <a:ext cx="762480" cy="609840"/>
          </a:xfrm>
          <a:custGeom>
            <a:avLst/>
            <a:gdLst/>
            <a:ahLst/>
            <a:rect l="0" t="0" r="r" b="b"/>
            <a:pathLst>
              <a:path fill="none" w="2118" h="1694">
                <a:moveTo>
                  <a:pt x="0" y="0"/>
                </a:moveTo>
                <a:lnTo>
                  <a:pt x="2118" y="0"/>
                </a:lnTo>
                <a:lnTo>
                  <a:pt x="2109" y="1694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8040" y="2209680"/>
            <a:ext cx="33544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tBIO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5248440"/>
            <a:ext cx="309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 use \\srv1\publ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5486400"/>
            <a:ext cx="449604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8440" y="5899320"/>
            <a:ext cx="1676520" cy="654120"/>
          </a:xfrm>
          <a:prstGeom prst="rect">
            <a:avLst/>
          </a:prstGeom>
          <a:solidFill>
            <a:srgbClr val="8652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8440" y="5715000"/>
            <a:ext cx="1676520" cy="279360"/>
          </a:xfrm>
          <a:prstGeom prst="ellipse">
            <a:avLst/>
          </a:prstGeom>
          <a:solidFill>
            <a:srgbClr val="8652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850000" y="2652840"/>
            <a:ext cx="1390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90ff"/>
                </a:solidFill>
                <a:latin typeface="Arial"/>
                <a:ea typeface="Arial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373880" y="6186600"/>
            <a:ext cx="1623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2000" spc="-1" strike="noStrike">
                <a:solidFill>
                  <a:srgbClr val="ffdfab"/>
                </a:solidFill>
                <a:latin typeface="Arial"/>
                <a:ea typeface="Arial"/>
              </a:rPr>
              <a:t>srv1  1.2.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450200" y="5167440"/>
            <a:ext cx="1390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66d"/>
                </a:solidFill>
                <a:latin typeface="Arial"/>
                <a:ea typeface="Arial"/>
              </a:rPr>
              <a:t>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0880" y="26676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IN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-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icrosoft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-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Opcode for Multi-Homed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cod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multi-homed node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enable multiple addresses per Registration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Opcodes 8 &amp; 9 for Refr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1 defines opcode ‘9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2 gives example using ‘8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0880" y="266760"/>
            <a:ext cx="87613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IN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-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S Implement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77800" y="167652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handling of Browser NetBIOS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domain&gt;&lt;1B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domain master browser (PDC). Return associated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domain&gt;&lt;1C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domain controllers. Return all registered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domain&gt;&lt;1D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ed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niqu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subnet master browser for domain. Return positive registration response but don’t add to database; Return subnet broadcast address of querying client’s sub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domain&gt;&lt;1E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ed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ou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all potential browsers. Handle same as &lt;domain&gt;&lt;1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8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01&gt;&lt;02&gt;_MSBROWSE_&lt;02&gt;&lt;01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all subnet master browsers. Handle same as &lt;domain&gt;&lt;1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HCP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-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icrosoft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 server IP addres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option 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 option name: “NetBIOS Name Ser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first, then backup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and backup(s) should be repl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e 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option 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 option name: “NetBIOS Node Typ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 Conflict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g address before iss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s conflicts with stati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715000" y="4419720"/>
            <a:ext cx="0" cy="377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880" y="26676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HCP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-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S Implement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87280" y="167652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 Sc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ultiple ‘subnets’ on one seg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.g., two class C addresses on one seg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ssigns IP Address from multiple non-continuous address ‘ranges’ for one GI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ssigns direct route to ‘other’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952880" y="4724280"/>
            <a:ext cx="1523880" cy="4572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040280" y="5972040"/>
            <a:ext cx="912960" cy="750960"/>
            <a:chOff x="4040280" y="5972040"/>
            <a:chExt cx="912960" cy="75096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4040280" y="5972040"/>
              <a:ext cx="9129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 txBox="1"/>
            <p:nvPr/>
          </p:nvSpPr>
          <p:spPr>
            <a:xfrm>
              <a:off x="4278240" y="6051600"/>
              <a:ext cx="433440" cy="287280"/>
            </a:xfrm>
            <a:prstGeom prst="rect">
              <a:avLst/>
            </a:prstGeom>
            <a:solidFill>
              <a:srgbClr val="4a4a4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554880" y="5972040"/>
            <a:ext cx="912960" cy="750960"/>
            <a:chOff x="6554880" y="5972040"/>
            <a:chExt cx="912960" cy="7509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6554880" y="5972040"/>
              <a:ext cx="9129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6792840" y="6051600"/>
              <a:ext cx="433440" cy="287280"/>
            </a:xfrm>
            <a:prstGeom prst="rect">
              <a:avLst/>
            </a:prstGeom>
            <a:solidFill>
              <a:srgbClr val="4a4a4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038480" y="5562720"/>
            <a:ext cx="3429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5562720"/>
            <a:ext cx="0" cy="377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54360" y="5592600"/>
            <a:ext cx="1038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n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0280" y="5562720"/>
            <a:ext cx="0" cy="377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068960" y="5592600"/>
            <a:ext cx="1038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n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5181480"/>
            <a:ext cx="0" cy="378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97360" y="5211720"/>
            <a:ext cx="974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4419720"/>
            <a:ext cx="3733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4419720"/>
            <a:ext cx="0" cy="377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33720" y="4724280"/>
            <a:ext cx="1447920" cy="533520"/>
          </a:xfrm>
          <a:prstGeom prst="rect">
            <a:avLst/>
          </a:prstGeom>
          <a:solidFill>
            <a:srgbClr val="00665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ddition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: IETF RFC 1001/1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(interoperability notes): 4Q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: IETF RFC 1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(interoperability notes): 4Q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860400" y="1066680"/>
            <a:ext cx="790272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teroperability with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INS and DHCP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 Perry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ogram Manager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sktop &amp; Business Systems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64560" y="6153120"/>
            <a:ext cx="1206720" cy="376560"/>
            <a:chOff x="7864560" y="6153120"/>
            <a:chExt cx="1206720" cy="37656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864560" y="618660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 txBox="1"/>
            <p:nvPr/>
          </p:nvSpPr>
          <p:spPr>
            <a:xfrm>
              <a:off x="8836200" y="6153120"/>
              <a:ext cx="2350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are WINS and DHC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35000" y="167652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14d3c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Internet Nam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FC 1001 and 1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service for resolution of [single-part] NetBIOS-format friendly name to I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14d3c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Host Configuration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FC 1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assignment of host IP address and related configur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y Do We C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CIFS clients must query same namespace in which CIFS servers register (&amp; vice ver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HC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CIFS clients may seek IP configuration information from Microsoft DHCP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y Use RFC 1001/1002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280" y="1600200"/>
            <a:ext cx="7194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MB Client and Serve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etBIOS names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 [SMB] messag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943600" y="2209680"/>
            <a:ext cx="3047760" cy="1447920"/>
            <a:chOff x="5943600" y="2209680"/>
            <a:chExt cx="3047760" cy="1447920"/>
          </a:xfrm>
        </p:grpSpPr>
        <p:sp>
          <p:nvSpPr>
            <p:cNvPr id="94" name=""/>
            <p:cNvSpPr txBox="1"/>
            <p:nvPr/>
          </p:nvSpPr>
          <p:spPr>
            <a:xfrm>
              <a:off x="5943600" y="2209680"/>
              <a:ext cx="1523880" cy="6858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6633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 Cl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7467480" y="2209680"/>
              <a:ext cx="1523880" cy="6858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6633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 Ser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67480" y="335268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67480" y="28954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7068960" y="295740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r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 txBox="1"/>
          <p:nvPr/>
        </p:nvSpPr>
        <p:spPr>
          <a:xfrm>
            <a:off x="44280" y="1523880"/>
            <a:ext cx="7194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tocol (1001/1002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s server’s assign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name and I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lves user-specified serv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name to I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943600" y="3657600"/>
            <a:ext cx="3048120" cy="2895480"/>
            <a:chOff x="5943600" y="3657600"/>
            <a:chExt cx="3048120" cy="2895480"/>
          </a:xfrm>
        </p:grpSpPr>
        <p:sp>
          <p:nvSpPr>
            <p:cNvPr id="101" name=""/>
            <p:cNvSpPr txBox="1"/>
            <p:nvPr/>
          </p:nvSpPr>
          <p:spPr>
            <a:xfrm>
              <a:off x="5943600" y="3657600"/>
              <a:ext cx="3048120" cy="6858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5943600" y="5181480"/>
              <a:ext cx="3048120" cy="6858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5943600" y="5867280"/>
              <a:ext cx="3048120" cy="6858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67480" y="48769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67480" y="434340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535800" y="4479840"/>
              <a:ext cx="1936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7.55.92.1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0880" y="26676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FC 1001/1002 Nod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35000" y="1676520"/>
            <a:ext cx="772812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18587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no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Broadcas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8587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-no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Unicast to NBNS (Ne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me server, such as ‘WINS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8587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-no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Broadcast, then try NB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8587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duce router and backbone/link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8587"/>
              </a:spcBef>
              <a:buClr>
                <a:srgbClr val="ff00ff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-no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ry NBNS, then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8587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duce broadcast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8587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hosts defaul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8587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-node if configured to use WI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8587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wise B-no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0880" y="26676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dows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nternet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N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me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01/1002 compliant NB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er replication for locality, load leveling, and fault tol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as well as dynamic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management via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INS and DH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541520"/>
            <a:ext cx="7315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-571680">
              <a:lnSpc>
                <a:spcPct val="90000"/>
              </a:lnSpc>
              <a:spcBef>
                <a:spcPts val="961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tains IP address from 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5880" y="6066000"/>
            <a:ext cx="1676520" cy="654120"/>
          </a:xfrm>
          <a:prstGeom prst="rect">
            <a:avLst/>
          </a:prstGeom>
          <a:solidFill>
            <a:srgbClr val="8652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5880" y="5881680"/>
            <a:ext cx="1676520" cy="279360"/>
          </a:xfrm>
          <a:prstGeom prst="ellipse">
            <a:avLst/>
          </a:prstGeom>
          <a:solidFill>
            <a:srgbClr val="8652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181320" y="6353280"/>
            <a:ext cx="1623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2000" spc="-1" strike="noStrike">
                <a:solidFill>
                  <a:srgbClr val="ffdfab"/>
                </a:solidFill>
                <a:latin typeface="Arial"/>
                <a:ea typeface="Arial"/>
              </a:rPr>
              <a:t>srv1  1.2.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57640" y="5334120"/>
            <a:ext cx="1390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66d"/>
                </a:solidFill>
                <a:latin typeface="Arial"/>
                <a:ea typeface="Arial"/>
              </a:rPr>
              <a:t>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5880" y="4205160"/>
            <a:ext cx="1676520" cy="838080"/>
          </a:xfrm>
          <a:prstGeom prst="rect">
            <a:avLst/>
          </a:prstGeom>
          <a:solidFill>
            <a:srgbClr val="0066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57640" y="3657600"/>
            <a:ext cx="1390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cdba"/>
                </a:solidFill>
                <a:latin typeface="Arial"/>
                <a:ea typeface="Arial"/>
              </a:rPr>
              <a:t>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86240" y="4297320"/>
            <a:ext cx="9604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2000" spc="-1" strike="noStrike">
                <a:solidFill>
                  <a:srgbClr val="b3fff9"/>
                </a:solidFill>
                <a:latin typeface="Arial"/>
                <a:ea typeface="Arial"/>
              </a:rPr>
              <a:t>1.2.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b3fff9"/>
                </a:solidFill>
                <a:latin typeface="Arial"/>
                <a:ea typeface="Arial"/>
              </a:rPr>
              <a:t>1.2.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</a:pPr>
            <a:r>
              <a:rPr b="1" lang="en-US" sz="2000" spc="-1" strike="noStrike">
                <a:solidFill>
                  <a:srgbClr val="b3fff9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0040" y="4191120"/>
            <a:ext cx="1390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4080" y="4572000"/>
            <a:ext cx="1714680" cy="1676520"/>
            <a:chOff x="154080" y="4572000"/>
            <a:chExt cx="1714680" cy="16765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154080" y="4572000"/>
              <a:ext cx="17146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95320" y="5062680"/>
              <a:ext cx="679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0" lang="en-US" sz="1800" spc="-1" strike="noStrike">
                  <a:solidFill>
                    <a:srgbClr val="ffdfab"/>
                  </a:solidFill>
                  <a:latin typeface="Arial"/>
                  <a:ea typeface="Arial"/>
                </a:rPr>
                <a:t>srv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77960" y="3886200"/>
            <a:ext cx="1676880" cy="533880"/>
          </a:xfrm>
          <a:custGeom>
            <a:avLst/>
            <a:gdLst/>
            <a:ahLst/>
            <a:rect l="0" t="0" r="r" b="b"/>
            <a:pathLst>
              <a:path fill="none" w="4658" h="1483">
                <a:moveTo>
                  <a:pt x="0" y="1483"/>
                </a:moveTo>
                <a:lnTo>
                  <a:pt x="1482" y="1483"/>
                </a:lnTo>
                <a:lnTo>
                  <a:pt x="1482" y="0"/>
                </a:lnTo>
                <a:lnTo>
                  <a:pt x="4658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7960" y="4038480"/>
            <a:ext cx="1676880" cy="533880"/>
          </a:xfrm>
          <a:custGeom>
            <a:avLst/>
            <a:gdLst/>
            <a:ahLst/>
            <a:rect l="0" t="0" r="r" b="b"/>
            <a:pathLst>
              <a:path fill="none" w="4658" h="1483">
                <a:moveTo>
                  <a:pt x="4658" y="0"/>
                </a:moveTo>
                <a:lnTo>
                  <a:pt x="1906" y="0"/>
                </a:lnTo>
                <a:lnTo>
                  <a:pt x="1906" y="1483"/>
                </a:lnTo>
                <a:lnTo>
                  <a:pt x="0" y="1483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1998720"/>
            <a:ext cx="79246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registers IP address and NetBIOS name with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7960" y="5105520"/>
            <a:ext cx="1676880" cy="457560"/>
          </a:xfrm>
          <a:custGeom>
            <a:avLst/>
            <a:gdLst/>
            <a:ahLst/>
            <a:rect l="0" t="0" r="r" b="b"/>
            <a:pathLst>
              <a:path fill="none" w="4658" h="1271">
                <a:moveTo>
                  <a:pt x="0" y="0"/>
                </a:moveTo>
                <a:lnTo>
                  <a:pt x="2117" y="0"/>
                </a:lnTo>
                <a:lnTo>
                  <a:pt x="2117" y="1271"/>
                </a:lnTo>
                <a:lnTo>
                  <a:pt x="4658" y="1271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280" y="1427040"/>
            <a:ext cx="76201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queries WINS to resolve server NetBIOS name to IP add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838920" y="4191120"/>
            <a:ext cx="1468440" cy="1751040"/>
            <a:chOff x="6838920" y="4191120"/>
            <a:chExt cx="1468440" cy="175104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6859440" y="4753080"/>
              <a:ext cx="14479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 txBox="1"/>
            <p:nvPr/>
          </p:nvSpPr>
          <p:spPr>
            <a:xfrm>
              <a:off x="6838920" y="4191120"/>
              <a:ext cx="139068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 txBox="1"/>
          <p:nvPr/>
        </p:nvSpPr>
        <p:spPr>
          <a:xfrm>
            <a:off x="6021360" y="6010200"/>
            <a:ext cx="309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 use \\</a:t>
            </a: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srv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publ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3440" y="548640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4023" y="1906"/>
                </a:moveTo>
                <a:lnTo>
                  <a:pt x="3388" y="1906"/>
                </a:lnTo>
                <a:lnTo>
                  <a:pt x="3388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3440" y="56386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4023" y="1906"/>
                </a:moveTo>
                <a:lnTo>
                  <a:pt x="2893" y="1906"/>
                </a:lnTo>
                <a:lnTo>
                  <a:pt x="2893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0880" y="26676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indows DNS-WINS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4971960"/>
            <a:ext cx="5262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NS query:  “</a:t>
            </a:r>
            <a:r>
              <a:rPr b="1" lang="en-US" sz="2800" spc="-1" strike="noStrike">
                <a:solidFill>
                  <a:srgbClr val="ffc66d"/>
                </a:solidFill>
                <a:latin typeface="Arial"/>
                <a:ea typeface="Arial"/>
              </a:rPr>
              <a:t>srv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800" spc="-1" strike="noStrike">
                <a:solidFill>
                  <a:srgbClr val="ff90ff"/>
                </a:solidFill>
                <a:latin typeface="Arial"/>
                <a:ea typeface="Arial"/>
              </a:rPr>
              <a:t>myco.c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38320" y="5410080"/>
            <a:ext cx="1390680" cy="657360"/>
            <a:chOff x="2038320" y="5410080"/>
            <a:chExt cx="1390680" cy="657360"/>
          </a:xfrm>
        </p:grpSpPr>
        <p:sp>
          <p:nvSpPr>
            <p:cNvPr id="138" name=""/>
            <p:cNvSpPr txBox="1"/>
            <p:nvPr/>
          </p:nvSpPr>
          <p:spPr>
            <a:xfrm>
              <a:off x="2038320" y="5548320"/>
              <a:ext cx="139068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2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ho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62320" y="5410080"/>
              <a:ext cx="765360" cy="152640"/>
            </a:xfrm>
            <a:custGeom>
              <a:avLst/>
              <a:gdLst/>
              <a:ahLst/>
              <a:rect l="0" t="0" r="r" b="b"/>
              <a:pathLst>
                <a:path fill="none" w="2126" h="424">
                  <a:moveTo>
                    <a:pt x="0" y="0"/>
                  </a:moveTo>
                  <a:lnTo>
                    <a:pt x="236" y="211"/>
                  </a:lnTo>
                  <a:lnTo>
                    <a:pt x="708" y="211"/>
                  </a:lnTo>
                  <a:lnTo>
                    <a:pt x="944" y="424"/>
                  </a:lnTo>
                  <a:lnTo>
                    <a:pt x="1181" y="211"/>
                  </a:lnTo>
                  <a:lnTo>
                    <a:pt x="1890" y="211"/>
                  </a:lnTo>
                  <a:lnTo>
                    <a:pt x="2126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03640" y="5410080"/>
            <a:ext cx="1825920" cy="657360"/>
            <a:chOff x="3203640" y="5410080"/>
            <a:chExt cx="1825920" cy="657360"/>
          </a:xfrm>
        </p:grpSpPr>
        <p:sp>
          <p:nvSpPr>
            <p:cNvPr id="141" name=""/>
            <p:cNvSpPr txBox="1"/>
            <p:nvPr/>
          </p:nvSpPr>
          <p:spPr>
            <a:xfrm>
              <a:off x="3409920" y="5548320"/>
              <a:ext cx="139068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2800" spc="-1" strike="noStrike">
                  <a:solidFill>
                    <a:srgbClr val="ff90ff"/>
                  </a:solidFill>
                  <a:latin typeface="Times New Roman"/>
                  <a:ea typeface="Times New Roman"/>
                </a:rPr>
                <a:t>doma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03640" y="5410080"/>
              <a:ext cx="1825920" cy="152640"/>
            </a:xfrm>
            <a:custGeom>
              <a:avLst/>
              <a:gdLst/>
              <a:ahLst/>
              <a:rect l="0" t="0" r="r" b="b"/>
              <a:pathLst>
                <a:path fill="none" w="5072" h="424">
                  <a:moveTo>
                    <a:pt x="0" y="0"/>
                  </a:moveTo>
                  <a:lnTo>
                    <a:pt x="253" y="211"/>
                  </a:lnTo>
                  <a:lnTo>
                    <a:pt x="2282" y="211"/>
                  </a:lnTo>
                  <a:lnTo>
                    <a:pt x="2535" y="424"/>
                  </a:lnTo>
                  <a:lnTo>
                    <a:pt x="2790" y="211"/>
                  </a:lnTo>
                  <a:lnTo>
                    <a:pt x="4818" y="211"/>
                  </a:lnTo>
                  <a:lnTo>
                    <a:pt x="5072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 txBox="1"/>
          <p:nvPr/>
        </p:nvSpPr>
        <p:spPr>
          <a:xfrm>
            <a:off x="152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-571680">
              <a:lnSpc>
                <a:spcPct val="90000"/>
              </a:lnSpc>
              <a:spcBef>
                <a:spcPts val="961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 </a:t>
            </a:r>
            <a:r>
              <a:rPr b="1" i="1" lang="en-US" sz="2800" spc="-1" strike="noStrike">
                <a:solidFill>
                  <a:srgbClr val="ff90ff"/>
                </a:solidFill>
                <a:latin typeface="Times New Roman"/>
                <a:ea typeface="Times New Roman"/>
              </a:rPr>
              <a:t>doma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used to locate authoritat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8400" y="2819520"/>
            <a:ext cx="911520" cy="2438640"/>
          </a:xfrm>
          <a:custGeom>
            <a:avLst/>
            <a:gdLst/>
            <a:ahLst/>
            <a:rect l="0" t="0" r="r" b="b"/>
            <a:pathLst>
              <a:path fill="none" w="2532" h="6774">
                <a:moveTo>
                  <a:pt x="0" y="6774"/>
                </a:moveTo>
                <a:lnTo>
                  <a:pt x="626" y="6774"/>
                </a:lnTo>
                <a:lnTo>
                  <a:pt x="626" y="0"/>
                </a:lnTo>
                <a:lnTo>
                  <a:pt x="2532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280" y="2590920"/>
            <a:ext cx="4952880" cy="16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 static zone file entry for DNS </a:t>
            </a:r>
            <a:r>
              <a:rPr b="1" i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me, DNS Server queries WINS to resolve DNS </a:t>
            </a:r>
            <a:r>
              <a:rPr b="1" i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os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to I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89640" y="3124080"/>
            <a:ext cx="2282760" cy="1523880"/>
          </a:xfrm>
          <a:prstGeom prst="rect">
            <a:avLst/>
          </a:prstGeom>
          <a:solidFill>
            <a:srgbClr val="5a079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90ff"/>
                </a:solidFill>
                <a:latin typeface="Arial"/>
                <a:ea typeface="Arial"/>
              </a:rPr>
              <a:t>myco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90ff"/>
                </a:solidFill>
                <a:latin typeface="Arial"/>
                <a:ea typeface="Arial"/>
              </a:rPr>
              <a:t>WINS Ad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8440" y="5823000"/>
            <a:ext cx="1676520" cy="654120"/>
          </a:xfrm>
          <a:prstGeom prst="rect">
            <a:avLst/>
          </a:prstGeom>
          <a:solidFill>
            <a:srgbClr val="8652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8440" y="5638680"/>
            <a:ext cx="1676520" cy="279360"/>
          </a:xfrm>
          <a:prstGeom prst="ellipse">
            <a:avLst/>
          </a:prstGeom>
          <a:solidFill>
            <a:srgbClr val="8652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850000" y="2576520"/>
            <a:ext cx="1390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90ff"/>
                </a:solidFill>
                <a:latin typeface="Arial"/>
                <a:ea typeface="Arial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373880" y="6110280"/>
            <a:ext cx="1623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2000" spc="-1" strike="noStrike">
                <a:solidFill>
                  <a:srgbClr val="ffdfab"/>
                </a:solidFill>
                <a:latin typeface="Arial"/>
                <a:ea typeface="Arial"/>
              </a:rPr>
              <a:t>srv1  1.2.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450200" y="5091120"/>
            <a:ext cx="1390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66d"/>
                </a:solidFill>
                <a:latin typeface="Arial"/>
                <a:ea typeface="Arial"/>
              </a:rPr>
              <a:t>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8440" y="4495680"/>
            <a:ext cx="762480" cy="609840"/>
          </a:xfrm>
          <a:custGeom>
            <a:avLst/>
            <a:gdLst/>
            <a:ahLst/>
            <a:rect l="0" t="0" r="r" b="b"/>
            <a:pathLst>
              <a:path fill="none" w="2118" h="1694">
                <a:moveTo>
                  <a:pt x="0" y="0"/>
                </a:moveTo>
                <a:lnTo>
                  <a:pt x="2118" y="0"/>
                </a:lnTo>
                <a:lnTo>
                  <a:pt x="2109" y="1694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s Group</dc:creator>
  <dc:description/>
  <dc:language>en-US</dc:language>
  <cp:lastModifiedBy>Presentations Group</cp:lastModifiedBy>
  <cp:revision>0</cp:revision>
  <dc:subject>Template</dc:subject>
  <dc:title>Royal Blue PowerPoint Template</dc:title>
</cp:coreProperties>
</file>