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ersistent 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client cache to survive reb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clients and gateways to coordinate c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network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is transparent to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row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browsing scheme does not scale to Internet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direction is to use LDAP and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DAP: RFC 1777, 1798, 1960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registers with LDAP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queries for servers using L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hierarchical structure for browse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77760" y="1676520"/>
            <a:ext cx="7728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able port assignments for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Firewal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class library for CIFS fil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Easy platform independent access to CIFS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70080" y="4848120"/>
            <a:ext cx="6959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CIFS clients and servers will continue to interop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86040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uture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aac Heizer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velopment Lead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indows Networking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64560" y="6153120"/>
            <a:ext cx="1206720" cy="376560"/>
            <a:chOff x="7864560" y="6153120"/>
            <a:chExt cx="1206720" cy="37656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864560" y="618660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8836200" y="6153120"/>
              <a:ext cx="2350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ulk Read S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need to have “quiet” VC as in RAW S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send partial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 bit transfer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 bit file off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ulk Read Message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5920" y="1584360"/>
            <a:ext cx="5294160" cy="1187280"/>
            <a:chOff x="115920" y="1584360"/>
            <a:chExt cx="5294160" cy="1187280"/>
          </a:xfrm>
        </p:grpSpPr>
        <p:sp>
          <p:nvSpPr>
            <p:cNvPr id="91" name=""/>
            <p:cNvSpPr/>
            <p:nvPr/>
          </p:nvSpPr>
          <p:spPr>
            <a:xfrm>
              <a:off x="2743200" y="2178000"/>
              <a:ext cx="26668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5920" y="1606680"/>
              <a:ext cx="2508120" cy="114300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82640" y="1584360"/>
              <a:ext cx="117468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ul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 by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3200" y="2538360"/>
            <a:ext cx="6205320" cy="1143000"/>
            <a:chOff x="2743200" y="2538360"/>
            <a:chExt cx="6205320" cy="1143000"/>
          </a:xfrm>
        </p:grpSpPr>
        <p:sp>
          <p:nvSpPr>
            <p:cNvPr id="95" name=""/>
            <p:cNvSpPr/>
            <p:nvPr/>
          </p:nvSpPr>
          <p:spPr>
            <a:xfrm>
              <a:off x="6440400" y="2538360"/>
              <a:ext cx="2508120" cy="114300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904080" y="2881440"/>
              <a:ext cx="1581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spons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3200" y="3110040"/>
              <a:ext cx="26668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743200" y="4062240"/>
            <a:ext cx="6205320" cy="1143000"/>
            <a:chOff x="2743200" y="4062240"/>
            <a:chExt cx="6205320" cy="1143000"/>
          </a:xfrm>
        </p:grpSpPr>
        <p:sp>
          <p:nvSpPr>
            <p:cNvPr id="99" name=""/>
            <p:cNvSpPr/>
            <p:nvPr/>
          </p:nvSpPr>
          <p:spPr>
            <a:xfrm>
              <a:off x="6440400" y="4062240"/>
              <a:ext cx="2508120" cy="114300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6904080" y="4405320"/>
              <a:ext cx="1581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spons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4633920"/>
              <a:ext cx="26668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743200" y="5584680"/>
            <a:ext cx="6210360" cy="1143000"/>
            <a:chOff x="2743200" y="5584680"/>
            <a:chExt cx="6210360" cy="1143000"/>
          </a:xfrm>
        </p:grpSpPr>
        <p:sp>
          <p:nvSpPr>
            <p:cNvPr id="103" name=""/>
            <p:cNvSpPr/>
            <p:nvPr/>
          </p:nvSpPr>
          <p:spPr>
            <a:xfrm>
              <a:off x="6440400" y="5584680"/>
              <a:ext cx="2508120" cy="114300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6435720" y="5745240"/>
              <a:ext cx="2517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sponse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Total &lt;= M byte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6156360"/>
              <a:ext cx="26668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nhanced CIFS 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GSS-API  (RFC 1508/15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arbitrary authentication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clients can use different authentica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tra messages if client using today’s authentica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y RFC 1508/1509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s protocol from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ecret key (e.g. Kerbe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private key (e.g. X.5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D multiplexing w/o extra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dditional messages once session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dditional per-message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uthentication: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35000" y="1676520"/>
            <a:ext cx="7728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otiate Request has new flag in Flag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_EXTENDED_SECURITY   0x8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Negotiat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list of security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SessionSetup&amp;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have multiple round 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s security blobs between client an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to “refresh” an “expired”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does not interpret the bl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uthentication: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16080" y="1668600"/>
            <a:ext cx="4484520" cy="1066680"/>
            <a:chOff x="316080" y="1668600"/>
            <a:chExt cx="4484520" cy="1066680"/>
          </a:xfrm>
        </p:grpSpPr>
        <p:grpSp>
          <p:nvGrpSpPr>
            <p:cNvPr id="114" name=""/>
            <p:cNvGrpSpPr/>
            <p:nvPr/>
          </p:nvGrpSpPr>
          <p:grpSpPr>
            <a:xfrm>
              <a:off x="316080" y="1668600"/>
              <a:ext cx="2859120" cy="1066680"/>
              <a:chOff x="316080" y="1668600"/>
              <a:chExt cx="2859120" cy="1066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60360" y="1668600"/>
                <a:ext cx="2770200" cy="1066680"/>
              </a:xfrm>
              <a:prstGeom prst="rect">
                <a:avLst/>
              </a:prstGeom>
              <a:solidFill>
                <a:srgbClr val="ff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316080" y="1798560"/>
                <a:ext cx="2859120" cy="808200"/>
                <a:chOff x="316080" y="1798560"/>
                <a:chExt cx="2859120" cy="808200"/>
              </a:xfrm>
            </p:grpSpPr>
            <p:sp>
              <p:nvSpPr>
                <p:cNvPr id="117" name=""/>
                <p:cNvSpPr txBox="1"/>
                <p:nvPr/>
              </p:nvSpPr>
              <p:spPr>
                <a:xfrm>
                  <a:off x="1060560" y="1798560"/>
                  <a:ext cx="1368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Negotiat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 txBox="1"/>
                <p:nvPr/>
              </p:nvSpPr>
              <p:spPr>
                <a:xfrm>
                  <a:off x="316080" y="2270160"/>
                  <a:ext cx="285912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P_EXTENDED_SECUR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200400" y="213372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267080" y="2193840"/>
            <a:ext cx="4467240" cy="1144800"/>
            <a:chOff x="4267080" y="2193840"/>
            <a:chExt cx="4467240" cy="1144800"/>
          </a:xfrm>
        </p:grpSpPr>
        <p:grpSp>
          <p:nvGrpSpPr>
            <p:cNvPr id="121" name=""/>
            <p:cNvGrpSpPr/>
            <p:nvPr/>
          </p:nvGrpSpPr>
          <p:grpSpPr>
            <a:xfrm>
              <a:off x="5964120" y="2193840"/>
              <a:ext cx="2770200" cy="1144800"/>
              <a:chOff x="5964120" y="2193840"/>
              <a:chExt cx="2770200" cy="1144800"/>
            </a:xfrm>
          </p:grpSpPr>
          <p:sp>
            <p:nvSpPr>
              <p:cNvPr id="122" name=""/>
              <p:cNvSpPr/>
              <p:nvPr/>
            </p:nvSpPr>
            <p:spPr>
              <a:xfrm>
                <a:off x="5964120" y="2201760"/>
                <a:ext cx="2770200" cy="1066680"/>
              </a:xfrm>
              <a:prstGeom prst="rect">
                <a:avLst/>
              </a:prstGeom>
              <a:solidFill>
                <a:srgbClr val="ff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6664320" y="2193840"/>
                <a:ext cx="1368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egoti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6486480" y="2881440"/>
                <a:ext cx="17254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ec Pkg Li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267080" y="274320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0360" y="3108240"/>
            <a:ext cx="4440240" cy="1074600"/>
            <a:chOff x="360360" y="3108240"/>
            <a:chExt cx="4440240" cy="1074600"/>
          </a:xfrm>
        </p:grpSpPr>
        <p:grpSp>
          <p:nvGrpSpPr>
            <p:cNvPr id="127" name=""/>
            <p:cNvGrpSpPr/>
            <p:nvPr/>
          </p:nvGrpSpPr>
          <p:grpSpPr>
            <a:xfrm>
              <a:off x="360360" y="3108240"/>
              <a:ext cx="2770200" cy="1074600"/>
              <a:chOff x="360360" y="3108240"/>
              <a:chExt cx="2770200" cy="1074600"/>
            </a:xfrm>
          </p:grpSpPr>
          <p:sp>
            <p:nvSpPr>
              <p:cNvPr id="128" name=""/>
              <p:cNvSpPr/>
              <p:nvPr/>
            </p:nvSpPr>
            <p:spPr>
              <a:xfrm>
                <a:off x="360360" y="3116160"/>
                <a:ext cx="2770200" cy="1066680"/>
              </a:xfrm>
              <a:prstGeom prst="rect">
                <a:avLst/>
              </a:prstGeom>
              <a:solidFill>
                <a:srgbClr val="ff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20840" y="3108240"/>
                <a:ext cx="24955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ession Setup &amp; 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407880" y="3641760"/>
                <a:ext cx="2673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itial Security Blo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200400" y="358128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67080" y="3719520"/>
            <a:ext cx="4467240" cy="1074600"/>
            <a:chOff x="4267080" y="3719520"/>
            <a:chExt cx="4467240" cy="1074600"/>
          </a:xfrm>
        </p:grpSpPr>
        <p:grpSp>
          <p:nvGrpSpPr>
            <p:cNvPr id="133" name=""/>
            <p:cNvGrpSpPr/>
            <p:nvPr/>
          </p:nvGrpSpPr>
          <p:grpSpPr>
            <a:xfrm>
              <a:off x="5964120" y="3719520"/>
              <a:ext cx="2770200" cy="1074600"/>
              <a:chOff x="5964120" y="3719520"/>
              <a:chExt cx="2770200" cy="1074600"/>
            </a:xfrm>
          </p:grpSpPr>
          <p:sp>
            <p:nvSpPr>
              <p:cNvPr id="134" name=""/>
              <p:cNvSpPr txBox="1"/>
              <p:nvPr/>
            </p:nvSpPr>
            <p:spPr>
              <a:xfrm>
                <a:off x="6151680" y="3871800"/>
                <a:ext cx="23940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mediate Blo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6064200" y="4224240"/>
                <a:ext cx="25686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TATUS_CONTINU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64120" y="3727440"/>
                <a:ext cx="2770200" cy="1066680"/>
              </a:xfrm>
              <a:prstGeom prst="rect">
                <a:avLst/>
              </a:prstGeom>
              <a:solidFill>
                <a:srgbClr val="ff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6100920" y="3719520"/>
                <a:ext cx="24955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ession Setup &amp; 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6151680" y="4024440"/>
                <a:ext cx="23940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mediate Blo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6064200" y="4378320"/>
                <a:ext cx="262584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INUE_NEED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267080" y="426708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36680" y="4556160"/>
            <a:ext cx="4440240" cy="1074600"/>
            <a:chOff x="436680" y="4556160"/>
            <a:chExt cx="4440240" cy="1074600"/>
          </a:xfrm>
        </p:grpSpPr>
        <p:grpSp>
          <p:nvGrpSpPr>
            <p:cNvPr id="142" name=""/>
            <p:cNvGrpSpPr/>
            <p:nvPr/>
          </p:nvGrpSpPr>
          <p:grpSpPr>
            <a:xfrm>
              <a:off x="436680" y="4556160"/>
              <a:ext cx="2770200" cy="1074600"/>
              <a:chOff x="436680" y="4556160"/>
              <a:chExt cx="2770200" cy="1074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36680" y="4564080"/>
                <a:ext cx="2770200" cy="1066680"/>
              </a:xfrm>
              <a:prstGeom prst="rect">
                <a:avLst/>
              </a:prstGeom>
              <a:solidFill>
                <a:srgbClr val="ff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573120" y="4556160"/>
                <a:ext cx="24955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ession Setup &amp; 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1098720" y="5165640"/>
                <a:ext cx="1446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ext Blo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276720" y="510552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267080" y="5165640"/>
            <a:ext cx="4467240" cy="1074600"/>
            <a:chOff x="4267080" y="5165640"/>
            <a:chExt cx="4467240" cy="1074600"/>
          </a:xfrm>
        </p:grpSpPr>
        <p:grpSp>
          <p:nvGrpSpPr>
            <p:cNvPr id="148" name=""/>
            <p:cNvGrpSpPr/>
            <p:nvPr/>
          </p:nvGrpSpPr>
          <p:grpSpPr>
            <a:xfrm>
              <a:off x="5964120" y="5165640"/>
              <a:ext cx="2770200" cy="1074600"/>
              <a:chOff x="5964120" y="5165640"/>
              <a:chExt cx="2770200" cy="1074600"/>
            </a:xfrm>
          </p:grpSpPr>
          <p:sp>
            <p:nvSpPr>
              <p:cNvPr id="149" name=""/>
              <p:cNvSpPr txBox="1"/>
              <p:nvPr/>
            </p:nvSpPr>
            <p:spPr>
              <a:xfrm>
                <a:off x="6151680" y="5318280"/>
                <a:ext cx="23940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mediate Blo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6064200" y="5670720"/>
                <a:ext cx="25686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TATUS_CONTINU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64120" y="5173560"/>
                <a:ext cx="2770200" cy="1066680"/>
              </a:xfrm>
              <a:prstGeom prst="rect">
                <a:avLst/>
              </a:prstGeom>
              <a:solidFill>
                <a:srgbClr val="ff6633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>
                <a:off x="6100920" y="5165640"/>
                <a:ext cx="24955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ession Setup &amp; 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6151680" y="5470560"/>
                <a:ext cx="23940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mediate Blo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6162840" y="5824440"/>
                <a:ext cx="12859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SUCCE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267080" y="563868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ncry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users over same file connection have independent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GSS_Seal and GSS_Uns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UID to beginning of SMB and encrypt the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rypt all SMBs except Negotiate and Session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s Group</dc:creator>
  <dc:description/>
  <dc:language>en-US</dc:language>
  <cp:lastModifiedBy>Presentations Group</cp:lastModifiedBy>
  <cp:revision>0</cp:revision>
  <dc:subject>Template</dc:subject>
  <dc:title>Royal Blue PowerPoint Template</dc:title>
</cp:coreProperties>
</file>