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C93A1-1209-4AE2-91EF-D08974C91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ccess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folder, not 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wner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s: read, write an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CIFS on Ma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experience with C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the end result looks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838188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Our Experience with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cal Information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/Open and Old Lan Manager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nalyzer and revers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NFS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tocol stac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85345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- Our Experience with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Implement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R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Information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nly implements a sub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nt to avoid what's old or NT 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 to tell this from the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 D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 1001/1002 and WINS compa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pple File System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led via Cho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s SMB protocol from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 backgroun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486080" y="5086440"/>
            <a:ext cx="3790800" cy="74304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BIOS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486080" y="4400640"/>
            <a:ext cx="2647800" cy="7621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lient SMB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86080" y="3771720"/>
            <a:ext cx="2647800" cy="7621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09680" y="3162240"/>
            <a:ext cx="19242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95760" y="205740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7840" y="421020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62080" y="207648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hoo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62000" y="2781360"/>
            <a:ext cx="0" cy="1123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05240" y="2762280"/>
            <a:ext cx="0" cy="241920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38800" y="3067200"/>
            <a:ext cx="3429000" cy="11239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V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162400" y="5067360"/>
            <a:ext cx="13716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19880" y="5067360"/>
            <a:ext cx="1371600" cy="76212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e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48200" y="419112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05680" y="4191120"/>
            <a:ext cx="0" cy="1009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153120" y="2076480"/>
            <a:ext cx="1714680" cy="704880"/>
          </a:xfrm>
          <a:prstGeom prst="rect">
            <a:avLst/>
          </a:prstGeom>
          <a:solidFill>
            <a:srgbClr val="ff6633"/>
          </a:solidFill>
          <a:ln w="381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48440" y="2781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ile Client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600200" y="4503600"/>
            <a:ext cx="6019920" cy="1233720"/>
            <a:chOff x="1600200" y="4503600"/>
            <a:chExt cx="6019920" cy="1233720"/>
          </a:xfrm>
        </p:grpSpPr>
        <p:sp>
          <p:nvSpPr>
            <p:cNvPr id="143" name=""/>
            <p:cNvSpPr txBox="1"/>
            <p:nvPr/>
          </p:nvSpPr>
          <p:spPr>
            <a:xfrm>
              <a:off x="1600200" y="4503600"/>
              <a:ext cx="6019920" cy="579600"/>
            </a:xfrm>
            <a:prstGeom prst="rect">
              <a:avLst/>
            </a:prstGeom>
            <a:solidFill>
              <a:srgbClr val="ff6633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NetBI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1600200" y="5156280"/>
              <a:ext cx="2909880" cy="58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MacTC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4710240" y="5156280"/>
              <a:ext cx="2909880" cy="58104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Arial Narrow"/>
                </a:rPr>
                <a:t>Open Tran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"/>
          <p:cNvSpPr txBox="1"/>
          <p:nvPr/>
        </p:nvSpPr>
        <p:spPr>
          <a:xfrm>
            <a:off x="1600200" y="2906640"/>
            <a:ext cx="3505320" cy="137808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Client SMB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Handles File Prim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to SMB Protocol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00200" y="2181240"/>
            <a:ext cx="3505320" cy="50796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FSM “Glu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600200"/>
            <a:ext cx="6706080" cy="4572360"/>
          </a:xfrm>
          <a:custGeom>
            <a:avLst/>
            <a:gdLst/>
            <a:ahLst/>
            <a:rect l="0" t="0" r="r" b="b"/>
            <a:pathLst>
              <a:path w="18628" h="12701">
                <a:moveTo>
                  <a:pt x="11585" y="1208"/>
                </a:moveTo>
                <a:lnTo>
                  <a:pt x="11585" y="0"/>
                </a:lnTo>
                <a:lnTo>
                  <a:pt x="0" y="0"/>
                </a:lnTo>
                <a:lnTo>
                  <a:pt x="0" y="12701"/>
                </a:lnTo>
                <a:lnTo>
                  <a:pt x="18628" y="12701"/>
                </a:lnTo>
                <a:lnTo>
                  <a:pt x="18628" y="11894"/>
                </a:lnTo>
                <a:lnTo>
                  <a:pt x="1265" y="11894"/>
                </a:lnTo>
                <a:lnTo>
                  <a:pt x="1265" y="1208"/>
                </a:lnTo>
                <a:lnTo>
                  <a:pt x="11585" y="1208"/>
                </a:lnTo>
                <a:close/>
              </a:path>
            </a:pathLst>
          </a:custGeom>
          <a:solidFill>
            <a:srgbClr val="00009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01880" y="1657440"/>
            <a:ext cx="1200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Ma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1600200"/>
            <a:ext cx="2209680" cy="144792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Arial Narrow"/>
              </a:rPr>
              <a:t>DAVE Choo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Us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Brow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 Narrow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048120"/>
            <a:ext cx="0" cy="145548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105520" y="3048120"/>
            <a:ext cx="609480" cy="1044360"/>
            <a:chOff x="5105520" y="3048120"/>
            <a:chExt cx="609480" cy="1044360"/>
          </a:xfrm>
        </p:grpSpPr>
        <p:sp>
          <p:nvSpPr>
            <p:cNvPr id="153" name=""/>
            <p:cNvSpPr/>
            <p:nvPr/>
          </p:nvSpPr>
          <p:spPr>
            <a:xfrm>
              <a:off x="5715000" y="3048120"/>
              <a:ext cx="0" cy="1044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105520" y="4092480"/>
              <a:ext cx="6094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276720" y="2689200"/>
            <a:ext cx="0" cy="21744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284720"/>
            <a:ext cx="0" cy="2188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083200"/>
            <a:ext cx="0" cy="73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5083200"/>
            <a:ext cx="0" cy="73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2035080"/>
            <a:ext cx="0" cy="1461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hoo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44520" y="1479600"/>
            <a:ext cx="66168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lien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f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lo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window “Refre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AVE Client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LM 0.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NTFS streams for f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Apple Double for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le with Services for Macinto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Macintosh Dia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 performance between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ld be added to cross-platform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60400" y="1066680"/>
            <a:ext cx="683568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MacOS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aul Nelson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V.P. Engineering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ursby Software Systems, Inc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864560" y="6153120"/>
            <a:ext cx="1206720" cy="376560"/>
            <a:chOff x="7864560" y="6153120"/>
            <a:chExt cx="1206720" cy="3765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864560" y="6186600"/>
              <a:ext cx="1039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8836200" y="6153120"/>
              <a:ext cx="23508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99"/>
                  </a:solidFill>
                  <a:latin typeface="Arial Narrow"/>
                  <a:ea typeface="Arial Narrow"/>
                </a:rPr>
                <a:t>™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OS File Crea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OS FSpCreate Call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pecification, includes name, directory and volume referenc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 - two 4 byt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checks to see if fi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_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“creates” fork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data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OS File Crea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35000" y="1676520"/>
            <a:ext cx="772812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flow continu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gets “catalog”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FIND_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/ CLOSE on (empty)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FIND_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sets “catalog”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_INFORMATION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_AND_CLOSE on resource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SM sets d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, SET_INFORMATION, CLOSE on data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provides Macintosh users with best path to standards based file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acOS ver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hensive cross-platfor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on Ma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and MacO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“Hard” is it to put on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ut the Macintosh Fil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's so different about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experiences with CIFS on the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- DOS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directory information an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OS - AppleShare Leg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 siz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ny character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mplex direc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ration seman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, close, read, write, 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volum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names, dates and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e Finder and directory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MacO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oriented fil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herent, cross-platform directo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bout the Macintosh Fil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s and directories or f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 - have uniqu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 database and t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et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 35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100 unique service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intosh Directory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 Character Case-Insensitive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 number used to select language en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or and type, window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St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, modify and backup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, directory and file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acintosh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“Fork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 data fork,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Gb size limit per f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and lock semantics same as 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731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Nelson</dc:creator>
  <dc:description/>
  <dc:language>en-US</dc:language>
  <cp:lastModifiedBy>Paul Nelson</cp:lastModifiedBy>
  <cp:revision>0</cp:revision>
  <dc:subject>DAVE</dc:subject>
  <dc:title>CIFS for Macintosh</dc:title>
</cp:coreProperties>
</file>