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ilslot Name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browser messages directed at &lt;Computer Name&gt; [0]  are sent to \mailslot\lan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browser messages directed at other NetBIOS names are sent to \mailslot\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on Browser Ser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riodically announces itself with a directed mailslot message to a well know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ouncement frequency decreases as the server stays up for longer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es from one per minute to once every twelve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ds to requests for information from the master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er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ouncement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nouncement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BROWSE_ANNOUNCE_PACKE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BrowseType;    // =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ROWSE_ANNOUNCE_PACKET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rowseAnnounc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nouncement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BROWSE_ANNOUNCE_PACKET_1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UpdateCount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LONG     Periodicity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ServerName[1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VersionMaj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VersionMinor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LONG     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SHORT    BrowserConstants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     Comment[49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nouncement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Cou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 every time host data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ouncment time interval in milli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vector signifying the srvice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Cons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0x415,0xaa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quest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REQUEST_ANNOUNCE_PACKET {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Type; // always set t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QUEST_ANNOUNCE_PACKET_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questAnnounce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quest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REQUEST_ANNOUNCE_PACKET_1 {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P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// Host to rep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   Send[1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ient 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lient obtains the list of server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 a GetBackupList mailslot message to the &lt;DomainName &gt; [1d] and &lt;Domain Name&gt; [1b]  and receiving a list of BackupBrowsers for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ing an SMB session and tree connecting to IPC$ with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ng the NetServerEnum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ackupList Request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BACKUP_LIST_REQUEST_1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  RequestedC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LONG       To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BACKUP_LIST_REQUES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ACKUP_LIST_REQUEST_1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BackupListReque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alan Sethu Raman</a:t>
            </a:r>
            <a:br>
              <a:rPr sz="18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oftware Design Enginee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NT Development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ackupList Response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BACKUP_LIST_RESPONSE_1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  BackupServerC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LONG       To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      BackupServerList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uct BACKUP_LIST_RESPON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CHAR 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ACKUP_LIST_RESPONSE_1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BackupListRespon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te Admin Protocol 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ram portion of the Transact request SMB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or of the pa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or of the response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led pa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a and param portions of the Transact response contains the API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etServerEnum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 Protoco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marshalling and unmarsh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cessor to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lav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erverEnum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k buffer size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erverEnu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k buffer size but continuable, not supported by all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ING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echanism for discovering CIF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ood browsing mechan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mmune to machin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server disco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change discovery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e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use mailslot messages to announce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ubnet has an independent browsing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mailslot messages used for browsing are not propagated across subnet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-subnet browsing uses Domain Master Browser Server (PD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er Architecture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ter Browser Server coordinates brows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ter Browser Server is dynamically elected rather than statically config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ions are conducted using mailslo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local subnet has its own Master Browser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ing Infrastructure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 reasons the browsing architecture relies on NetBIOS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browser messages are mailslot wr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lslot writes are shipped on the wire as Transact S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browser data structures are shipped in the data portion of the Transact S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etBIOS names for browsing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Name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characters long, last character has special signific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NameSt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[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astCh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represents a NetBIOS name obtained by taking the </a:t>
            </a:r>
            <a:r>
              <a:rPr b="0" lang="en-US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NameSt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adding it with blanks upto 15 characters and inserting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astCh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 16 th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NetBIOS names .. cont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omputer Name&gt; [0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name used for processing browing related requests , e.g., Get Backup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omain Name&gt; [1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name added by the PDC  and defended on the 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omain Name&gt; [1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unique name added by a Master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s Group</dc:creator>
  <dc:description/>
  <dc:language>en-US</dc:language>
  <cp:lastModifiedBy>Presentations Group</cp:lastModifiedBy>
  <cp:revision>0</cp:revision>
  <dc:subject>Template</dc:subject>
  <dc:title>Royal Blue PowerPoint Template</dc:title>
</cp:coreProperties>
</file>