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E095EC-EC3D-4875-AF72-C0BDB4D36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: support PC productivity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, batching, file change notification: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negotiation: evolv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: scalability, fault tolerance, adminsterability (relocate resources transpa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: internationalizab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: administrability, eas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priority order for getting specifications published that would enable third parties to implement each capability. The priorities are based on complexity and utility: More complex things takes longer to document. The more generally useful a capability is, the earlier it should be documented. Some protocols may be obsolete before they could be fully documented -- such as the WINS server-to-server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lide tells where to get the latest information on CI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FS motto is “share and share alike” -- the vision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s on the Internet will share a rich, pervasive, ubiquitous file system. I hope that by the time this workshop is finished, you’ll agree that this is more than just a sl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believe that a rich file sharing protocol for use on the Internet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it look like? It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n &amp; leverage installed base (to speed deplo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run existing apps (PC, MAC, and Un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(especially over slow l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able and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prin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aching, read-ahead, and write-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han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name resolution using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version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did we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public specification up to date with lates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improving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other implementati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teroperability, at latest r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eedback on Internet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do we want to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edundancy, trim cru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vestiges of 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needed info, better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ter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Intern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file system, the CIFS spec is nearly functionally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work to clarify, fill i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 few missing pieces (we th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for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,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clients and servers will also want to be LAN clients an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want LAN environment spec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oday we will discuss many aspects of the LAN environ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will be kept separate from CIFS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and conquer the complex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and choose; low cost of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e going to be supers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., some replaced by Intern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clients accessing M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, WINS, NetShareEnum client-serv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server that supports MS cl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iority: WFW, Win95,  Win NT Workstation, other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plus 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draft today, final by Q4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/WINS server-to-server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/server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station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ll be superseded by standar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is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35000" y="1676520"/>
            <a:ext cx="803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for the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ds.internic.net/internet-drafts/draft-heizer-cifs-v1-spec-00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/cifs.zip (Word .doc, zip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@listserv.ms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 CIFS your@email.addr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serv@listserv.msn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28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990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: Welcome &amp;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289548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 J. 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, Distribu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le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236232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e and share ali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 progra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mes for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&amp;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lose, Discuss,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 &amp;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is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shar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for many plat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, Windows, OS/2, VMS,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OS Linux SOLARIS SVR4 ULTRIX OSF1 AIX BSDI NetBSD SEQUENT HP-UX IRIX FreeBSD NeXT A/UX SCO DGUX 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X/Open standard “SMB”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ed on a few machines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tensions for Internet; need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J. Leach</dc:creator>
  <dc:description/>
  <dc:language>en-US</dc:language>
  <cp:lastModifiedBy>Paul J. Leach</cp:lastModifiedBy>
  <cp:revision>0</cp:revision>
  <dc:subject/>
  <dc:title>CIFS</dc:title>
</cp:coreProperties>
</file>