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342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336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30480" y="0"/>
            <a:ext cx="30038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26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378000" y="4343040"/>
            <a:ext cx="6207120" cy="448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26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78000" y="4343040"/>
            <a:ext cx="6207120" cy="448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“User” “Add” and giving individual users per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72924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2336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376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2908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376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2908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725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804888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725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2336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372924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2336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376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29080" y="160020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376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29080" y="3729240"/>
            <a:ext cx="256680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804888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3360" y="372924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3360" y="1600200"/>
            <a:ext cx="3890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729240"/>
            <a:ext cx="797256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97256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3942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3942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41292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412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412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73152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58680" algn="ctr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440" algn="ctr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3360" algn="ctr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3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3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mcnet.com/comsolexpo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tp://ftp.microsoft.com/developr/tapi/tapi2195.zip" TargetMode="External"/><Relationship Id="rId3" Type="http://schemas.openxmlformats.org/officeDocument/2006/relationships/hyperlink" Target="ftp://ftp.microsoft.com/developr/tapi/tapi2195.zip" TargetMode="External"/><Relationship Id="rId4" Type="http://schemas.openxmlformats.org/officeDocument/2006/relationships/hyperlink" Target="ftp://ftp.microsoft.com/developr/tapi/tapi2195.zip" TargetMode="External"/><Relationship Id="rId5" Type="http://schemas.openxmlformats.org/officeDocument/2006/relationships/hyperlink" Target="ftp://ftp.microsoft.com/developr/tapi/tapi2195.zip" TargetMode="External"/><Relationship Id="rId6" Type="http://schemas.openxmlformats.org/officeDocument/2006/relationships/hyperlink" Target="ftp://ftp.microsoft.com/developr/tapi/tapi2195.zip" TargetMode="External"/><Relationship Id="rId7" Type="http://schemas.openxmlformats.org/officeDocument/2006/relationships/hyperlink" Target="ftp://ftp.microsoft.com/developr/tapi/tapi2195.zip" TargetMode="External"/><Relationship Id="rId8" Type="http://schemas.openxmlformats.org/officeDocument/2006/relationships/hyperlink" Target="ftp://ftp.microsoft.com/developr/tapi/tapi2195.zip" TargetMode="Externa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%5Cwindows2000/library/planning/communications/multicaststeps.asp" TargetMode="External"/><Relationship Id="rId3" Type="http://schemas.openxmlformats.org/officeDocument/2006/relationships/hyperlink" Target="file:///..%5Cwindows2000/library/planning/communications/multicaststeps.asp" TargetMode="External"/><Relationship Id="rId4" Type="http://schemas.openxmlformats.org/officeDocument/2006/relationships/hyperlink" Target="file:///..%5Cwindows2000/library/planning/communications/multicaststeps.asp" TargetMode="External"/><Relationship Id="rId5" Type="http://schemas.openxmlformats.org/officeDocument/2006/relationships/hyperlink" Target="file:///..%5Cwindows2000/library/planning/communications/multicaststeps.asp" TargetMode="External"/><Relationship Id="rId6" Type="http://schemas.openxmlformats.org/officeDocument/2006/relationships/hyperlink" Target="file:///..%5Cwindows2000/library/planning/communications/multicaststeps.asp" TargetMode="External"/><Relationship Id="rId7" Type="http://schemas.openxmlformats.org/officeDocument/2006/relationships/hyperlink" Target="file:///..%5Cwindows2000/library/howitworks/communications/telephony" TargetMode="External"/><Relationship Id="rId8" Type="http://schemas.openxmlformats.org/officeDocument/2006/relationships/hyperlink" Target="file:///..%5Cwindows2000/library/howitworks/communications/telephony" TargetMode="External"/><Relationship Id="rId9" Type="http://schemas.openxmlformats.org/officeDocument/2006/relationships/hyperlink" Target="file:///..%5Cwindows2000/library/howitworks/communications/telephony" TargetMode="External"/><Relationship Id="rId10" Type="http://schemas.openxmlformats.org/officeDocument/2006/relationships/hyperlink" Target="file:///..%5Cwindows2000/library/howitworks/communications/telephony" TargetMode="External"/><Relationship Id="rId11" Type="http://schemas.openxmlformats.org/officeDocument/2006/relationships/hyperlink" Target="file:///..%5Cwindows2000/library/howitworks/communications/telephony" TargetMode="External"/><Relationship Id="rId12" Type="http://schemas.openxmlformats.org/officeDocument/2006/relationships/hyperlink" Target="http://msdn.microsoft.com/isapi/msdnlib.idc?theURL=/library/psdk/webte/wteadmin_20md.htm" TargetMode="External"/><Relationship Id="rId13" Type="http://schemas.openxmlformats.org/officeDocument/2006/relationships/hyperlink" Target="http://msdn.microsoft.com/isapi/msdnlib.idc?theURL=/library/psdk/webte/wteadmin_20md.htm" TargetMode="External"/><Relationship Id="rId14" Type="http://schemas.openxmlformats.org/officeDocument/2006/relationships/hyperlink" Target="http://msdn.microsoft.com/isapi/msdnlib.idc?theURL=/library/psdk/webte/wteadmin_20md.htm" TargetMode="External"/><Relationship Id="rId15" Type="http://schemas.openxmlformats.org/officeDocument/2006/relationships/hyperlink" Target="http://msdn.microsoft.com/isapi/msdnlib.idc?theURL=/library/psdk/webte/wteadmin_20md.htm" TargetMode="External"/><Relationship Id="rId16" Type="http://schemas.openxmlformats.org/officeDocument/2006/relationships/hyperlink" Target="http://msdn.microsoft.com/isapi/msdnlib.idc?theURL=/library/psdk/webte/wteadmin_20md.htm" TargetMode="External"/><Relationship Id="rId17" Type="http://schemas.openxmlformats.org/officeDocument/2006/relationships/hyperlink" Target="http://msdn.microsoft.com/isapi/msdnlib.idc?theURL=/library/psdk/webte/wteadmin_20md.htm" TargetMode="External"/><Relationship Id="rId18" Type="http://schemas.openxmlformats.org/officeDocument/2006/relationships/hyperlink" Target="http://msdn.microsoft.com/isapi/msdnlib.idc?theURL=/library/psdk/webte/wteadmin_20md.htm" TargetMode="External"/><Relationship Id="rId19" Type="http://schemas.openxmlformats.org/officeDocument/2006/relationships/hyperlink" Target="http://msdn.microsoft.com/isapi/msdnlib.idc?theURL=/library/psdk/webte/wteadmin_20md.htm" TargetMode="External"/><Relationship Id="rId20" Type="http://schemas.openxmlformats.org/officeDocument/2006/relationships/hyperlink" Target="http://msdn.microsoft.com/isapi/msdnlib.idc?theURL=/library/psdk/webte/wteadmin_20md.htm" TargetMode="External"/><Relationship Id="rId21" Type="http://schemas.openxmlformats.org/officeDocument/2006/relationships/hyperlink" Target="http://msdn.microsoft.com/isapi/msdnlib.idc?theURL=/library/psdk/webte/wteadmin_20md.htm" TargetMode="External"/><Relationship Id="rId22" Type="http://schemas.openxmlformats.org/officeDocument/2006/relationships/hyperlink" Target="http://msdn.microsoft.com/isapi/msdnlib.idc?theURL=/library/psdk/webte/wteadmin_20md.htm" TargetMode="External"/><Relationship Id="rId23" Type="http://schemas.openxmlformats.org/officeDocument/2006/relationships/hyperlink" Target="http://msdn.microsoft.com/isapi/msdnlib.idc?theURL=/library/psdk/webte/wteadmin_20md.htm" TargetMode="External"/><Relationship Id="rId24" Type="http://schemas.openxmlformats.org/officeDocument/2006/relationships/hyperlink" Target="http://msdn.microsoft.com/isapi/msdnlib.idc?theURL=/library/psdk/webte/wteadmin_20md.htm" TargetMode="External"/><Relationship Id="rId25" Type="http://schemas.openxmlformats.org/officeDocument/2006/relationships/hyperlink" Target="http://msdn.microsoft.com/isapi/msdnlib.idc?theURL=/library/psdk/webte/wteadmin_20md.htm" TargetMode="External"/><Relationship Id="rId26" Type="http://schemas.openxmlformats.org/officeDocument/2006/relationships/hyperlink" Target="http://msdn.microsoft.com/isapi/msdnlib.idc?theURL=/library/psdk/webte/wteadmin_20md.htm" TargetMode="External"/><Relationship Id="rId27" Type="http://schemas.openxmlformats.org/officeDocument/2006/relationships/hyperlink" Target="http://msdn.microsoft.com/isapi/msdnlib.idc?theURL=/library/psdk/webte/wteadmin_20md.htm" TargetMode="External"/><Relationship Id="rId28" Type="http://schemas.openxmlformats.org/officeDocument/2006/relationships/hyperlink" Target="http://msdn.microsoft.com/isapi/msdnlib.idc?theURL=/library/psdk/webte/wteadmin_20md.htm" TargetMode="External"/><Relationship Id="rId29" Type="http://schemas.openxmlformats.org/officeDocument/2006/relationships/hyperlink" Target="http://msdn.microsoft.com/isapi/msdnlib.idc?theURL=/library/psdk/webte/wteadmin_20md.htm" TargetMode="External"/><Relationship Id="rId30" Type="http://schemas.openxmlformats.org/officeDocument/2006/relationships/hyperlink" Target="http://msdn.microsoft.com/isapi/msdnlib.idc?theURL=/library/psdk/webte/wteadmin_20md.htm" TargetMode="External"/><Relationship Id="rId31" Type="http://schemas.openxmlformats.org/officeDocument/2006/relationships/hyperlink" Target="http://msdn.microsoft.com/isapi/msdnlib.idc?theURL=/library/psdk/webte/wteadmin_20md.htm" TargetMode="External"/><Relationship Id="rId3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5760" y="457200"/>
            <a:ext cx="805824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b39"/>
                </a:solidFill>
                <a:latin typeface="Arial"/>
              </a:rPr>
              <a:t>Session 5</a:t>
            </a:r>
            <a:br>
              <a:rPr sz="5000"/>
            </a:br>
            <a:br>
              <a:rPr sz="5000"/>
            </a:br>
            <a:r>
              <a:rPr b="1" lang="en-US" sz="5400" spc="-1" strike="noStrike">
                <a:solidFill>
                  <a:srgbClr val="ffcb39"/>
                </a:solidFill>
                <a:latin typeface="Arial"/>
              </a:rPr>
              <a:t>Deploy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b39"/>
                </a:solidFill>
                <a:latin typeface="Arial"/>
              </a:rPr>
              <a:t>TAPI-Bas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b39"/>
                </a:solidFill>
                <a:latin typeface="Arial"/>
              </a:rPr>
              <a:t>Solu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vid Ja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cse" descr="Communications Solutions Exp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5400" y="287280"/>
            <a:ext cx="2286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NT 4.0 Line Permission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5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 TCMApp.ex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2666880"/>
          <a:ext cx="503856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666880"/>
                    <a:ext cx="50385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48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b39"/>
                </a:solidFill>
                <a:latin typeface="Arial"/>
              </a:rPr>
              <a:t>Windows 2000 permissions</a:t>
            </a:r>
            <a:endParaRPr b="1" lang="en-US" sz="44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16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ill in Computer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a line and th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Action” “Edit User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914400" y="3505320"/>
            <a:ext cx="6248520" cy="3012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8120" y="4419720"/>
            <a:ext cx="3590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Client Setu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972560" cy="55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 4.0 (SP6a), Windows 9x, Windows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in via Windows NT user domain ac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9x network set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81"/>
                </a:solidFill>
                <a:latin typeface="Arial"/>
              </a:rPr>
              <a:t>Client for Microsoft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81"/>
                </a:solidFill>
                <a:latin typeface="Arial"/>
                <a:ea typeface="Arial"/>
              </a:rPr>
              <a:t>Enable "File and Print Sharing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81"/>
                </a:solidFill>
                <a:latin typeface="Arial"/>
                <a:ea typeface="Arial"/>
              </a:rPr>
              <a:t>Use “User-Level Access Control"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81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de81"/>
                </a:solidFill>
                <a:latin typeface="Arial"/>
              </a:rPr>
              <a:t>TAPI 2.1 for Windows 95” add-on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5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"/>
              </a:rPr>
              <a:t>ftp://ftp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3"/>
              </a:rPr>
              <a:t>microsoft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4"/>
              </a:rPr>
              <a:t>.com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5"/>
              </a:rPr>
              <a:t>developr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6"/>
              </a:rPr>
              <a:t>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7"/>
              </a:rPr>
              <a:t>tapi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8"/>
              </a:rPr>
              <a:t>/tapi2195.z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cmsetup /c serverna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81"/>
                </a:solidFill>
                <a:latin typeface="Arial"/>
              </a:rPr>
              <a:t>Again, /q switch available.  Perfect for SM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ow remotesp.tsp work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1523880"/>
            <a:ext cx="3276720" cy="40388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3962520" cy="4419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276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387680"/>
            <a:ext cx="990360" cy="381240"/>
          </a:xfrm>
          <a:prstGeom prst="roundRect">
            <a:avLst>
              <a:gd name="adj" fmla="val 16667"/>
            </a:avLst>
          </a:prstGeom>
          <a:solidFill>
            <a:srgbClr val="b06e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M T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3809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16240" y="4954680"/>
            <a:ext cx="731880" cy="341280"/>
          </a:xfrm>
          <a:custGeom>
            <a:avLst/>
            <a:gdLst/>
            <a:ahLst/>
            <a:rect l="l" t="t" r="r" b="b"/>
            <a:pathLst>
              <a:path w="1153" h="301">
                <a:moveTo>
                  <a:pt x="0" y="0"/>
                </a:moveTo>
                <a:lnTo>
                  <a:pt x="1152" y="0"/>
                </a:lnTo>
                <a:lnTo>
                  <a:pt x="1152" y="241"/>
                </a:lnTo>
                <a:lnTo>
                  <a:pt x="961" y="241"/>
                </a:lnTo>
                <a:lnTo>
                  <a:pt x="961" y="300"/>
                </a:lnTo>
                <a:lnTo>
                  <a:pt x="82" y="300"/>
                </a:lnTo>
                <a:lnTo>
                  <a:pt x="82" y="253"/>
                </a:lnTo>
                <a:lnTo>
                  <a:pt x="56" y="253"/>
                </a:lnTo>
                <a:lnTo>
                  <a:pt x="56" y="263"/>
                </a:lnTo>
                <a:lnTo>
                  <a:pt x="0" y="263"/>
                </a:lnTo>
                <a:lnTo>
                  <a:pt x="0" y="0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16240" y="495288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2160" bIns="9216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93920" y="5065560"/>
            <a:ext cx="6480" cy="9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983120"/>
            <a:ext cx="30240" cy="351000"/>
          </a:xfrm>
          <a:custGeom>
            <a:avLst/>
            <a:gdLst/>
            <a:ahLst/>
            <a:rect l="l" t="t" r="r" b="b"/>
            <a:pathLst>
              <a:path w="48" h="310">
                <a:moveTo>
                  <a:pt x="38" y="309"/>
                </a:moveTo>
                <a:lnTo>
                  <a:pt x="47" y="309"/>
                </a:lnTo>
                <a:lnTo>
                  <a:pt x="47" y="0"/>
                </a:lnTo>
                <a:lnTo>
                  <a:pt x="0" y="0"/>
                </a:lnTo>
                <a:lnTo>
                  <a:pt x="0" y="10"/>
                </a:lnTo>
                <a:lnTo>
                  <a:pt x="38" y="10"/>
                </a:lnTo>
                <a:lnTo>
                  <a:pt x="38" y="56"/>
                </a:lnTo>
                <a:lnTo>
                  <a:pt x="9" y="56"/>
                </a:lnTo>
                <a:lnTo>
                  <a:pt x="9" y="181"/>
                </a:lnTo>
                <a:lnTo>
                  <a:pt x="38" y="181"/>
                </a:lnTo>
                <a:lnTo>
                  <a:pt x="38" y="30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8006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3210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406600"/>
            <a:ext cx="12956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I 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2787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42908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ote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8545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073480"/>
            <a:ext cx="838440" cy="260640"/>
          </a:xfrm>
          <a:prstGeom prst="rect">
            <a:avLst/>
          </a:prstGeom>
          <a:gradFill rotWithShape="0">
            <a:gsLst>
              <a:gs pos="0">
                <a:srgbClr val="1c4359"/>
              </a:gs>
              <a:gs pos="100000">
                <a:srgbClr val="3e93c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480060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91320"/>
            <a:ext cx="2514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533412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365800"/>
            <a:ext cx="0" cy="4255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5105520"/>
            <a:ext cx="838080" cy="260280"/>
          </a:xfrm>
          <a:prstGeom prst="rect">
            <a:avLst/>
          </a:prstGeom>
          <a:gradFill rotWithShape="0">
            <a:gsLst>
              <a:gs pos="0">
                <a:srgbClr val="1c4359"/>
              </a:gs>
              <a:gs pos="100000">
                <a:srgbClr val="3e93c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342900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09880" y="34290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7913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PC over TCP/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54421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PC over TCP/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5944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5899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ow remotesp.tsp works, Step by Ste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78200"/>
            <a:ext cx="797256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PI application on client starts TA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PI loads remotesp.ts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tesp.tsp initiates RPC over TCP/IP connection to Serv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 validates u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 makes a “Reverse” RPC connection back to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 assigns lines and completes first remotesp.tsp RPC connec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Troubleshooting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46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know it works when TAPI applications on the client can see their assigned line devi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7560" indent="-53352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Basic Set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7560" indent="-53352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Networ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7560" indent="-53352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7560" indent="-53352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Client Conte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1: Basic Setu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287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people don’t have trouble with basic setup.  Follow the step by step direc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xception is environments that aren’t already using Windows NT domai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2: Networking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72200" cy="39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the client “ping” the serve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Do normal networking troubleshoo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RAS will change the route tabl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the server “ping” the cli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Don’t put the Telephony Server behind a firewall that prevents it from being able to ping the cli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3976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3: Security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72560" cy="54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the client “net view” the serve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The server machine account needs to be in a domain that trusts the client user accou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the server “net view” the cli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Log in interactively using the “Telephony” user ac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This situation exists because of the “Reverse” RPC conn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This is why the Telephony Server domain user account must be in a domain trusted by client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4: Client Context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58440"/>
            <a:ext cx="7972560" cy="392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user context started the Telephony Service on the Cli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tesp.tsp only asks the Telephony Server for lines when star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Telephony Service is started before the interactive user logs in, then remotesp.tsp has already asked Telephony Server for lines and probably been deni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9360" y="1798560"/>
            <a:ext cx="8480520" cy="21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ent/Server Telepho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H.323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IP Multicast Conferenc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0600" y="1904760"/>
            <a:ext cx="380880" cy="3999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4: RAS example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236600"/>
            <a:ext cx="7972560" cy="56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S is installed on a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 is “autostart” by defau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 is configured to run under the “Local System” ac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RAS starts, it starts T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PI initializes remotesp.ts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tesp.tsp asks the Telephony Server for line de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ephony Server denies the client machines “Local System” any line de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now logs in and doesn’t see line devi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4: More example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0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x Ser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TAPI base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A logs in, starts TAPI application, logs out, User B logs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elephony Service may take a short time to shutd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m based applications are the most common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oblem 4: Solution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144080"/>
            <a:ext cx="7972560" cy="45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logging in, check if the Telephony Service is started before starting any TAPI applica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s are on a case by case basi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modems if pos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figure RAS to “manual” st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Note: WAN Client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97256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remote.tsp can’t find server when it first starts, it will keep trying every 2 minutes.  This allows for WAN clients to use the Telephony Serv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9360" y="1798560"/>
            <a:ext cx="8480520" cy="21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Client/Server Telepho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.323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IP Multicast Conferenc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28040" y="2619360"/>
            <a:ext cx="457200" cy="3999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.323 – Point to Point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576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1981080"/>
            <a:ext cx="3276720" cy="38102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92112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006720"/>
            <a:ext cx="12952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Dia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387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19920" y="4454640"/>
            <a:ext cx="1371240" cy="955440"/>
            <a:chOff x="6019920" y="4454640"/>
            <a:chExt cx="1371240" cy="955440"/>
          </a:xfrm>
        </p:grpSpPr>
        <p:sp>
          <p:nvSpPr>
            <p:cNvPr id="237" name=""/>
            <p:cNvSpPr/>
            <p:nvPr/>
          </p:nvSpPr>
          <p:spPr>
            <a:xfrm>
              <a:off x="6019920" y="5029200"/>
              <a:ext cx="1371240" cy="38088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.323 TSP/MS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01560" y="44546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9480" y="2057400"/>
            <a:ext cx="3276720" cy="3809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9304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0160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Dia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3973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743200"/>
            <a:ext cx="1066680" cy="990720"/>
          </a:xfrm>
          <a:prstGeom prst="can">
            <a:avLst>
              <a:gd name="adj" fmla="val 25000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57800" y="3152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17196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60320" y="2771640"/>
            <a:ext cx="99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9240" y="2819520"/>
            <a:ext cx="910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ok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51814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473720"/>
            <a:ext cx="1371240" cy="955440"/>
            <a:chOff x="1676520" y="4473720"/>
            <a:chExt cx="1371240" cy="955440"/>
          </a:xfrm>
        </p:grpSpPr>
        <p:sp>
          <p:nvSpPr>
            <p:cNvPr id="250" name=""/>
            <p:cNvSpPr/>
            <p:nvPr/>
          </p:nvSpPr>
          <p:spPr>
            <a:xfrm>
              <a:off x="1676520" y="5048280"/>
              <a:ext cx="1371240" cy="38088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.323 TSP/MS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160" y="44737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267080" y="4876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.323 Server configuration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H.323 is point to point, so no ser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one Dialer can use the Internet Locator Service (ILS)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used to locate users running Phone Dia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S is a real-time server component of the Activ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specific to Phone Dia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up of ILS covered l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.323 Workstation setu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239840"/>
            <a:ext cx="797256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 Duplex a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the only “requiremen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verified by playing and recording simultaneous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ware of Acoustic Ech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audio heads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ho-canceling micropho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 volu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 “Windows 2000” supported came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Use Phone Dialer to verify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40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 Phone dialer on “Destination” to enable incoming ca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a call from “Source” with Phone Dia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TCP/IP add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machine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one Dialer can use both H.323 and IP Multicast Conferenc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9360" y="1798560"/>
            <a:ext cx="8480520" cy="21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Client/Server Telepho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H.323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500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P Multicast Conferenc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28040" y="3381120"/>
            <a:ext cx="457200" cy="3999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48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b39"/>
                </a:solidFill>
                <a:latin typeface="Arial"/>
              </a:rPr>
              <a:t>Traditional TAPI Architecture</a:t>
            </a:r>
            <a:endParaRPr b="1" lang="en-US" sz="4400" spc="-1" strike="noStrike">
              <a:solidFill>
                <a:srgbClr val="ffcb3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3880" y="1523880"/>
            <a:ext cx="5867280" cy="4038480"/>
            <a:chOff x="1523880" y="1523880"/>
            <a:chExt cx="5867280" cy="4038480"/>
          </a:xfrm>
        </p:grpSpPr>
        <p:sp>
          <p:nvSpPr>
            <p:cNvPr id="88" name=""/>
            <p:cNvSpPr/>
            <p:nvPr/>
          </p:nvSpPr>
          <p:spPr>
            <a:xfrm>
              <a:off x="1523880" y="2701440"/>
              <a:ext cx="5867280" cy="68652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lephony Ser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3880" y="4128840"/>
              <a:ext cx="1711080" cy="49032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mod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1440" y="4128840"/>
              <a:ext cx="1589040" cy="490320"/>
            </a:xfrm>
            <a:prstGeom prst="roundRect">
              <a:avLst>
                <a:gd name="adj" fmla="val 16667"/>
              </a:avLst>
            </a:prstGeom>
            <a:solidFill>
              <a:srgbClr val="71c78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.3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7960" y="1523880"/>
              <a:ext cx="2077560" cy="490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PI 2.x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1600" y="1523880"/>
              <a:ext cx="2077560" cy="490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PI 3.0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57680" y="4132800"/>
              <a:ext cx="1588680" cy="491040"/>
            </a:xfrm>
            <a:prstGeom prst="roundRect">
              <a:avLst>
                <a:gd name="adj" fmla="val 16667"/>
              </a:avLst>
            </a:prstGeom>
            <a:solidFill>
              <a:srgbClr val="b06e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EM T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5720" y="2014200"/>
              <a:ext cx="0" cy="58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79360" y="2014200"/>
              <a:ext cx="0" cy="58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3680" y="3388320"/>
              <a:ext cx="0" cy="58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12680" y="3388320"/>
              <a:ext cx="0" cy="58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9200" y="3388320"/>
              <a:ext cx="0" cy="58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801760" y="4860720"/>
              <a:ext cx="1221840" cy="490680"/>
              <a:chOff x="5801760" y="4860720"/>
              <a:chExt cx="1221840" cy="490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850000" y="4862520"/>
                <a:ext cx="1173600" cy="440280"/>
              </a:xfrm>
              <a:custGeom>
                <a:avLst/>
                <a:gdLst/>
                <a:ahLst/>
                <a:rect l="l" t="t" r="r" b="b"/>
                <a:pathLst>
                  <a:path w="1153" h="301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241"/>
                    </a:lnTo>
                    <a:lnTo>
                      <a:pt x="961" y="241"/>
                    </a:lnTo>
                    <a:lnTo>
                      <a:pt x="961" y="300"/>
                    </a:lnTo>
                    <a:lnTo>
                      <a:pt x="82" y="300"/>
                    </a:lnTo>
                    <a:lnTo>
                      <a:pt x="82" y="253"/>
                    </a:lnTo>
                    <a:lnTo>
                      <a:pt x="56" y="253"/>
                    </a:lnTo>
                    <a:lnTo>
                      <a:pt x="56" y="263"/>
                    </a:lnTo>
                    <a:lnTo>
                      <a:pt x="0" y="26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50000" y="4860720"/>
                <a:ext cx="1173600" cy="47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92160" bIns="92160" anchor="t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14360" y="5005800"/>
                <a:ext cx="10080" cy="122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01760" y="4899600"/>
                <a:ext cx="48240" cy="451800"/>
              </a:xfrm>
              <a:custGeom>
                <a:avLst/>
                <a:gdLst/>
                <a:ahLst/>
                <a:rect l="l" t="t" r="r" b="b"/>
                <a:pathLst>
                  <a:path w="48" h="310">
                    <a:moveTo>
                      <a:pt x="38" y="309"/>
                    </a:moveTo>
                    <a:lnTo>
                      <a:pt x="47" y="30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8" y="10"/>
                    </a:lnTo>
                    <a:lnTo>
                      <a:pt x="38" y="56"/>
                    </a:lnTo>
                    <a:lnTo>
                      <a:pt x="9" y="56"/>
                    </a:lnTo>
                    <a:lnTo>
                      <a:pt x="9" y="181"/>
                    </a:lnTo>
                    <a:lnTo>
                      <a:pt x="38" y="181"/>
                    </a:lnTo>
                    <a:lnTo>
                      <a:pt x="38" y="30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479040" y="5547960"/>
              <a:ext cx="20782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01600" y="5294520"/>
              <a:ext cx="0" cy="2678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45880" y="4959000"/>
              <a:ext cx="1344960" cy="335160"/>
            </a:xfrm>
            <a:prstGeom prst="rect">
              <a:avLst/>
            </a:prstGeom>
            <a:gradFill rotWithShape="0">
              <a:gsLst>
                <a:gs pos="0">
                  <a:srgbClr val="1c4359"/>
                </a:gs>
                <a:gs pos="100000">
                  <a:srgbClr val="3e93c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767960" y="4860720"/>
              <a:ext cx="1221840" cy="490680"/>
              <a:chOff x="1767960" y="4860720"/>
              <a:chExt cx="1221840" cy="490680"/>
            </a:xfrm>
          </p:grpSpPr>
          <p:sp>
            <p:nvSpPr>
              <p:cNvPr id="108" name=""/>
              <p:cNvSpPr/>
              <p:nvPr/>
            </p:nvSpPr>
            <p:spPr>
              <a:xfrm>
                <a:off x="1816200" y="4862520"/>
                <a:ext cx="1173600" cy="440280"/>
              </a:xfrm>
              <a:custGeom>
                <a:avLst/>
                <a:gdLst/>
                <a:ahLst/>
                <a:rect l="l" t="t" r="r" b="b"/>
                <a:pathLst>
                  <a:path w="1153" h="301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241"/>
                    </a:lnTo>
                    <a:lnTo>
                      <a:pt x="961" y="241"/>
                    </a:lnTo>
                    <a:lnTo>
                      <a:pt x="961" y="300"/>
                    </a:lnTo>
                    <a:lnTo>
                      <a:pt x="82" y="300"/>
                    </a:lnTo>
                    <a:lnTo>
                      <a:pt x="82" y="253"/>
                    </a:lnTo>
                    <a:lnTo>
                      <a:pt x="56" y="253"/>
                    </a:lnTo>
                    <a:lnTo>
                      <a:pt x="56" y="263"/>
                    </a:lnTo>
                    <a:lnTo>
                      <a:pt x="0" y="26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16200" y="4860720"/>
                <a:ext cx="1173600" cy="47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92160" bIns="92160" anchor="t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80560" y="5005800"/>
                <a:ext cx="10080" cy="122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67960" y="4899600"/>
                <a:ext cx="48240" cy="451800"/>
              </a:xfrm>
              <a:custGeom>
                <a:avLst/>
                <a:gdLst/>
                <a:ahLst/>
                <a:rect l="l" t="t" r="r" b="b"/>
                <a:pathLst>
                  <a:path w="48" h="310">
                    <a:moveTo>
                      <a:pt x="38" y="309"/>
                    </a:moveTo>
                    <a:lnTo>
                      <a:pt x="47" y="30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8" y="10"/>
                    </a:lnTo>
                    <a:lnTo>
                      <a:pt x="38" y="56"/>
                    </a:lnTo>
                    <a:lnTo>
                      <a:pt x="9" y="56"/>
                    </a:lnTo>
                    <a:lnTo>
                      <a:pt x="9" y="181"/>
                    </a:lnTo>
                    <a:lnTo>
                      <a:pt x="38" y="181"/>
                    </a:lnTo>
                    <a:lnTo>
                      <a:pt x="38" y="30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378880" y="4664520"/>
              <a:ext cx="0" cy="1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9200" y="4664520"/>
              <a:ext cx="0" cy="2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2680" y="4664520"/>
              <a:ext cx="0" cy="1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How MCast work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52640" y="5105520"/>
            <a:ext cx="5181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371600"/>
            <a:ext cx="2209680" cy="289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 Cre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38320" y="3022560"/>
            <a:ext cx="1757160" cy="43488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2346480"/>
            <a:ext cx="96372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Dial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266076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3803760"/>
            <a:ext cx="793800" cy="31104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4124160"/>
            <a:ext cx="0" cy="9144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5670720"/>
            <a:ext cx="793800" cy="806400"/>
          </a:xfrm>
          <a:prstGeom prst="can">
            <a:avLst>
              <a:gd name="adj" fmla="val 25000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5181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3460680"/>
            <a:ext cx="0" cy="21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1371600"/>
            <a:ext cx="2210040" cy="289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 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8880" y="3022560"/>
            <a:ext cx="1757520" cy="43488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06880" y="2346480"/>
            <a:ext cx="96372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Dial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59400" y="266076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3760"/>
            <a:ext cx="793800" cy="31104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460680"/>
            <a:ext cx="0" cy="21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1371600"/>
            <a:ext cx="2210040" cy="289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 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3480" y="3022560"/>
            <a:ext cx="1757520" cy="43488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1480" y="2346480"/>
            <a:ext cx="96372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Dial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74000" y="266076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3803760"/>
            <a:ext cx="793800" cy="31104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86600" y="3460680"/>
            <a:ext cx="0" cy="21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6606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 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676520" y="4419720"/>
            <a:ext cx="2133360" cy="1251720"/>
            <a:chOff x="1676520" y="4419720"/>
            <a:chExt cx="2133360" cy="1251720"/>
          </a:xfrm>
        </p:grpSpPr>
        <p:sp>
          <p:nvSpPr>
            <p:cNvPr id="287" name=""/>
            <p:cNvSpPr/>
            <p:nvPr/>
          </p:nvSpPr>
          <p:spPr>
            <a:xfrm>
              <a:off x="1676520" y="533412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Create Confer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52480" y="4419720"/>
              <a:ext cx="0" cy="91440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52480" y="5334120"/>
              <a:ext cx="198144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33920" y="5334120"/>
              <a:ext cx="0" cy="304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238880" y="4343400"/>
            <a:ext cx="0" cy="9907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038480" y="5334120"/>
            <a:ext cx="320040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5334120"/>
            <a:ext cx="0" cy="3045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5334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Join Confer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5280" y="441972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1c78a"/>
                </a:solidFill>
                <a:latin typeface="Arial"/>
              </a:rPr>
              <a:t>Multicast TCP/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114800"/>
            <a:ext cx="0" cy="9144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0" cy="9144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4800600"/>
            <a:ext cx="464832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Prerequisite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0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Multicast Conferencing needs several non-TAPI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CP/IP multic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 Locator Server (IL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C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llow “step by step” directions and it’s pretty ea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Network Backbone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TCP/IP Multicast cap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using MCAST.EXE on both multicast sender and multicast receiv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CAST /SEND /INTF:172.31.253.55 /GRPS:230.1.1.1 /INTVL:1000 /NUMPKTS:36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CAST /RECV /INTF:172.17.100.98 /GRPS:230.1.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ters may need to be configur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r router ven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More Networking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33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work may already be done if you have previously used a multi-cast application such as Windows Media Technologies (previously called NetShow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y routers on the Internet are not configured for multica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14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Setting up the Servers</a:t>
            </a:r>
            <a:br>
              <a:rPr sz="4800"/>
            </a:b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972560" cy="49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setting up a Windows 2000 domai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e Server ILS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rences are published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rence members, multicast address, conference encryption k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C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ilar to DHCP, but used to allocate Multicast addr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Site Server ILS Service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72560" cy="56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s Windows 2000 Server with Internet Information Server (IIS) instal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install the Site Server ILS Servi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anel, "Add/Remove Program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Add/Remove Windows Compone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Networking Service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"Detail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"Site Server ILS Services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ILSCFG.EXE to publish in Active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Setting up MADCA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34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ed as part of DH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anel, "Add/Remove Program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Add/Remove Windows Compone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Networking Service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"Detail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"Dynamic Host Configuration Protocol (DHCP)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Multicast Scope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017720"/>
            <a:ext cx="7972560" cy="427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Scopes are used to specify the duration and availability of multicast “group” IP addr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MC "Computer Management" a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rver Applications and Services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“, "New Multicast Scope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madcap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5257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Advice for Scope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2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scopes useful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 options (1day, 5day, 10day, et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names descriptive!  End-users creating conferences have to select a scop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to Live (TTL) is number of hops to receiver.  Use 25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Setting up the Workstation 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72560" cy="53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dio and Video the same as H.32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one dialer “just works” if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tation is part of a Windows 2000 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is logged onto a Windows 2000 domain ac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LS server location is published in Activ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wise, Phone dialer needs manually configured.  On-line hel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638680" y="1219320"/>
            <a:ext cx="3276720" cy="4952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3962520" cy="4952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Client/Server Architecture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5053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f1a9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y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4616280"/>
            <a:ext cx="990360" cy="381240"/>
          </a:xfrm>
          <a:prstGeom prst="roundRect">
            <a:avLst>
              <a:gd name="adj" fmla="val 16667"/>
            </a:avLst>
          </a:prstGeom>
          <a:solidFill>
            <a:srgbClr val="b06e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M T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590920"/>
            <a:ext cx="1295280" cy="838080"/>
            <a:chOff x="1371600" y="2590920"/>
            <a:chExt cx="1295280" cy="838080"/>
          </a:xfrm>
        </p:grpSpPr>
        <p:sp>
          <p:nvSpPr>
            <p:cNvPr id="121" name=""/>
            <p:cNvSpPr/>
            <p:nvPr/>
          </p:nvSpPr>
          <p:spPr>
            <a:xfrm>
              <a:off x="1371600" y="2590920"/>
              <a:ext cx="129528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69696"/>
                  </a:solidFill>
                  <a:latin typeface="Arial"/>
                </a:rPr>
                <a:t>TAPI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2971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66688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0" y="5181480"/>
            <a:ext cx="762120" cy="380880"/>
            <a:chOff x="2286000" y="5181480"/>
            <a:chExt cx="762120" cy="380880"/>
          </a:xfrm>
        </p:grpSpPr>
        <p:sp>
          <p:nvSpPr>
            <p:cNvPr id="125" name=""/>
            <p:cNvSpPr/>
            <p:nvPr/>
          </p:nvSpPr>
          <p:spPr>
            <a:xfrm>
              <a:off x="2316240" y="5182920"/>
              <a:ext cx="731880" cy="341640"/>
            </a:xfrm>
            <a:custGeom>
              <a:avLst/>
              <a:gdLst/>
              <a:ahLst/>
              <a:rect l="l" t="t" r="r" b="b"/>
              <a:pathLst>
                <a:path w="1153" h="301">
                  <a:moveTo>
                    <a:pt x="0" y="0"/>
                  </a:moveTo>
                  <a:lnTo>
                    <a:pt x="1152" y="0"/>
                  </a:lnTo>
                  <a:lnTo>
                    <a:pt x="1152" y="241"/>
                  </a:lnTo>
                  <a:lnTo>
                    <a:pt x="961" y="241"/>
                  </a:lnTo>
                  <a:lnTo>
                    <a:pt x="961" y="300"/>
                  </a:lnTo>
                  <a:lnTo>
                    <a:pt x="82" y="300"/>
                  </a:lnTo>
                  <a:lnTo>
                    <a:pt x="82" y="253"/>
                  </a:lnTo>
                  <a:lnTo>
                    <a:pt x="56" y="253"/>
                  </a:lnTo>
                  <a:lnTo>
                    <a:pt x="56" y="263"/>
                  </a:lnTo>
                  <a:lnTo>
                    <a:pt x="0" y="263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16240" y="5181480"/>
              <a:ext cx="7318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92160" bIns="9216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3920" y="5294160"/>
              <a:ext cx="648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0" y="5211720"/>
              <a:ext cx="30240" cy="350640"/>
            </a:xfrm>
            <a:custGeom>
              <a:avLst/>
              <a:gdLst/>
              <a:ahLst/>
              <a:rect l="l" t="t" r="r" b="b"/>
              <a:pathLst>
                <a:path w="48" h="310">
                  <a:moveTo>
                    <a:pt x="38" y="309"/>
                  </a:moveTo>
                  <a:lnTo>
                    <a:pt x="47" y="309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8" y="10"/>
                  </a:lnTo>
                  <a:lnTo>
                    <a:pt x="38" y="56"/>
                  </a:lnTo>
                  <a:lnTo>
                    <a:pt x="9" y="56"/>
                  </a:lnTo>
                  <a:lnTo>
                    <a:pt x="9" y="181"/>
                  </a:lnTo>
                  <a:lnTo>
                    <a:pt x="38" y="181"/>
                  </a:lnTo>
                  <a:lnTo>
                    <a:pt x="38" y="3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66880" y="5029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315200" y="4083120"/>
            <a:ext cx="1066320" cy="955080"/>
            <a:chOff x="7315200" y="4083120"/>
            <a:chExt cx="1066320" cy="955080"/>
          </a:xfrm>
        </p:grpSpPr>
        <p:sp>
          <p:nvSpPr>
            <p:cNvPr id="131" name=""/>
            <p:cNvSpPr/>
            <p:nvPr/>
          </p:nvSpPr>
          <p:spPr>
            <a:xfrm>
              <a:off x="7315200" y="4657680"/>
              <a:ext cx="1066320" cy="3805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Other T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1480" y="4083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943600" y="2635200"/>
            <a:ext cx="2362320" cy="1447920"/>
            <a:chOff x="5943600" y="2635200"/>
            <a:chExt cx="2362320" cy="1447920"/>
          </a:xfrm>
        </p:grpSpPr>
        <p:sp>
          <p:nvSpPr>
            <p:cNvPr id="134" name=""/>
            <p:cNvSpPr/>
            <p:nvPr/>
          </p:nvSpPr>
          <p:spPr>
            <a:xfrm>
              <a:off x="5943600" y="3549600"/>
              <a:ext cx="2362320" cy="53352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lephony Ser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3080" y="2635200"/>
              <a:ext cx="129564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PI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2920" y="30160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943600" y="4083120"/>
            <a:ext cx="1066680" cy="955440"/>
            <a:chOff x="5943600" y="4083120"/>
            <a:chExt cx="1066680" cy="955440"/>
          </a:xfrm>
        </p:grpSpPr>
        <p:sp>
          <p:nvSpPr>
            <p:cNvPr id="138" name=""/>
            <p:cNvSpPr/>
            <p:nvPr/>
          </p:nvSpPr>
          <p:spPr>
            <a:xfrm>
              <a:off x="5943600" y="4657680"/>
              <a:ext cx="1066680" cy="380880"/>
            </a:xfrm>
            <a:prstGeom prst="roundRect">
              <a:avLst>
                <a:gd name="adj" fmla="val 16667"/>
              </a:avLst>
            </a:prstGeom>
            <a:solidFill>
              <a:srgbClr val="f1a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moteS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4083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05320" y="3657600"/>
            <a:ext cx="3429000" cy="2362320"/>
            <a:chOff x="3505320" y="3657600"/>
            <a:chExt cx="3429000" cy="2362320"/>
          </a:xfrm>
        </p:grpSpPr>
        <p:grpSp>
          <p:nvGrpSpPr>
            <p:cNvPr id="141" name=""/>
            <p:cNvGrpSpPr/>
            <p:nvPr/>
          </p:nvGrpSpPr>
          <p:grpSpPr>
            <a:xfrm>
              <a:off x="6095880" y="5029200"/>
              <a:ext cx="838440" cy="533520"/>
              <a:chOff x="6095880" y="5029200"/>
              <a:chExt cx="83844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6095880" y="5302080"/>
                <a:ext cx="838440" cy="260640"/>
              </a:xfrm>
              <a:prstGeom prst="rect">
                <a:avLst/>
              </a:prstGeom>
              <a:gradFill rotWithShape="0">
                <a:gsLst>
                  <a:gs pos="0">
                    <a:srgbClr val="1c4359"/>
                  </a:gs>
                  <a:gs pos="100000">
                    <a:srgbClr val="3e93c2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I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029200"/>
                <a:ext cx="0" cy="27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038480" y="5562720"/>
              <a:ext cx="2514600" cy="457200"/>
              <a:chOff x="4038480" y="5562720"/>
              <a:chExt cx="2514600" cy="457200"/>
            </a:xfrm>
          </p:grpSpPr>
          <p:sp>
            <p:nvSpPr>
              <p:cNvPr id="145" name=""/>
              <p:cNvSpPr/>
              <p:nvPr/>
            </p:nvSpPr>
            <p:spPr>
              <a:xfrm>
                <a:off x="4038480" y="6019920"/>
                <a:ext cx="251460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5562720"/>
                <a:ext cx="0" cy="45720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38480" y="5594400"/>
                <a:ext cx="0" cy="4255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505320" y="5334120"/>
              <a:ext cx="838080" cy="260280"/>
            </a:xfrm>
            <a:prstGeom prst="rect">
              <a:avLst/>
            </a:prstGeom>
            <a:gradFill rotWithShape="0">
              <a:gsLst>
                <a:gs pos="0">
                  <a:srgbClr val="1c4359"/>
                </a:gs>
                <a:gs pos="100000">
                  <a:srgbClr val="3e93c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36576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809880" y="36576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" y="4038480"/>
            <a:ext cx="1066320" cy="955800"/>
            <a:chOff x="685800" y="4038480"/>
            <a:chExt cx="1066320" cy="955800"/>
          </a:xfrm>
        </p:grpSpPr>
        <p:sp>
          <p:nvSpPr>
            <p:cNvPr id="152" name=""/>
            <p:cNvSpPr/>
            <p:nvPr/>
          </p:nvSpPr>
          <p:spPr>
            <a:xfrm>
              <a:off x="685800" y="4613400"/>
              <a:ext cx="106632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Other T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2080" y="4038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Notes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972560" cy="508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groups for conference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S has an Access Control List (ACL) li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ier for users to restrict con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over modems is s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 does not have QOS (y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ne Dialer uses G.711 (64K aud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needs are too high for 56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 Server can become satur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323 uses G.723 (8K aud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For more information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971280"/>
            <a:ext cx="79725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Multicast Deploy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5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"/>
              </a:rPr>
              <a:t>http://www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3"/>
              </a:rPr>
              <a:t>microsoft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4"/>
              </a:rPr>
              <a:t>.com   /windows2000/library/planning /communications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5"/>
              </a:rPr>
              <a:t>multicaststeps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6"/>
              </a:rPr>
              <a:t>.a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elephony Work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5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7"/>
              </a:rPr>
              <a:t>http://www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8"/>
              </a:rPr>
              <a:t>microsoft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9"/>
              </a:rPr>
              <a:t>.com /windows2000/library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0"/>
              </a:rPr>
              <a:t>howitworks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1"/>
              </a:rPr>
              <a:t>/ communications/teleph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Telephony Engine (W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90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y documented in the Platform SD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51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2"/>
              </a:rPr>
              <a:t>http:/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3"/>
              </a:rPr>
              <a:t>msdn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4"/>
              </a:rPr>
              <a:t>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5"/>
              </a:rPr>
              <a:t>microsoft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6"/>
              </a:rPr>
              <a:t>.com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7"/>
              </a:rPr>
              <a:t>isapi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8"/>
              </a:rPr>
              <a:t>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19"/>
              </a:rPr>
              <a:t>  msdnlib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0"/>
              </a:rPr>
              <a:t>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1"/>
              </a:rPr>
              <a:t>idc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2"/>
              </a:rPr>
              <a:t>?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3"/>
              </a:rPr>
              <a:t>theURL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4"/>
              </a:rPr>
              <a:t>=/library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5"/>
              </a:rPr>
              <a:t>psdk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6"/>
              </a:rPr>
              <a:t>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7"/>
              </a:rPr>
              <a:t> webte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8"/>
              </a:rPr>
              <a:t>/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29"/>
              </a:rPr>
              <a:t>wteadmin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30"/>
              </a:rPr>
              <a:t>_20md.</a:t>
            </a:r>
            <a:r>
              <a:rPr b="1" lang="en-US" sz="2000" spc="-1" strike="noStrike" u="sng">
                <a:solidFill>
                  <a:srgbClr val="71c78a"/>
                </a:solidFill>
                <a:uFillTx/>
                <a:latin typeface="Arial"/>
                <a:hlinkClick r:id="rId31"/>
              </a:rPr>
              <a:t>ht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indows 2000 on-line h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ne Dialer on-line h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2000 Resource 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Brand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b39"/>
                </a:solidFill>
                <a:latin typeface="Arial"/>
              </a:rPr>
              <a:t>Telephony Server Setup</a:t>
            </a:r>
            <a:endParaRPr b="1" lang="en-US" sz="48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972560" cy="49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T 4.0 Server (SP6a) or         Windows 2000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 OEM TS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Make sure TSP works on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41328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Work with O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“Server” user domain ac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Telephony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individual line permi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48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b39"/>
                </a:solidFill>
                <a:latin typeface="Arial"/>
              </a:rPr>
              <a:t>Server Setup – create user</a:t>
            </a:r>
            <a:endParaRPr b="1" lang="en-US" sz="44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72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a domain user for the Telephony Server to run un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user account must be in a domain trusted by cl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ed that it is in the same domain as the client user accou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ed that it is named something obvious like “TAPI” or “Telephony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48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b39"/>
                </a:solidFill>
                <a:latin typeface="Arial"/>
              </a:rPr>
              <a:t>Enable NT 4.0 Telephony Server</a:t>
            </a:r>
            <a:endParaRPr b="1" lang="en-US" sz="40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541160"/>
            <a:ext cx="797256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CMSetup /s domain/user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CMSetup.exe is installed with SP6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q switch available for quiet mode.  For automatic ISV set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3051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04888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b39"/>
                </a:solidFill>
                <a:latin typeface="Arial"/>
              </a:rPr>
              <a:t>Enable Windows 2000 Telephony Server</a:t>
            </a:r>
            <a:endParaRPr b="1" lang="en-US" sz="4000" spc="-1" strike="noStrike">
              <a:solidFill>
                <a:srgbClr val="ffcb3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6953400" cy="3352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72560" cy="18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MC – Computer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1049"/>
              </a:spcBef>
              <a:buClr>
                <a:srgbClr val="ffcb3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Start” “Programs” </a:t>
            </a:r>
            <a:br>
              <a:rPr sz="2800"/>
            </a:b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“Administrative Tools” </a:t>
            </a:r>
            <a:br>
              <a:rPr sz="2800"/>
            </a:br>
            <a:r>
              <a:rPr b="1" lang="en-US" sz="2800" spc="-1" strike="noStrike">
                <a:solidFill>
                  <a:srgbClr val="ffde81"/>
                </a:solidFill>
                <a:latin typeface="Arial"/>
              </a:rPr>
              <a:t>“Computer Managemen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04888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b39"/>
                </a:solidFill>
                <a:latin typeface="Arial"/>
              </a:rPr>
              <a:t>Enable Windows 2000 Telephony Server (cont)</a:t>
            </a:r>
            <a:endParaRPr b="1" lang="en-US" sz="4000" spc="-1" strike="noStrike">
              <a:solidFill>
                <a:srgbClr val="ffcb3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317600"/>
            <a:ext cx="7972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52600" indent="-552600">
              <a:lnSpc>
                <a:spcPct val="90000"/>
              </a:lnSpc>
              <a:spcBef>
                <a:spcPts val="1199"/>
              </a:spcBef>
              <a:buClr>
                <a:srgbClr val="ffcb3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“Telephony” then         “Action” “Properti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800440"/>
          <a:ext cx="6399360" cy="35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800440"/>
                    <a:ext cx="639936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00400" y="2438280"/>
            <a:ext cx="3848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1:41:11Z</dcterms:created>
  <dc:creator>stwood</dc:creator>
  <dc:description>INTERNAL MICROSOFT USE ONLY.  Some individual slide content suitable for use outside the company - use good judgment.
</dc:description>
  <dc:language>en-US</dc:language>
  <cp:lastModifiedBy>David Janson</cp:lastModifiedBy>
  <cp:lastPrinted>1999-06-07T22:43:16Z</cp:lastPrinted>
  <dcterms:modified xsi:type="dcterms:W3CDTF">2000-04-24T21:24:18Z</dcterms:modified>
  <cp:revision>6</cp:revision>
  <dc:subject>MSFT Internal Pres - MSFT Finance College (Jan 2000)</dc:subject>
  <dc:title>Windows Telephony and Converging Communications</dc:title>
</cp:coreProperties>
</file>