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D873-BF39-49BD-BC85-4F68639BED1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87D3-793F-4F2E-9623-28F05C9548E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A893-B7D9-4E99-9DF4-CBD59156E896}"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9FC6-97D0-4245-9A13-7F41F1DBA20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0C5D-C728-48B6-8AAF-52C739344BA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F1F2-FB20-4FB3-870B-5E018684451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25E6-376B-4430-9E46-6EDC35A0D20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4D24-8B50-4C15-BA44-5777525F437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4441-A8B0-449D-9FB7-55169497642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FEFE-4471-4149-A7A6-0F4E919E7AE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809BBA-404D-49C8-8C67-E0AE576B1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8DAD4C-1D37-4E72-B2E4-E8FD15722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F753D65-F221-46FE-BCEE-DA067C7FA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C7F55C-2857-444B-A11B-527E47FF4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8D8030-15D3-41B3-BB82-C1F3BE14A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32D4FE-6F04-4C6A-88AC-E7E2B446E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4F87D8-5935-4584-B8D1-B68C3F01E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100310-F4F4-41C9-9B0D-F1100E866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0942A0-D507-47C7-830D-4E413E649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FE511F-ECFC-40E0-B929-4C4A34B00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EB17E2-671D-4949-B1AD-FDC921167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D448F9-2CBA-4BD8-AF8E-BBC025E50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D24883-31E1-44ED-B639-E14DC3AC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2F8BAF-CA7B-4182-BA4B-BF87EE7E6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515B9D-8448-4ADC-B0C1-7B88A91A7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256C30-723F-4B0E-86BC-8446CC19B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7C511E-612F-41BE-84AE-443791B1F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17A4D6-D152-46F0-A6EA-6CB5A99A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7AF182-7B33-4F71-96CF-CA134AF4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2A4162-A27C-4FA6-8061-D5FA8854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0F9ED5-73D2-49FB-981C-CF7A820C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E640BD-6F58-43C2-80A0-CC87D4076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8A505E-A1C1-4628-8D24-0C857558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D3FDDD-15B5-42B2-A326-1B2E1744C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DC24-C771-4106-8A15-18C0419DCA6D}" type="datetime">
              <a:rPr b="0" lang="es-ES_tradnl" sz="1000" spc="-1" strike="noStrike">
                <a:solidFill>
                  <a:srgbClr val="ffff66"/>
                </a:solidFill>
                <a:latin typeface="Arial"/>
              </a:rPr>
              <a:t>31/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D6AA-99F4-4874-9964-6BD13394782D}"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CB91-55F8-4E3A-BDB7-AFB823DEA5DD}" type="datetime">
              <a:rPr b="0" lang="es-ES_tradnl" sz="1000" spc="-1" strike="noStrike">
                <a:solidFill>
                  <a:srgbClr val="ffffff"/>
                </a:solidFill>
                <a:latin typeface="Arial"/>
              </a:rPr>
              <a:t>31/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5329-7669-4E47-B8DC-A38C3E92B9AB}"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