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A81E-BB80-4DA4-9685-AE1D6824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9B28-9463-40DC-866E-A376E96A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3D87-2C99-4F98-82C5-AA2B425F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3A3D-287C-4E69-AB83-76FDFF2B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2ED1-63AC-4123-B365-A9FD6BE7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6590-7737-46E2-879B-3F559204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BCA6-8827-4656-9715-5DE8E40D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D6CE-3193-46BF-88DC-5B0A7688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3BFD-30C2-44F7-8283-753D64E4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3B71-9BD0-4850-AA40-C219BC23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882D-CA0A-4CE6-984A-1BEAC391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168E-D013-4FFA-94E4-EB49C681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BE3B-A18F-443C-8338-19D2066F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83A7-C42C-41A9-A62E-57C5BE6C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7DAC-BF6C-426A-8D64-854159EF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2FB0-0F1A-43C7-909E-7C97E8CE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C353-95A0-471C-81EB-1A147F32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C240-75FD-48C6-87E9-4AACD7DB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C69A-C672-49EC-84EF-3D331CA5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3152-016C-4E01-BC08-FCE4AF77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890B-2E2F-471C-B8E2-E5D0F7BF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0010-944C-4DF2-9B2E-267615C1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C45E-32FF-466C-B8CD-67479F5A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78E6-1B8E-49BF-9AA0-E1A3A261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E734-442E-47E1-9175-E43D3344328A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E094-7474-47DC-9249-F550CF6F703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" name=""/>
          <p:cNvGrpSpPr/>
          <p:nvPr/>
        </p:nvGrpSpPr>
        <p:grpSpPr>
          <a:xfrm>
            <a:off x="76320" y="76320"/>
            <a:ext cx="3124080" cy="609480"/>
            <a:chOff x="76320" y="76320"/>
            <a:chExt cx="3124080" cy="609480"/>
          </a:xfrm>
        </p:grpSpPr>
        <p:graphicFrame>
          <p:nvGraphicFramePr>
            <p:cNvPr id="34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" name=""/>
            <p:cNvSpPr/>
            <p:nvPr/>
          </p:nvSpPr>
          <p:spPr>
            <a:xfrm>
              <a:off x="533520" y="152280"/>
              <a:ext cx="26668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4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3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655D-FF2C-410A-B810-0C2E52733006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2FAD-1B2C-4F17-BE93-B1CD7DE726A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6320" y="76320"/>
            <a:ext cx="2895480" cy="609480"/>
            <a:chOff x="76320" y="76320"/>
            <a:chExt cx="2895480" cy="609480"/>
          </a:xfrm>
        </p:grpSpPr>
        <p:graphicFrame>
          <p:nvGraphicFramePr>
            <p:cNvPr id="109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"/>
            <p:cNvSpPr/>
            <p:nvPr/>
          </p:nvSpPr>
          <p:spPr>
            <a:xfrm>
              <a:off x="533520" y="152640"/>
              <a:ext cx="24382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chilecompras.cl/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ramitefacil.gob.cl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Gobierno Electrónico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440" y="44193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yecto de Reforma y Modernización del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sterio Secretaría General de la Presid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2EA3-A490-46D4-9A79-3B7C2BB8C7C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8F7679E-4E3F-41D8-B541-C81AD1A84B9A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Buen Gobier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diseño y simplificación de procesos apoyados por las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gramas continuos de enseñanza y entre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sponer de sistemas de información que apoyen funciones internas. Permitir, facilitar y promover comunicaciones mediante uso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tar servicios a otras reparticiones. Conexión y utilización de red del Ministerio del Interi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roducir indicador de gestión de porcentaje de trámites brindados electrónica y presencial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cluir impacto en la organización producido por el desarrollo de los proyectos que usen NTICs. Enfasis en impacto en funcion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ción de estándares de la industria NTICs. Imagén común en Internet, uso progresivo de .gov.cl y .gob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gregación de demanda para conseguir eficiencia en recursos financieros. Contratación conjunta de desarrollo de proye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7F6-5A59-4439-A81E-021EEDD080B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C21D5-4547-41D4-9F91-441EFD1DD5CD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sarrollo de la Democracia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763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tar medidas para facilitar a la ciudadanía información pertinente, la consideración de sus opiniones y sugerencias, e instancias de participación ciudadana y la transpa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arrollar páginas web informativas de fácil acceso y comprensivas, vinculando esta información a portales de búsqueda generales, tanto públicos como priv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retaría General de Gobierno velará por estándares de contenido de las páginas web de los diversos Servicios y Ministerios, asegurando el acceso a los ciudadanos a la información general y específica sobre la acción del Gobi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29CB-8271-43DC-BA3F-00878FCB6D8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2FB51-3136-4BC2-B510-61325153B70D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- Generales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guimiento y Coordinación del cumplimiento de las instrucciones en SEGPRES a cargo del PR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eneración de antecedentes de inversión y gasto anuales en NTICs, a cargo de la Dirección de Presupue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lan que señale cómo se aplicará Instructivo en los Servicios, a cargo de cada Jefe de Servicio. Agosto próxi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C230-7BB8-4E4B-976E-AE87653D829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1A085-ED06-4E44-9364-D8AC0DDB8177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0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Trámites en líne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Trám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Empres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Gobiernode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mpuestos Inter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Aduan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Tesorer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Registro Civ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Fona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hileComp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RN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BT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Vivie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Educ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Obras Públ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ción Vi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per Isap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pre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.Mov.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tem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5715000"/>
            <a:ext cx="792504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tranet del Estado ( Min. Interior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B0A5-8A42-4116-B873-B1F9226008B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03649-5717-455B-98E0-0121B50D0D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mentos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ara el Gobierno Electrónic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A575-2073-4F91-BCED-DC85E722508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C415B1D-30A0-4288-A6FC-AC6CF85CF16A}" type="datetime1">
              <a:rPr lang="en-US"/>
              <a:t>07/31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Legales y Administrativ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Firma Digital, presentado en Agosto 2000 y aprobado por unanimidad en la Cámara de Diput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Dirección de Compras Públicas, se firmó indicación sustitutiva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structivo Presidencial de Gobierno Electrónico, suscrito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81 – 1999 de la SEGPRES, que regula el uso de la firma digital en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1.312 – 1999, establece sistema de información compras y contrataciones públicas – </a:t>
            </a:r>
            <a:r>
              <a:rPr b="0" lang="es-CL" sz="2000" spc="-1" strike="noStrike" u="sng">
                <a:solidFill>
                  <a:srgbClr val="f98d43"/>
                </a:solidFill>
                <a:uFillTx/>
                <a:latin typeface="Arial"/>
                <a:hlinkClick r:id="rId6"/>
              </a:rPr>
              <a:t>www.chilecompras.c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.S. 54 –2001 que permite la suscripción de acuerdos mar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MG 2001, obligación de incorporación de parte los Servicios al Sistema de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2FC5-26E0-43D8-B091-CC0436D775C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EBF3A-C998-4552-BC25-33BC941E7E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Foment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ncesionamiento de Infraestructura Tecnológica: se ha evaluado técnica y jurídicamente la factibilidad de concesionar Ventanillas Unicas, bajo el marco de Concesionamiento del Ministerio de Obras Públ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trocinio a eventos de empresas tecnológicas privadas orientados a mostrar soluciones a Instituciones Públicas – Oracle, elvoucher.com, ACT, empatia, Metrodigital, separende.com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4A45-A244-4F41-9AF5-0260894CD10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0F13F-E9C0-4DA8-8C29-0F6E85D054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Portal del Trámite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(</a:t>
            </a:r>
            <a:r>
              <a:rPr b="0" lang="es-ES" sz="2000" spc="-1" strike="noStrike" u="sng">
                <a:solidFill>
                  <a:srgbClr val="f98d43"/>
                </a:solidFill>
                <a:uFillTx/>
                <a:latin typeface="Trebuchet MS"/>
                <a:ea typeface="Times New Roman"/>
                <a:hlinkClick r:id="rId2"/>
              </a:rPr>
              <a:t>www.tramitefacil.gob.cl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),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ont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iene la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formación sobre trámites de los Servicios Públicos, con sistemas de búsqueda orientados al usuario. Se inicia con 675 trámites.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cluye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los formularios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digitalizados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más utilizados en cada Servicio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. Además, considera c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onexión a las transacciones en línea que actualmente tienen los Servic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Ventanilla Única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Su objetivo es realizar en una transacción una colección de trámites en forma electrónica (llamado “requerimiento”), que involucra a más de una repartición pública y puede involucrar a organismos privados, a fin de atender requerimientos de los ciudadanos. Se han identificado y estudiado más de 40 requerimientos y se decidirá prontamente con cuáles comenz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Infraestructura de Acces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han habilitado alrededor de 200 Infocentros -públicos y privados- a lo largo del paí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B993-2BDE-4B5D-9C1C-6D71691BB9C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AD6A8-9E4F-4C1E-9DC7-678D0872B96D}" type="datetime1">
              <a:rPr lang="en-US"/>
              <a:t>07/31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Programa de Formación de los Recursos Humanos para el Gobierno Electrónic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Fortalecimiento de las Unidades de Gestión Electrónica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Intranet del Esta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Uso de las TI en IntraEstado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de Información para la Gestión Financiera (SIGFE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Nacional de Información Territorial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ChileCompr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stión Intern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A8BB-928D-4443-B27C-72D32DA3DCBA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F9746-02A4-41A3-A134-25B27743C25A}" type="datetime1">
              <a:rPr lang="en-US"/>
              <a:t>07/31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ales Gobiernodech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áginas web de los Servicios Públ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228600" y="578160"/>
            <a:ext cx="95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sarrollo de la Democraci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A9F2-F736-41EA-92D2-50F8282E4DE9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0DE6A-4CD2-4210-91F8-8F6EB059350B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7 Reforma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 Proyecto de Reforma y Modernización del Estado es parte del amplio proceso de cambios impulsado por el Presidente Lagos, que incluy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Tecno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Ciu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Fi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s Polí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l Traba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Sal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ación de las Reformas Judicial y Educ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2713-A501-474C-832A-BD23AE13F5B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B401B-EA6A-4D57-BA44-850544A95A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bjetivo de la Reforma del Estado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El proyecto de Reforma y Modernización del Estado tiene como objetivo generar durante el mandato del Presidente Lagos, un Estado de servicio a los ciudadanos, debiendo contar para ello con una estructura flexible y con una gestión eficiente, participativa y transparen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ios orienta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democrático y participativ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transparent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unitario descentralizad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solid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lexible para enfrentar requerimientos presentes y futur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uerte, eficiente y eficaz que asegure calidad de vida y desarroll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ustentabl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normativo y subsidi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F0AB-547F-4D7C-BCC5-B41E85C1D38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A6C8C-E627-4977-BEE9-9D1B8BDCF8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8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es del Proyecto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- Reformas Polític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.- Rediseño Institucional: áre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Polít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inisterios Coordinadores, Interior, Justi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Económ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Triministerio, regulación, fomento productivo, empresas públicas, institucionalidad agrícola, ciencia y tecnología, 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Infraestructu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OPTT y Biministerio Vivienda y Urbanismo y Bienes Nac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Soci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Institucionalidad Salud, Educación, Asuntos Sociales, Mujer y Cultu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.- Descentralización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pectos institucionales y planes regionales de moderniz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- Modernización de la Gestión Pública y Gobiern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Recursos Human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Nuevo Trato y Dirección Públ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alidad de servici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Programa de Trámites, Cartas de Derechos, OIRS, Prem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estión de los servici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Unidad de sistematización de experiencias del sector públ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obierno Electróni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Buen gobierno, atención a los usuarios y más democra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- Participación ciudadana y Transparencia en la 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s institucionales para la participación y Defensor del Ciudada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ítica de transparencia y prob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4EEB-3674-4133-B40A-095E13C5CFB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57D09-EF0E-46A0-8A85-57BF098A00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OBIERNO ELECTRONICO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finición 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o de las Tecnologías de Información y Comunicaciones para mejorar los servicios e información ofrecidos a los ciudadanos, aumentar la eficiencia y la eficacia de la gestión pública e incrementar sustantivamente la transparencia del sector público y la transparencia ciudadan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2AFC-667D-4656-B679-58586C170E7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5F355-7735-4746-98B1-5A6E436327DA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ISION ORIENTADOR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tención en cualquier oficina de un Servicio autorizado a brindarla. Independencia jurisdiccional y resid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manda de servicios sobre la base de necesidades en lugar de conocimiento de la estructura del Estado: mirada ciudada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olo se exigirá presentación de cédula de identidad y de antecedentes que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obren en poder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informarán al Estado sólo una vez que haya cambios relevantes de su situación de v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iudadanos son libres para acceder y consultar información de actos públicos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sistemas de información del Estado deberán estar relacionados entre sí y orientados a atender al ciudad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tienen derecho a conocer y modificar la información que de ellos posee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7697-80B7-4086-B69E-148F51608E1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C6DD2-1DAD-4275-B9A9-24CD8027C5CC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incipios Orientador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ransformad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icación sustantiva de los procedimientos act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 alcance de to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quién, dónde y cuán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ácil de us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s y senci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yor Benef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pecto a forma presen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guridad, Privacidad y Registr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l del Sector priva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oyados en el sector privados mediante procesos competi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oncentració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nistración, mantención y actualización de las TI a cargo de los Servicios e interoperabilidad entre e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Jurisdicción Electrón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ción de los Servicios para que las transacciones puedan ser efectuadas desde cualquier punto del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volutiv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un proceso: (1) Presencia; (2) Interacción; (3) Transacción y; (4) Trans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C0DE-CE71-4EA0-8839-F718CFB2F54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B9795-404F-474A-9AF0-039D0698DE6A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Ámbit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Atención al ciudada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uevas formas de relación Gobierno / ciudadano mediante el uso de TI, que permitan al Estado brindar sus servicios en forma más eficiente, eficaz y con independencia del lugar fís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unitario, descentralizado, solidario y flexibl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Buen Gobier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stablecimiento e introducción de nuevas formas y procesos internos en la Administración del Estado que permitan la integración de los sistemas de diferentes Servicios, compartir recursos y el mejoramiento de la gestión interna de los mism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flexible, transparente, unitario, descentraliz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Desarrollo de la Democraci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reación de mecanismos que, usando TI, permitan al ciudadano jugar un rol activo en el quehacer del país, permitiendo abrir nuevos espacios y formas de particip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más participativo, transparente y democrá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D439-8BA7-4F03-8F3C-E5002EB6A0E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81E17-BEE6-478A-8D21-C9891A83D5BF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so progresivo e interrelacionado de las N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mentar y promover acceso de los ciudad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tegración entre Servi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ientación hacia Ventanillas Unicas, preferentemente privadas y con estándares de calidad defini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quisitos al desarrollar Ventanillas Un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dentificación vía cédula de identidad o clave de acceso  basada en en el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utorizaciones electrónicas basadas en el nivel de seguridad que aspira o está obligado el ciudad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A83F-6A5D-4ECB-B427-BC730CC82F0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646CA-00D8-490D-899C-D7D01B1C4CE9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14:53:01Z</dcterms:created>
  <dc:creator>Felipe Goya</dc:creator>
  <dc:description/>
  <dc:language>en-US</dc:language>
  <cp:lastModifiedBy>MRiera</cp:lastModifiedBy>
  <cp:lastPrinted>2001-07-16T20:54:41Z</cp:lastPrinted>
  <dcterms:modified xsi:type="dcterms:W3CDTF">2001-07-24T20:30:32Z</dcterms:modified>
  <cp:revision>158</cp:revision>
  <dc:subject/>
  <dc:title>Proyecto de Reforma y Modernización del Estado</dc:title>
</cp:coreProperties>
</file>